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9.wmf" ContentType="image/x-wmf"/>
  <Override PartName="/ppt/media/image14.png" ContentType="image/png"/>
  <Override PartName="/ppt/media/image10.wmf" ContentType="image/x-wmf"/>
  <Override PartName="/ppt/media/image22.png" ContentType="image/png"/>
  <Override PartName="/ppt/media/image21.wmf" ContentType="image/x-wmf"/>
  <Override PartName="/ppt/media/image20.wmf" ContentType="image/x-wmf"/>
  <Override PartName="/ppt/media/image5.png" ContentType="image/png"/>
  <Override PartName="/ppt/media/image8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005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12760" y="0"/>
            <a:ext cx="28227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80560" y="774360"/>
            <a:ext cx="495324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5480" y="4721400"/>
            <a:ext cx="4878360" cy="448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005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12760" y="9441000"/>
            <a:ext cx="28227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7D457BD-64DC-41C6-B073-50444378D2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12760" y="9441000"/>
            <a:ext cx="28227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93C41A-EBCD-4C38-98FF-82AC0DCF16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9441000"/>
            <a:ext cx="29005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0"/>
            <a:ext cx="29005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12760" y="0"/>
            <a:ext cx="28227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61840" y="74772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3880" y="4714560"/>
            <a:ext cx="4881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12760" y="9441000"/>
            <a:ext cx="282276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613CCF-72AA-41E0-A005-17BEB874A37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9441000"/>
            <a:ext cx="29005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0"/>
            <a:ext cx="290052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12760" y="0"/>
            <a:ext cx="28227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61840" y="74772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93880" y="4714560"/>
            <a:ext cx="488160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268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3712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268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878640"/>
            <a:ext cx="271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15640" y="76320"/>
            <a:ext cx="6885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1120" y="38786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1120" y="1371240"/>
            <a:ext cx="41112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78640"/>
            <a:ext cx="8424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371240"/>
            <a:ext cx="8424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4114800" y="312912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menubar_inside3" descr="MenuBar"/>
          <p:cNvPicPr/>
          <p:nvPr/>
        </p:nvPicPr>
        <p:blipFill>
          <a:blip r:embed="rId3"/>
          <a:srcRect l="13368" t="2515" r="0" b="82927"/>
          <a:stretch/>
        </p:blipFill>
        <p:spPr>
          <a:xfrm>
            <a:off x="0" y="0"/>
            <a:ext cx="1066680" cy="700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685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66"/>
                </a:solidFill>
                <a:latin typeface="Verdana"/>
              </a:rPr>
              <a:t>Υπ.Ε.Π.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85080" y="0"/>
            <a:ext cx="12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Haettenschweiler"/>
              </a:rPr>
              <a:t>Sch.g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9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0066"/>
                </a:solidFill>
                <a:latin typeface="Verdana"/>
              </a:rPr>
              <a:t>Πανελλήνιο Σχολικό Δίκτυο</a:t>
            </a:r>
            <a:endParaRPr b="1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Verdana"/>
              </a:rPr>
              <a:t>Το δίκτυο στην υπηρεσία της Εκπαίδευ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08360" y="3084480"/>
            <a:ext cx="543564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Υποστήριξη Χρηστών (</a:t>
            </a: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elpDesk)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71520"/>
            <a:ext cx="8439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Υ</a:t>
            </a:r>
            <a:r>
              <a:rPr b="1" lang="en-GB" sz="2400" spc="-1" strike="noStrike">
                <a:solidFill>
                  <a:srgbClr val="000066"/>
                </a:solidFill>
                <a:latin typeface="Verdana"/>
              </a:rPr>
              <a:t>ποστ</a:t>
            </a: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ηρίζονται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μονάδες Β’θμιας Εκπ/σης (3.667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συνδεδεμένες μονάδες Α’θμιας Εκπ/σης (~1.500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Όλες οι συνδεδεμένες διοικητικές μονάδες (~800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μονωμένοι χρήστες (κυρίως επιμορφωτές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Τρόπος παροχής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Τηλεφωνικά </a:t>
            </a:r>
            <a:r>
              <a:rPr b="0" lang="el-GR" sz="2000" spc="-1" strike="noStrike">
                <a:solidFill>
                  <a:srgbClr val="ff0000"/>
                </a:solidFill>
                <a:latin typeface="Verdana"/>
              </a:rPr>
              <a:t>0801-11-801-81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AQs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τη διεύθυνση </a:t>
            </a:r>
            <a:r>
              <a:rPr b="1" lang="en-GB" sz="2000" spc="-1" strike="noStrike" u="sng">
                <a:solidFill>
                  <a:srgbClr val="000066"/>
                </a:solidFill>
                <a:uFillTx/>
                <a:latin typeface="Verdana"/>
              </a:rPr>
              <a:t>www.sch.gr/usesrsupport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 τ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εχνικ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ά</a:t>
            </a:r>
            <a:r>
              <a:rPr b="0" lang="en-GB" sz="2000" spc="-1" strike="noStrike">
                <a:solidFill>
                  <a:srgbClr val="000066"/>
                </a:solidFill>
                <a:latin typeface="Verdana"/>
              </a:rPr>
              <a:t> εγχειρ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ίδια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66"/>
                </a:solidFill>
                <a:latin typeface="Verdana"/>
              </a:rPr>
              <a:t>Ωράριο</a:t>
            </a:r>
            <a:r>
              <a:rPr b="0" lang="el-GR" sz="2400" spc="-1" strike="noStrike">
                <a:solidFill>
                  <a:srgbClr val="000066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9.00 – 19.00 τις εργάσιμες ημέρ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65000" t="4796" r="18335" b="6698"/>
          <a:stretch/>
        </p:blipFill>
        <p:spPr>
          <a:xfrm>
            <a:off x="7620120" y="4149720"/>
            <a:ext cx="15238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1000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1000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10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919080"/>
            <a:ext cx="6248520" cy="57866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ικτυακός Τόπο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 rot="19715400">
            <a:off x="2057400" y="3580920"/>
            <a:ext cx="51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www.sch.g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1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7632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Help-Desk 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μέσω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Web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1058760"/>
            <a:ext cx="7842240" cy="5646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9715400">
            <a:off x="-99720" y="3200040"/>
            <a:ext cx="909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36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user_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Χώροι Συζήτη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6250" t="783" r="10000" b="3743"/>
          <a:stretch/>
        </p:blipFill>
        <p:spPr>
          <a:xfrm>
            <a:off x="1547640" y="873000"/>
            <a:ext cx="6148440" cy="586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19715400">
            <a:off x="128880" y="3190680"/>
            <a:ext cx="909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44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foru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Έλεγχος Περιεχομένου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136000" cy="576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76320"/>
            <a:ext cx="6705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τατιστικά Χρήση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772400" cy="5367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 rot="19715400">
            <a:off x="52920" y="3190680"/>
            <a:ext cx="909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www.sch.gr</a:t>
            </a:r>
            <a:r>
              <a:rPr b="1" lang="el-GR" sz="4400" spc="-1" strike="noStrike">
                <a:solidFill>
                  <a:srgbClr val="ff0000"/>
                </a:solidFill>
                <a:latin typeface="Verdana"/>
              </a:rPr>
              <a:t>/</a:t>
            </a: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5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νεργαζόμενοι Φορείς ΠΣΔ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7240" y="1341360"/>
            <a:ext cx="9051840" cy="5327280"/>
            <a:chOff x="57240" y="1341360"/>
            <a:chExt cx="9051840" cy="53272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rcRect l="3494" t="0" r="7715" b="0"/>
            <a:stretch/>
          </p:blipFill>
          <p:spPr>
            <a:xfrm>
              <a:off x="57240" y="1341360"/>
              <a:ext cx="4802040" cy="53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rcRect l="0" t="0" r="15096" b="0"/>
            <a:stretch/>
          </p:blipFill>
          <p:spPr>
            <a:xfrm>
              <a:off x="4683240" y="1369800"/>
              <a:ext cx="4425840" cy="5223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Συμπεράσματα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από την υλοποίηση του ΠΣΔ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33720" y="1557360"/>
            <a:ext cx="6781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ίκτυο, ορθολογικά σχεδιασμένο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Με ελαχιστοποίηση των λειτουργικών δαπαν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λήρη εκμετάλλευση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τεχνογνωσίας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ξιοποίηση εθνικών υποδομ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ξιοποίηση και ενδυνάμωση ανθρώπινων δικτύ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αροχή μεγάλης γκάμας υπηρεσιών στους χρήστ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εριβάλλον διερεύνησης της χρήσης των νέων τεχνολογιών στην εκπαίδευση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ημιουργεί τις προϋποθέσεις για ανάπτυξη εκπαιδευτικού περιεχομένου</a:t>
            </a: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ροωθεί την παιδαγωγική καινοτομία &amp; αξιοποίηση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1949400" cy="34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1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1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128412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Υποστήριξη της μάθησης μέσα από δικτυακό περιβάλλο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νανέωση εκπαιδευτικών μεθόδ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υνεργασία ομάδων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,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 γεωγραφικά διασκορπισμένων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ρόσβαση σε ψηφιακές βιβλιοθήκες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νταλλαγή πληροφοριών και απόψεων (π.χ. ερωτήσεις-απαντήσεις από ειδικούς, ασκήσεις – λύσεις, κλπ)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υέλικτη αναζήτηση πιστοποιημένα χρήσιμων πληροφορι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ημιουργία &amp; διανομή παρουσιάσεων, σεμιναρίων &amp; διαλέξε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εξαγωγή θεματικών συζητήσε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01480" indent="-501480">
              <a:lnSpc>
                <a:spcPct val="90000"/>
              </a:lnSpc>
              <a:spcAft>
                <a:spcPts val="1001"/>
              </a:spcAft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Επικοινωνία με εκπαιδευτικά ιδρύματα του εξωτερικού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Εκπαιδευτικοί Στόχοι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5346720"/>
            <a:ext cx="86868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spcAft>
                <a:spcPts val="22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ff3300"/>
                </a:solidFill>
                <a:uFillTx/>
                <a:latin typeface="Verdana"/>
              </a:rPr>
              <a:t>Αποτέλεσμα</a:t>
            </a:r>
            <a:r>
              <a:rPr b="1" lang="el-GR" sz="2000" spc="-1" strike="noStrike">
                <a:solidFill>
                  <a:srgbClr val="ff3300"/>
                </a:solidFill>
                <a:latin typeface="Verdana"/>
              </a:rPr>
              <a:t>: </a:t>
            </a:r>
            <a:br>
              <a:rPr sz="2000"/>
            </a:br>
            <a:br>
              <a:rPr sz="600"/>
            </a:br>
            <a:r>
              <a:rPr b="1" lang="el-GR" sz="2000" spc="-1" strike="noStrike">
                <a:solidFill>
                  <a:srgbClr val="ff3300"/>
                </a:solidFill>
                <a:latin typeface="Verdana"/>
              </a:rPr>
              <a:t>ΔΙΚΤΥΟ = Περιβάλλον εφαρμογής, αξιολόγησης και χρήσης νέων εκπαιδευτικών μεθόδω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0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9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-7668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Δικτυακός Κορμός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403280" y="981000"/>
            <a:ext cx="6476040" cy="5714280"/>
            <a:chOff x="1403280" y="981000"/>
            <a:chExt cx="6476040" cy="5714280"/>
          </a:xfrm>
        </p:grpSpPr>
        <p:grpSp>
          <p:nvGrpSpPr>
            <p:cNvPr id="58" name=""/>
            <p:cNvGrpSpPr/>
            <p:nvPr/>
          </p:nvGrpSpPr>
          <p:grpSpPr>
            <a:xfrm>
              <a:off x="1403280" y="981000"/>
              <a:ext cx="6476040" cy="5714280"/>
              <a:chOff x="1403280" y="981000"/>
              <a:chExt cx="6476040" cy="571428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1403280" y="981000"/>
                <a:ext cx="6476040" cy="5714280"/>
                <a:chOff x="1403280" y="981000"/>
                <a:chExt cx="6476040" cy="571428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1403280" y="981000"/>
                  <a:ext cx="6476040" cy="5714280"/>
                </a:xfrm>
                <a:prstGeom prst="rect">
                  <a:avLst/>
                </a:pr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1" name="" descr=""/>
                <p:cNvPicPr/>
                <p:nvPr/>
              </p:nvPicPr>
              <p:blipFill>
                <a:blip r:embed="rId2"/>
                <a:srcRect l="37841" t="5709" r="-605" b="5256"/>
                <a:stretch/>
              </p:blipFill>
              <p:spPr>
                <a:xfrm>
                  <a:off x="1829160" y="981000"/>
                  <a:ext cx="5689800" cy="555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62" name="" descr=""/>
              <p:cNvPicPr/>
              <p:nvPr/>
            </p:nvPicPr>
            <p:blipFill>
              <a:blip r:embed="rId3"/>
              <a:srcRect l="0" t="86476" r="71888" b="0"/>
              <a:stretch/>
            </p:blipFill>
            <p:spPr>
              <a:xfrm>
                <a:off x="1658880" y="5678280"/>
                <a:ext cx="2727000" cy="905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3" name="" descr="Greek Research &amp; Technology Network"/>
            <p:cNvPicPr/>
            <p:nvPr/>
          </p:nvPicPr>
          <p:blipFill>
            <a:blip r:embed="rId4"/>
            <a:stretch/>
          </p:blipFill>
          <p:spPr>
            <a:xfrm>
              <a:off x="2089080" y="5752800"/>
              <a:ext cx="2209680" cy="409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700360" y="17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-7632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Τρόποι Σύνδεση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educhart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443640" cy="572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Σχολικ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ό</a:t>
            </a:r>
            <a:r>
              <a:rPr b="1" lang="en-GB" sz="3200" spc="-1" strike="noStrike">
                <a:solidFill>
                  <a:srgbClr val="000066"/>
                </a:solidFill>
                <a:latin typeface="Verdana"/>
              </a:rPr>
              <a:t> Εργαστ</a:t>
            </a: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ήριο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8" name="mnistires" descr=""/>
          <p:cNvPicPr/>
          <p:nvPr/>
        </p:nvPicPr>
        <p:blipFill>
          <a:blip r:embed="rId1"/>
          <a:stretch/>
        </p:blipFill>
        <p:spPr>
          <a:xfrm>
            <a:off x="228600" y="3409920"/>
            <a:ext cx="4191120" cy="3143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69" name=""/>
          <p:cNvGrpSpPr/>
          <p:nvPr/>
        </p:nvGrpSpPr>
        <p:grpSpPr>
          <a:xfrm>
            <a:off x="2362320" y="1143000"/>
            <a:ext cx="6705360" cy="3886200"/>
            <a:chOff x="2362320" y="1143000"/>
            <a:chExt cx="6705360" cy="3886200"/>
          </a:xfrm>
        </p:grpSpPr>
        <p:sp>
          <p:nvSpPr>
            <p:cNvPr id="70" name=""/>
            <p:cNvSpPr/>
            <p:nvPr/>
          </p:nvSpPr>
          <p:spPr>
            <a:xfrm>
              <a:off x="3587760" y="2462040"/>
              <a:ext cx="257040" cy="7336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2"/>
            <a:stretch/>
          </p:blipFill>
          <p:spPr>
            <a:xfrm>
              <a:off x="3844800" y="1876320"/>
              <a:ext cx="5222880" cy="31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70280" y="2828880"/>
              <a:ext cx="3753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6281640" y="3489480"/>
              <a:ext cx="594000" cy="61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4"/>
            <a:stretch/>
          </p:blipFill>
          <p:spPr>
            <a:xfrm>
              <a:off x="5392800" y="3343320"/>
              <a:ext cx="722160" cy="83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5"/>
            <a:stretch/>
          </p:blipFill>
          <p:spPr>
            <a:xfrm>
              <a:off x="8151840" y="3489480"/>
              <a:ext cx="593640" cy="61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780160" y="2828880"/>
              <a:ext cx="0" cy="514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53080" y="2828880"/>
              <a:ext cx="0" cy="660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423280" y="2828880"/>
              <a:ext cx="0" cy="660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70280" y="2828880"/>
              <a:ext cx="0" cy="881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2362320" y="1143000"/>
              <a:ext cx="2092320" cy="139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2556000" y="1538280"/>
              <a:ext cx="1803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600" spc="-1" strike="noStrike">
                  <a:solidFill>
                    <a:srgbClr val="000066"/>
                  </a:solidFill>
                  <a:latin typeface="Verdana"/>
                </a:rPr>
                <a:t>Νομαρχιακός Κόμβος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73680" y="2903400"/>
              <a:ext cx="452160" cy="8794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844800" y="2903400"/>
              <a:ext cx="128880" cy="2923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7"/>
            <a:stretch/>
          </p:blipFill>
          <p:spPr>
            <a:xfrm>
              <a:off x="4348080" y="3710160"/>
              <a:ext cx="601920" cy="36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638680" y="2133720"/>
              <a:ext cx="23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66"/>
                  </a:solidFill>
                  <a:latin typeface="Verdana"/>
                </a:rPr>
                <a:t>Σχολικό Εργαστήρι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62640" y="3855960"/>
              <a:ext cx="63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56320" y="3855960"/>
              <a:ext cx="63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48560" y="3855960"/>
              <a:ext cx="6516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32160" y="4002120"/>
              <a:ext cx="1095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CISCO 160x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70600" y="4222800"/>
              <a:ext cx="1288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Verdana"/>
                </a:rPr>
                <a:t>WINDOWS NT</a:t>
              </a:r>
              <a:r>
                <a:rPr b="1" lang="el-GR" sz="1000" spc="-1" strike="noStrike">
                  <a:solidFill>
                    <a:srgbClr val="000066"/>
                  </a:solidFill>
                  <a:latin typeface="Verdana"/>
                </a:rPr>
                <a:t>, 200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90840" y="2819520"/>
              <a:ext cx="116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400" spc="-1" strike="noStrike">
                  <a:solidFill>
                    <a:srgbClr val="000066"/>
                  </a:solidFill>
                  <a:latin typeface="Verdana"/>
                </a:rPr>
                <a:t>128 </a:t>
              </a:r>
              <a:r>
                <a:rPr b="1" lang="en-US" sz="1400" spc="-1" strike="noStrike">
                  <a:solidFill>
                    <a:srgbClr val="000066"/>
                  </a:solidFill>
                  <a:latin typeface="Verdana"/>
                </a:rPr>
                <a:t>kb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05720" y="4191120"/>
              <a:ext cx="19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Windows </a:t>
              </a:r>
              <a:r>
                <a:rPr b="1" lang="el-GR" sz="1200" spc="-1" strike="noStrike">
                  <a:solidFill>
                    <a:srgbClr val="000066"/>
                  </a:solidFill>
                  <a:latin typeface="Verdana"/>
                </a:rPr>
                <a:t>’98</a:t>
              </a:r>
              <a:r>
                <a:rPr b="1" lang="en-US" sz="1200" spc="-1" strike="noStrike">
                  <a:solidFill>
                    <a:srgbClr val="000066"/>
                  </a:solidFill>
                  <a:latin typeface="Verdana"/>
                </a:rPr>
                <a:t>, 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Δικτύωση σχολικών μονάδων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9280" y="1066680"/>
          <a:ext cx="8683560" cy="56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066680"/>
                    <a:ext cx="868356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Συνδεδεμένες σχολικές μονάδε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6560" y="1066680"/>
          <a:ext cx="8210880" cy="5410440"/>
        </p:xfrm>
        <a:graphic>
          <a:graphicData uri="http://schemas.openxmlformats.org/drawingml/2006/table">
            <a:tbl>
              <a:tblPr/>
              <a:tblGrid>
                <a:gridCol w="2434680"/>
                <a:gridCol w="2158200"/>
                <a:gridCol w="1669320"/>
                <a:gridCol w="1948680"/>
              </a:tblGrid>
              <a:tr h="162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Βαθμίδα Εκπαίδευ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Σύνολο Δικτυωμένων Μονά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Σύνολο Μονά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Ποσοστό Δικτύω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Πρωτοβάθμια </a:t>
                      </a:r>
                      <a:br>
                        <a:rPr sz="1800"/>
                      </a:b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(Νηπιαγωγεί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.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0,6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Πρωτοβάθμι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(Δημοτικά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1.</a:t>
                      </a: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,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72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Δευτεροβάθμι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3.66</a:t>
                      </a: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100</a:t>
                      </a: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45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Αρχική Επαγγελματική Κατάρτιση (ΙΕ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000066"/>
                          </a:solidFill>
                          <a:latin typeface="Verdana"/>
                          <a:ea typeface="Times New Roman"/>
                        </a:rPr>
                        <a:t>100,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66"/>
                </a:solidFill>
                <a:latin typeface="Verdana"/>
              </a:rPr>
              <a:t>Συνδεδεμένες διοικητικές μονάδες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24000" y="1371600"/>
          <a:ext cx="8280360" cy="4800600"/>
        </p:xfrm>
        <a:graphic>
          <a:graphicData uri="http://schemas.openxmlformats.org/drawingml/2006/table">
            <a:tbl>
              <a:tblPr/>
              <a:tblGrid>
                <a:gridCol w="6019560"/>
                <a:gridCol w="2260800"/>
              </a:tblGrid>
              <a:tr h="1289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Βαθμίδα Εκπαίδευση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Σύνολο Δικτυωμένων Μονάδω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Διευθύνσεις &amp; Γραφεία Πρωτοβάθμιας Εκπαίδευσ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Arial Unicode MS"/>
                        </a:rPr>
                        <a:t>1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Διευθύνσεις &amp; Γραφεία Δευτεροβάθμιας Εκπαίδευση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Arial Unicode MS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Σχολικές Βιβλιοθήκε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  <a:ea typeface="Arial Unicode MS"/>
                        </a:rPr>
                        <a:t>2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Γραφεία ΣΕ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Times New Roman"/>
                          <a:ea typeface="Arial Unicode MS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Επαγγελματική Κατάρτιση (ΚΥ ΟΕΕ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  <a:ea typeface="Arial Unicode MS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</a:rPr>
                        <a:t>ΣΥΝΟΛ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600" spc="-1" strike="noStrike">
                          <a:solidFill>
                            <a:srgbClr val="000066"/>
                          </a:solidFill>
                          <a:latin typeface="Verdana"/>
                          <a:ea typeface="Arial Unicode MS"/>
                        </a:rPr>
                        <a:t>7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76320"/>
            <a:ext cx="688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66"/>
                </a:solidFill>
                <a:latin typeface="Verdana"/>
              </a:rPr>
              <a:t>Υπηρεσίες σε λειτουργία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30400" y="1267920"/>
            <a:ext cx="6934320" cy="52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Σύνδεση στο δίκτυο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nectivity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Έλεγχος περιεχομένου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ontent Filtering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Ηλεκτρονικό Ταχυδρομείο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e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mail, web-mail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ροσωπικό Ημερολόγιο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Calendar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Προσωπικό Βιβλίο Διευθύνσεων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Address Book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Κατάλογος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irectory Server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Αυτόματη Δημιουργία Ιστοσελίδω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Χώροι Συζητήσεων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Forums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Υποστήριξη Χρηστών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Help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-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sk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r>
              <a:rPr b="0" lang="el-GR" sz="20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(08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l-GR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κτυακός Τόπος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ww.sch.gr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αχείριση Χρηστών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Υπηρεσία Στατιστικών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ww.sch.gr/statistics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Ονοματολογία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NS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533520" indent="-533520" algn="just">
              <a:spcBef>
                <a:spcPts val="499"/>
              </a:spcBef>
              <a:buClr>
                <a:srgbClr val="0000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Διακομιστής Μεσολάβησης (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</a:t>
            </a:r>
            <a:r>
              <a:rPr b="0" lang="el-GR" sz="2000" spc="-1" strike="noStrike">
                <a:solidFill>
                  <a:srgbClr val="000066"/>
                </a:solidFill>
                <a:latin typeface="Verdana"/>
              </a:rPr>
              <a:t>roxy)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17780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7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3T08:46:43Z</dcterms:created>
  <dc:creator>Michael Paraskevas</dc:creator>
  <dc:description/>
  <dc:language>en-US</dc:language>
  <cp:lastModifiedBy>Michael Paraskevas</cp:lastModifiedBy>
  <dcterms:modified xsi:type="dcterms:W3CDTF">2002-06-26T13:05:22Z</dcterms:modified>
  <cp:revision>223</cp:revision>
  <dc:subject/>
  <dc:title>PowerPoint Presentation</dc:title>
</cp:coreProperties>
</file>