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3.jpeg" ContentType="image/jpeg"/>
  <Override PartName="/ppt/media/image27.wmf" ContentType="image/x-wmf"/>
  <Override PartName="/ppt/media/image24.wmf" ContentType="image/x-wmf"/>
  <Override PartName="/ppt/media/image23.png" ContentType="image/png"/>
  <Override PartName="/ppt/media/image22.jpeg" ContentType="image/jpeg"/>
  <Override PartName="/ppt/media/image42.wmf" ContentType="image/x-wmf"/>
  <Override PartName="/ppt/media/image21.jpeg" ContentType="image/jpeg"/>
  <Override PartName="/ppt/media/image32.wmf" ContentType="image/x-wmf"/>
  <Override PartName="/ppt/media/image20.png" ContentType="image/png"/>
  <Override PartName="/ppt/media/image19.png" ContentType="image/png"/>
  <Override PartName="/ppt/media/image18.jpeg" ContentType="image/jpeg"/>
  <Override PartName="/ppt/media/image17.wmf" ContentType="image/x-wmf"/>
  <Override PartName="/ppt/media/image16.wmf" ContentType="image/x-wmf"/>
  <Override PartName="/ppt/media/image26.wmf" ContentType="image/x-wmf"/>
  <Override PartName="/ppt/media/image15.jpeg" ContentType="image/jpeg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13.png" ContentType="image/png"/>
  <Override PartName="/ppt/media/image45.wmf" ContentType="image/x-wmf"/>
  <Override PartName="/ppt/media/image38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4.wmf" ContentType="image/x-wmf"/>
  <Override PartName="/ppt/media/image46.wmf" ContentType="image/x-wmf"/>
  <Override PartName="/ppt/media/image35.wmf" ContentType="image/x-wmf"/>
  <Override PartName="/ppt/media/image47.wmf" ContentType="image/x-wmf"/>
  <Override PartName="/ppt/media/image12.wmf" ContentType="image/x-wmf"/>
  <Override PartName="/ppt/media/image30.wmf" ContentType="image/x-wmf"/>
  <Override PartName="/ppt/media/image11.jpeg" ContentType="image/jpeg"/>
  <Override PartName="/ppt/media/image48.png" ContentType="image/png"/>
  <Override PartName="/ppt/media/image9.jpeg" ContentType="image/jpeg"/>
  <Override PartName="/ppt/media/image37.wmf" ContentType="image/x-wmf"/>
  <Override PartName="/ppt/media/image7.wmf" ContentType="image/x-wmf"/>
  <Override PartName="/ppt/media/image6.png" ContentType="image/png"/>
  <Override PartName="/ppt/media/image5.jpeg" ContentType="image/jpeg"/>
  <Override PartName="/ppt/media/image14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9000"/>
            <a:ext cx="294804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9000"/>
            <a:ext cx="294768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2"/>
          </p:nvPr>
        </p:nvSpPr>
        <p:spPr>
          <a:xfrm>
            <a:off x="-360" y="9448920"/>
            <a:ext cx="29480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3"/>
          </p:nvPr>
        </p:nvSpPr>
        <p:spPr>
          <a:xfrm>
            <a:off x="3849840" y="9448920"/>
            <a:ext cx="294768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87AF86F-A780-4AAF-88AB-145406A63DC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984240" y="4730760"/>
            <a:ext cx="4829040" cy="448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Img"/>
          </p:nvPr>
        </p:nvSpPr>
        <p:spPr>
          <a:xfrm>
            <a:off x="885600" y="865080"/>
            <a:ext cx="502596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849840" y="9448920"/>
            <a:ext cx="294768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13B1BAB-B3BD-4476-8C17-20A5C504098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9448920"/>
            <a:ext cx="29480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9000"/>
            <a:ext cx="294804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849840" y="9000"/>
            <a:ext cx="294768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722160" y="749160"/>
            <a:ext cx="5361120" cy="37116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1160" y="471456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849840" y="9448920"/>
            <a:ext cx="294768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5D0A9E8-A125-4F02-9014-1C15F6C8D99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9448920"/>
            <a:ext cx="29480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9000"/>
            <a:ext cx="294804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49840" y="9000"/>
            <a:ext cx="294768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722160" y="749160"/>
            <a:ext cx="5361120" cy="37116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1160" y="471456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849840" y="9448920"/>
            <a:ext cx="294768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357BD88-F6EA-4810-9EBE-DCA66D28E27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9448920"/>
            <a:ext cx="29480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9000"/>
            <a:ext cx="294804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849840" y="9000"/>
            <a:ext cx="294768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1160" y="471456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8856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0160" y="3929400"/>
            <a:ext cx="8856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9832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160" y="392940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98320" y="392940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54640" y="148428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49120" y="148428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60160" y="392940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54640" y="392940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49120" y="392940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60160" y="1484280"/>
            <a:ext cx="885636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8856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4321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8320" y="1484280"/>
            <a:ext cx="4321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10960" y="228600"/>
            <a:ext cx="9063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8320" y="1484280"/>
            <a:ext cx="4321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0160" y="392940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60160" y="1484280"/>
            <a:ext cx="885636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4321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832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98320" y="392940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9832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0160" y="3929400"/>
            <a:ext cx="8856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8856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0160" y="3929400"/>
            <a:ext cx="8856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9832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0160" y="392940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98320" y="392940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4640" y="148428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49120" y="148428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60160" y="392940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4640" y="392940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49120" y="392940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8856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4321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8320" y="1484280"/>
            <a:ext cx="4321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10960" y="228600"/>
            <a:ext cx="9063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320" y="1484280"/>
            <a:ext cx="4321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0160" y="392940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4321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832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98320" y="392940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9832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0160" y="3929400"/>
            <a:ext cx="8856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71280"/>
            <a:ext cx="9705600" cy="6381720"/>
            <a:chOff x="0" y="71280"/>
            <a:chExt cx="9705600" cy="6381720"/>
          </a:xfrm>
        </p:grpSpPr>
        <p:sp>
          <p:nvSpPr>
            <p:cNvPr id="1" name=""/>
            <p:cNvSpPr/>
            <p:nvPr/>
          </p:nvSpPr>
          <p:spPr>
            <a:xfrm>
              <a:off x="425520" y="470160"/>
              <a:ext cx="9280080" cy="5982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71280"/>
              <a:ext cx="9535680" cy="12762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88000"/>
              <a:ext cx="902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60160" y="1484280"/>
            <a:ext cx="8856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71280"/>
            <a:ext cx="9705600" cy="6381720"/>
            <a:chOff x="0" y="71280"/>
            <a:chExt cx="9705600" cy="6381720"/>
          </a:xfrm>
        </p:grpSpPr>
        <p:sp>
          <p:nvSpPr>
            <p:cNvPr id="7" name=""/>
            <p:cNvSpPr/>
            <p:nvPr/>
          </p:nvSpPr>
          <p:spPr>
            <a:xfrm>
              <a:off x="425520" y="470160"/>
              <a:ext cx="9280080" cy="5982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71280"/>
              <a:ext cx="9535680" cy="12762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188000"/>
              <a:ext cx="902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7240" y="647712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www.sch.g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epeaek.jpg (1235 bytes)"/>
          <p:cNvPicPr/>
          <p:nvPr/>
        </p:nvPicPr>
        <p:blipFill>
          <a:blip r:embed="rId2"/>
          <a:stretch/>
        </p:blipFill>
        <p:spPr>
          <a:xfrm>
            <a:off x="9201240" y="6453360"/>
            <a:ext cx="650880" cy="35388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3008160" y="6524640"/>
            <a:ext cx="6121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Verdana"/>
              </a:rPr>
              <a:t>Funded by the Ministry of Education and the European Union 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43040" y="1795320"/>
            <a:ext cx="8007120" cy="40816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7680" y="404640"/>
            <a:ext cx="7759800" cy="1206720"/>
          </a:xfrm>
          <a:prstGeom prst="rect">
            <a:avLst/>
          </a:prstGeom>
          <a:solidFill>
            <a:srgbClr val="ffffff"/>
          </a:solidFill>
          <a:ln w="5724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61920"/>
            <a:ext cx="9740880" cy="2225880"/>
          </a:xfrm>
          <a:prstGeom prst="pie">
            <a:avLst/>
          </a:prstGeom>
          <a:solidFill>
            <a:srgbClr val="66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02040"/>
            <a:ext cx="89978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1196640"/>
            <a:ext cx="875016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849240" y="58320"/>
            <a:ext cx="5616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Verdana"/>
              </a:rPr>
              <a:t>Ministry of Education and Religious Affairs – www.ypepth.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76160" cy="7761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2.wmf"/><Relationship Id="rId6" Type="http://schemas.openxmlformats.org/officeDocument/2006/relationships/image" Target="../media/image17.wmf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2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3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4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5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6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7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8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39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40.wmf"/><Relationship Id="rId2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9800" y="2420640"/>
            <a:ext cx="388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www.sch.gr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71280" y="1353960"/>
            <a:ext cx="9705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ducational Information Society in Greece: The Greek School Network (GS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40160" y="3933720"/>
            <a:ext cx="4591080" cy="2924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92160" y="3652200"/>
            <a:ext cx="432288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Christos Bou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Associate Professor, University of Pat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Computer Technology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Dr. Michael Paraskeva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Computer Technology Institut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Technical Manager of GS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ducational Goal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00160" y="1557000"/>
            <a:ext cx="734544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Aft>
                <a:spcPts val="1001"/>
              </a:spcAft>
              <a:buClr>
                <a:srgbClr val="00006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evelop a networked environment which supports the educational proces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spcAft>
                <a:spcPts val="1001"/>
              </a:spcAft>
              <a:buClr>
                <a:srgbClr val="00006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Promote the collaboration between geographically distributed group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spcAft>
                <a:spcPts val="1001"/>
              </a:spcAft>
              <a:buClr>
                <a:srgbClr val="00006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Offer access to digital libraries and conten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spcAft>
                <a:spcPts val="1001"/>
              </a:spcAft>
              <a:buClr>
                <a:srgbClr val="00006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Offer flexible search in a certified conten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spcAft>
                <a:spcPts val="1001"/>
              </a:spcAft>
              <a:buClr>
                <a:srgbClr val="00006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upport creation and distribution of presentations, seminars and lectures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spcAft>
                <a:spcPts val="1001"/>
              </a:spcAft>
              <a:buClr>
                <a:srgbClr val="00006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Offer communication with academic institutio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spcAft>
                <a:spcPts val="1001"/>
              </a:spcAft>
              <a:buClr>
                <a:srgbClr val="00006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Offer communication with international educational institutions, etc.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18335" t="0" r="65000" b="0"/>
          <a:stretch/>
        </p:blipFill>
        <p:spPr>
          <a:xfrm>
            <a:off x="527040" y="2421000"/>
            <a:ext cx="140328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2880" y="1890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etwork Architectur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20880" y="2349360"/>
            <a:ext cx="8640720" cy="3887640"/>
            <a:chOff x="920880" y="2349360"/>
            <a:chExt cx="8640720" cy="3887640"/>
          </a:xfrm>
        </p:grpSpPr>
        <p:sp>
          <p:nvSpPr>
            <p:cNvPr id="159" name=""/>
            <p:cNvSpPr/>
            <p:nvPr/>
          </p:nvSpPr>
          <p:spPr>
            <a:xfrm>
              <a:off x="6175080" y="5081760"/>
              <a:ext cx="1674000" cy="25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321520" y="3813840"/>
              <a:ext cx="0" cy="5140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097680" y="4244040"/>
              <a:ext cx="774720" cy="431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801120" y="3728160"/>
              <a:ext cx="704880" cy="345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920880" y="3212640"/>
              <a:ext cx="2744640" cy="180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030320" y="3854880"/>
              <a:ext cx="2524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0000"/>
                  </a:solidFill>
                  <a:latin typeface="Verdana"/>
                </a:rPr>
                <a:t>Backbone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Verdana"/>
                </a:rPr>
                <a:t>WWW.GRNET.G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3986280" y="4244040"/>
              <a:ext cx="2282760" cy="163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213440" y="4779000"/>
              <a:ext cx="197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Verdana"/>
                </a:rPr>
                <a:t>Prefectural 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3"/>
            <a:stretch/>
          </p:blipFill>
          <p:spPr>
            <a:xfrm>
              <a:off x="4195800" y="2349360"/>
              <a:ext cx="2649600" cy="163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461120" y="2893320"/>
              <a:ext cx="216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Verdana"/>
                </a:rPr>
                <a:t>Administration Off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6801120" y="4073760"/>
              <a:ext cx="71280" cy="169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6207120" y="5236200"/>
              <a:ext cx="1674720" cy="248040"/>
              <a:chOff x="6207120" y="5236200"/>
              <a:chExt cx="1674720" cy="248040"/>
            </a:xfrm>
          </p:grpSpPr>
          <p:sp>
            <p:nvSpPr>
              <p:cNvPr id="171" name=""/>
              <p:cNvSpPr/>
              <p:nvPr/>
            </p:nvSpPr>
            <p:spPr>
              <a:xfrm>
                <a:off x="6207120" y="5236200"/>
                <a:ext cx="881280" cy="20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068240" y="5443200"/>
                <a:ext cx="813600" cy="410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7067880" y="5257080"/>
                <a:ext cx="19800" cy="186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564000" y="4501080"/>
              <a:ext cx="701640" cy="1742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7339320" y="2820240"/>
              <a:ext cx="1800000" cy="137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5"/>
            <a:stretch/>
          </p:blipFill>
          <p:spPr>
            <a:xfrm>
              <a:off x="7586640" y="4578840"/>
              <a:ext cx="1798920" cy="137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6"/>
            <a:stretch/>
          </p:blipFill>
          <p:spPr>
            <a:xfrm>
              <a:off x="7669440" y="4860000"/>
              <a:ext cx="1800000" cy="137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637760" y="5223240"/>
              <a:ext cx="1923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Verdana"/>
                </a:rPr>
                <a:t>School Labora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85720" y="4999680"/>
              <a:ext cx="1114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080" bIns="46080" anchor="b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-100 M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95880" y="3949200"/>
              <a:ext cx="986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b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 M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10600" y="3215520"/>
              <a:ext cx="16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Dial-up </a:t>
              </a:r>
              <a:r>
                <a:rPr b="1" lang="el-GR" sz="1600" spc="-1" strike="noStrike">
                  <a:solidFill>
                    <a:srgbClr val="000000"/>
                  </a:solidFill>
                  <a:latin typeface="Verdana"/>
                </a:rPr>
                <a:t>Sch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27840" y="4133160"/>
              <a:ext cx="172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b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33-128 K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86600" y="5596560"/>
              <a:ext cx="1730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b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64-128 K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70840" y="4758480"/>
              <a:ext cx="1728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b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0,128-12 M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704880" y="1399320"/>
            <a:ext cx="83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hree level hierarch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Distribution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Access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9800" y="-360"/>
            <a:ext cx="88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ackbone &amp; Distribution Network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633240" y="2106720"/>
            <a:ext cx="424836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66"/>
                </a:solidFill>
                <a:uFillTx/>
                <a:latin typeface="Verdana"/>
              </a:rPr>
              <a:t>Backbone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the </a:t>
            </a: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Greek Research and Technology Network - GRNET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www.grnet.g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66"/>
                </a:solidFill>
                <a:uFillTx/>
                <a:latin typeface="Verdana"/>
              </a:rPr>
              <a:t>Distribution network 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consists of 51 nodes (one in each prefectur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236520">
              <a:lnSpc>
                <a:spcPct val="100000"/>
              </a:lnSpc>
              <a:spcBef>
                <a:spcPts val="67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9 main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236520">
              <a:lnSpc>
                <a:spcPct val="100000"/>
              </a:lnSpc>
              <a:spcBef>
                <a:spcPts val="67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42 secondary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Equipped with 75 routers, 7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1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ervers, a large number of telecommunication circuits and the appropriate softw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153040" y="1676520"/>
            <a:ext cx="4263120" cy="4704840"/>
            <a:chOff x="5153040" y="1676520"/>
            <a:chExt cx="4263120" cy="4704840"/>
          </a:xfrm>
        </p:grpSpPr>
        <p:grpSp>
          <p:nvGrpSpPr>
            <p:cNvPr id="189" name=""/>
            <p:cNvGrpSpPr/>
            <p:nvPr/>
          </p:nvGrpSpPr>
          <p:grpSpPr>
            <a:xfrm>
              <a:off x="5153040" y="1676520"/>
              <a:ext cx="4263120" cy="4167720"/>
              <a:chOff x="5153040" y="1676520"/>
              <a:chExt cx="4263120" cy="416772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5153040" y="1676520"/>
                <a:ext cx="4263120" cy="4167720"/>
                <a:chOff x="5153040" y="1676520"/>
                <a:chExt cx="4263120" cy="416772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5153040" y="1676520"/>
                  <a:ext cx="4263120" cy="4167720"/>
                  <a:chOff x="5153040" y="1676520"/>
                  <a:chExt cx="4263120" cy="416772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5153040" y="1676520"/>
                    <a:ext cx="4263120" cy="416772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rcRect l="37797" t="5709" r="-576" b="5315"/>
                  <a:stretch/>
                </p:blipFill>
                <p:spPr>
                  <a:xfrm>
                    <a:off x="5430960" y="1676520"/>
                    <a:ext cx="374544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94" name="" descr=""/>
                <p:cNvPicPr/>
                <p:nvPr/>
              </p:nvPicPr>
              <p:blipFill>
                <a:blip r:embed="rId3"/>
                <a:srcRect l="0" t="86476" r="71888" b="0"/>
                <a:stretch/>
              </p:blipFill>
              <p:spPr>
                <a:xfrm>
                  <a:off x="5321160" y="5101920"/>
                  <a:ext cx="1794960" cy="659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5" name=""/>
              <p:cNvSpPr/>
              <p:nvPr/>
            </p:nvSpPr>
            <p:spPr>
              <a:xfrm>
                <a:off x="5524920" y="5172480"/>
                <a:ext cx="1494720" cy="305640"/>
              </a:xfrm>
              <a:prstGeom prst="rect">
                <a:avLst/>
              </a:prstGeom>
              <a:solidFill>
                <a:srgbClr val="e4e2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080" bIns="46080" anchor="b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Verdana"/>
                  </a:rPr>
                  <a:t> </a:t>
                </a:r>
                <a:r>
                  <a:rPr b="0" lang="en-US" sz="1400" spc="-1" strike="noStrike">
                    <a:solidFill>
                      <a:srgbClr val="000066"/>
                    </a:solidFill>
                    <a:latin typeface="Verdana"/>
                  </a:rPr>
                  <a:t>GRn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524920" y="5527080"/>
                <a:ext cx="1494720" cy="244800"/>
              </a:xfrm>
              <a:prstGeom prst="rect">
                <a:avLst/>
              </a:prstGeom>
              <a:solidFill>
                <a:srgbClr val="ffe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080" bIns="4608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Verdana"/>
                  </a:rPr>
                  <a:t>Distribution 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5901120" y="5923080"/>
              <a:ext cx="298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Verdana"/>
                </a:rPr>
                <a:t>www.sch.g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925720" y="1766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2880" y="0"/>
            <a:ext cx="70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ccess Net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31800" y="1628640"/>
            <a:ext cx="5184720" cy="4308480"/>
            <a:chOff x="631800" y="1628640"/>
            <a:chExt cx="5184720" cy="430848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631800" y="1628640"/>
              <a:ext cx="5184720" cy="430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3055680" y="1882800"/>
              <a:ext cx="1020960" cy="39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b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Verdana"/>
                </a:rPr>
                <a:t>School Laborato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18720" y="2961000"/>
              <a:ext cx="476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66"/>
                  </a:solidFill>
                  <a:latin typeface="Verdana"/>
                </a:rPr>
                <a:t>Wireless Li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64760" y="2988360"/>
              <a:ext cx="47772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66"/>
                  </a:solidFill>
                  <a:latin typeface="Verdana"/>
                </a:rPr>
                <a:t>Satellite Li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57280" y="5045040"/>
              <a:ext cx="544680" cy="229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b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Verdana"/>
                </a:rPr>
                <a:t>Rou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35360" y="5619600"/>
              <a:ext cx="612720" cy="138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66"/>
                  </a:solidFill>
                  <a:latin typeface="Verdana"/>
                </a:rPr>
                <a:t>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74600" y="5605920"/>
              <a:ext cx="681120" cy="1389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66"/>
                  </a:solidFill>
                  <a:latin typeface="Verdana"/>
                </a:rPr>
                <a:t>Switch / Hu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07000" y="5605920"/>
              <a:ext cx="1157400" cy="1389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Verdana"/>
                </a:rPr>
                <a:t>Point of Prese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4040" y="3478680"/>
              <a:ext cx="543240" cy="278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Verdana"/>
                </a:rPr>
                <a:t>Point of Prese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74040" y="4438800"/>
              <a:ext cx="543240" cy="2764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Verdana"/>
                </a:rPr>
                <a:t>G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961240" y="1612440"/>
            <a:ext cx="3455640" cy="38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Connects each school or administrative unit or isle of schools to regional node, v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ISDN (64-128 k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Leased lines (0,128–2M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PSTN dialup (56 k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Wireless Links (2-10 M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VDSL (10-15 M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ADSL (pilo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chool Laboratory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152880" y="1557360"/>
            <a:ext cx="6336720" cy="3382560"/>
            <a:chOff x="3152880" y="1557360"/>
            <a:chExt cx="6336720" cy="3382560"/>
          </a:xfrm>
        </p:grpSpPr>
        <p:sp>
          <p:nvSpPr>
            <p:cNvPr id="214" name=""/>
            <p:cNvSpPr/>
            <p:nvPr/>
          </p:nvSpPr>
          <p:spPr>
            <a:xfrm>
              <a:off x="4311000" y="2705400"/>
              <a:ext cx="242640" cy="638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4553640" y="2195640"/>
              <a:ext cx="4935960" cy="27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33760" y="3024720"/>
              <a:ext cx="3546720" cy="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6856920" y="3599640"/>
              <a:ext cx="56124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6016680" y="3472560"/>
              <a:ext cx="682200" cy="7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8624160" y="3599640"/>
              <a:ext cx="560880" cy="5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382800" y="3024720"/>
              <a:ext cx="0" cy="44748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13240" y="3024720"/>
              <a:ext cx="0" cy="57492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80840" y="3024720"/>
              <a:ext cx="0" cy="57492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3760" y="3024720"/>
              <a:ext cx="0" cy="76716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5"/>
            <a:stretch/>
          </p:blipFill>
          <p:spPr>
            <a:xfrm>
              <a:off x="3152880" y="1557360"/>
              <a:ext cx="197712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335760" y="1901160"/>
              <a:ext cx="170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Verdana"/>
                </a:rPr>
                <a:t>PREFECTURAL 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75680" y="3089520"/>
              <a:ext cx="427320" cy="765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553640" y="3089520"/>
              <a:ext cx="121680" cy="254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8" name="" descr=""/>
            <p:cNvPicPr/>
            <p:nvPr/>
          </p:nvPicPr>
          <p:blipFill>
            <a:blip r:embed="rId6"/>
            <a:stretch/>
          </p:blipFill>
          <p:spPr>
            <a:xfrm>
              <a:off x="5029560" y="3791880"/>
              <a:ext cx="5688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249240" y="2421000"/>
              <a:ext cx="219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Verdana"/>
                </a:rPr>
                <a:t>SCHOOL LABORA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83920" y="3918960"/>
              <a:ext cx="601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66800" y="3918960"/>
              <a:ext cx="601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48600" y="3918960"/>
              <a:ext cx="615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9760" y="4046040"/>
              <a:ext cx="103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Verdana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12120" y="4238280"/>
              <a:ext cx="12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Verdana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74200" y="3017880"/>
              <a:ext cx="109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Verdana"/>
                </a:rPr>
                <a:t>0,</a:t>
              </a:r>
              <a:r>
                <a:rPr b="1" lang="el-GR" sz="1200" spc="-1" strike="noStrike">
                  <a:solidFill>
                    <a:srgbClr val="000066"/>
                  </a:solidFill>
                  <a:latin typeface="Verdana"/>
                </a:rPr>
                <a:t>128</a:t>
              </a:r>
              <a:r>
                <a:rPr b="1" lang="en-US" sz="1200" spc="-1" strike="noStrike">
                  <a:solidFill>
                    <a:srgbClr val="000066"/>
                  </a:solidFill>
                  <a:latin typeface="Verdana"/>
                </a:rPr>
                <a:t> - 2</a:t>
              </a:r>
              <a:r>
                <a:rPr b="1" lang="el-GR" sz="12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1" lang="en-US" sz="1200" spc="-1" strike="noStrike">
                  <a:solidFill>
                    <a:srgbClr val="000066"/>
                  </a:solidFill>
                  <a:latin typeface="Verdana"/>
                </a:rPr>
                <a:t>Mb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57600" y="4210560"/>
              <a:ext cx="187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Verdana"/>
                </a:rPr>
                <a:t>Workstations</a:t>
              </a:r>
              <a:r>
                <a:rPr b="1" lang="en-US" sz="1200" spc="-1" strike="noStrike">
                  <a:solidFill>
                    <a:srgbClr val="000066"/>
                  </a:solidFill>
                  <a:latin typeface="Verdana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776160" y="3666960"/>
            <a:ext cx="3600720" cy="2498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etwork user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4880" y="1771200"/>
            <a:ext cx="712764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The certification of users is a strong requirement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Categories: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School unit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Administrative units 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Teachers 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Students 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Administrative personne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88880" y="3068640"/>
            <a:ext cx="172728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720520" y="1558440"/>
            <a:ext cx="65502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66"/>
                </a:solidFill>
                <a:uFillTx/>
                <a:latin typeface="Verdana"/>
              </a:rPr>
              <a:t>Basic Services:</a:t>
            </a:r>
            <a:endParaRPr b="0" lang="en-US" sz="26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88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Addressing scheme and routing plan</a:t>
            </a:r>
            <a:endParaRPr b="0" lang="en-US" sz="21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88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Domain Name Service</a:t>
            </a:r>
            <a:endParaRPr b="0" lang="en-US" sz="21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88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Connectivity to the network / Dial-up service</a:t>
            </a:r>
            <a:endParaRPr b="0" lang="en-US" sz="21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88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E-mail (POP3, IMAP, web-mail)</a:t>
            </a:r>
            <a:endParaRPr b="0" lang="en-US" sz="21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88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Proxy / Cache</a:t>
            </a:r>
            <a:endParaRPr b="0" lang="en-US" sz="21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88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World Wide Web</a:t>
            </a:r>
            <a:endParaRPr b="0" lang="en-US" sz="21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88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Web - Filtering</a:t>
            </a:r>
            <a:endParaRPr b="0" lang="en-US" sz="21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88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Web - Page Generator </a:t>
            </a:r>
            <a:endParaRPr b="0" lang="en-US" sz="21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88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Web - Hosting</a:t>
            </a:r>
            <a:endParaRPr b="0" lang="en-US" sz="21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88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Discussion Fora and Newsgroups</a:t>
            </a:r>
            <a:endParaRPr b="0" lang="en-US" sz="21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88880" y="2781360"/>
            <a:ext cx="1701720" cy="244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88520" y="43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elematic Services …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2720520" y="1558440"/>
            <a:ext cx="65502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66"/>
                </a:solidFill>
                <a:uFillTx/>
                <a:latin typeface="Verdana"/>
              </a:rPr>
              <a:t>Basic Services:</a:t>
            </a:r>
            <a:endParaRPr b="0" lang="en-US" sz="26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spcBef>
                <a:spcPts val="1100"/>
              </a:spcBef>
              <a:buClr>
                <a:srgbClr val="003366"/>
              </a:buClr>
              <a:buSzPct val="80000"/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Directory Service</a:t>
            </a:r>
            <a:endParaRPr b="0" lang="en-US" sz="22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spcBef>
                <a:spcPts val="1100"/>
              </a:spcBef>
              <a:buClr>
                <a:srgbClr val="003366"/>
              </a:buClr>
              <a:buSzPct val="80000"/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School Network Portal (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www.sch.gr</a:t>
            </a: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spcBef>
                <a:spcPts val="1100"/>
              </a:spcBef>
              <a:buClr>
                <a:srgbClr val="003366"/>
              </a:buClr>
              <a:buSzPct val="80000"/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Personal Calendar</a:t>
            </a:r>
            <a:endParaRPr b="0" lang="en-US" sz="22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spcBef>
                <a:spcPts val="1100"/>
              </a:spcBef>
              <a:buClr>
                <a:srgbClr val="003366"/>
              </a:buClr>
              <a:buSzPct val="80000"/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Personal Address Book</a:t>
            </a:r>
            <a:endParaRPr b="0" lang="en-US" sz="22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spcBef>
                <a:spcPts val="1100"/>
              </a:spcBef>
              <a:buClr>
                <a:srgbClr val="003366"/>
              </a:buClr>
              <a:buSzPct val="80000"/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Users Administration</a:t>
            </a:r>
            <a:endParaRPr b="0" lang="en-US" sz="22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spcBef>
                <a:spcPts val="1100"/>
              </a:spcBef>
              <a:buClr>
                <a:srgbClr val="003366"/>
              </a:buClr>
              <a:buSzPct val="80000"/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Statistics</a:t>
            </a:r>
            <a:endParaRPr b="0" lang="en-US" sz="22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spcBef>
                <a:spcPts val="1100"/>
              </a:spcBef>
              <a:buClr>
                <a:srgbClr val="003366"/>
              </a:buClr>
              <a:buSzPct val="80000"/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Voice over IP</a:t>
            </a:r>
            <a:endParaRPr b="0" lang="en-US" sz="22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spcBef>
                <a:spcPts val="1100"/>
              </a:spcBef>
              <a:buClr>
                <a:srgbClr val="003366"/>
              </a:buClr>
              <a:buSzPct val="80000"/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Help-Desk</a:t>
            </a:r>
            <a:endParaRPr b="0" lang="en-US" sz="2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88880" y="2781360"/>
            <a:ext cx="1701720" cy="244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488520" y="43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elematic Services …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elematic Servic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8880" y="1915920"/>
            <a:ext cx="7127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 algn="just"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66"/>
                </a:solidFill>
                <a:uFillTx/>
                <a:latin typeface="Verdana"/>
              </a:rPr>
              <a:t>Advanced Services</a:t>
            </a:r>
            <a:endParaRPr b="0" lang="en-US" sz="2600" spc="-1" strike="noStrike">
              <a:solidFill>
                <a:srgbClr val="003366"/>
              </a:solidFill>
              <a:latin typeface="Verdana"/>
            </a:endParaRPr>
          </a:p>
          <a:p>
            <a:pPr marL="531720" indent="0" algn="just"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(Are going to be set up in the near future)</a:t>
            </a:r>
            <a:endParaRPr b="0" lang="en-US" sz="2200" spc="-1" strike="noStrike">
              <a:solidFill>
                <a:srgbClr val="003366"/>
              </a:solidFill>
              <a:latin typeface="Verdana"/>
            </a:endParaRPr>
          </a:p>
          <a:p>
            <a:pPr marL="5317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531720" indent="9720">
              <a:spcBef>
                <a:spcPts val="96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l-GR" sz="2200" spc="-1" strike="noStrike">
                <a:solidFill>
                  <a:srgbClr val="003366"/>
                </a:solidFill>
                <a:latin typeface="Verdana"/>
              </a:rPr>
              <a:t>Teleconference </a:t>
            </a:r>
            <a:endParaRPr b="0" lang="en-US" sz="2200" spc="-1" strike="noStrike">
              <a:solidFill>
                <a:srgbClr val="003366"/>
              </a:solidFill>
              <a:latin typeface="Verdana"/>
            </a:endParaRPr>
          </a:p>
          <a:p>
            <a:pPr marL="531720" indent="9720">
              <a:spcBef>
                <a:spcPts val="96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l-GR" sz="2200" spc="-1" strike="noStrike">
                <a:solidFill>
                  <a:srgbClr val="003366"/>
                </a:solidFill>
                <a:latin typeface="Verdana"/>
              </a:rPr>
              <a:t>Asynchronous Open Distance Learning </a:t>
            </a:r>
            <a:endParaRPr b="0" lang="en-US" sz="2200" spc="-1" strike="noStrike">
              <a:solidFill>
                <a:srgbClr val="003366"/>
              </a:solidFill>
              <a:latin typeface="Verdana"/>
            </a:endParaRPr>
          </a:p>
          <a:p>
            <a:pPr marL="531720" indent="9720">
              <a:spcBef>
                <a:spcPts val="96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l-GR" sz="2200" spc="-1" strike="noStrike">
                <a:solidFill>
                  <a:srgbClr val="003366"/>
                </a:solidFill>
                <a:latin typeface="Verdana"/>
              </a:rPr>
              <a:t>Video on Demand – VoD</a:t>
            </a:r>
            <a:endParaRPr b="0" lang="en-US" sz="2200" spc="-1" strike="noStrike">
              <a:solidFill>
                <a:srgbClr val="003366"/>
              </a:solidFill>
              <a:latin typeface="Verdana"/>
            </a:endParaRPr>
          </a:p>
          <a:p>
            <a:pPr marL="5317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531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 majority of the above services have been developed using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open source software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88880" y="2781360"/>
            <a:ext cx="17017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505240" y="1411200"/>
            <a:ext cx="4824360" cy="4897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chool Portal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www.sch.gr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ur agenda…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4880" y="1917360"/>
            <a:ext cx="6911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Project’s scope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Implementation mode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Educational target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Network architecture and servic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Connectivity progres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Results of a study about children and Internet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Web-control service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84657" b="72226"/>
          <a:stretch/>
        </p:blipFill>
        <p:spPr>
          <a:xfrm>
            <a:off x="488880" y="2637000"/>
            <a:ext cx="153828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vels of functionality provided by GSN</a:t>
            </a:r>
            <a:r>
              <a:rPr b="1" lang="el-GR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14440" y="1484280"/>
            <a:ext cx="6418440" cy="4824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576520" y="2124000"/>
            <a:ext cx="1871640" cy="873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ch.g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Greek School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08520" y="2134800"/>
            <a:ext cx="1800360" cy="87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e-yliko.g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ducational 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scussion Fora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www.sch.gr</a:t>
            </a:r>
            <a:r>
              <a:rPr b="1" lang="el-GR" sz="32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forum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9240" y="1494000"/>
            <a:ext cx="4895640" cy="46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8520" y="18900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nnectivity Progres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065240" y="1484280"/>
          <a:ext cx="748836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484280"/>
                    <a:ext cx="74883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nnectivity Progres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849240" y="1557360"/>
          <a:ext cx="8425080" cy="3108240"/>
        </p:xfrm>
        <a:graphic>
          <a:graphicData uri="http://schemas.openxmlformats.org/drawingml/2006/table">
            <a:tbl>
              <a:tblPr/>
              <a:tblGrid>
                <a:gridCol w="2500560"/>
                <a:gridCol w="2211120"/>
                <a:gridCol w="1712880"/>
                <a:gridCol w="2000520"/>
              </a:tblGrid>
              <a:tr h="78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Level of 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Connected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Percentage of conn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</a:tr>
              <a:tr h="3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Kindergart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5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6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r>
                        <a:rPr b="1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Primary education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3.4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5</a:t>
                      </a: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r>
                        <a:rPr b="1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Secondary education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3.66</a:t>
                      </a: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3.66</a:t>
                      </a: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100</a:t>
                      </a:r>
                      <a:r>
                        <a:rPr b="1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Initial vocal education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849240" y="5069880"/>
            <a:ext cx="8425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 marL="270000" indent="-270000">
              <a:lnSpc>
                <a:spcPct val="10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More than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1.100 administrative units</a:t>
            </a: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 have access to GSN’s servic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More than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8.000 teachers</a:t>
            </a: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 have personalized access to GSN’s services and almost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5.000 </a:t>
            </a: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have personal dialup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More than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1.000</a:t>
            </a: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new dialup users per we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84880" y="4723920"/>
            <a:ext cx="2087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Updated: 15 May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stributed Help-Desk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16160" y="1484280"/>
            <a:ext cx="70581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The service is provided to</a:t>
            </a:r>
            <a:r>
              <a:rPr b="1" lang="el-GR" sz="18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All schools of secondary education 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~4.000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All schools of primary education 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~6.000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All administrative units 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&gt; 1.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100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Individual users (teachers and students) 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&gt; 8.0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00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The service is provided via</a:t>
            </a:r>
            <a:r>
              <a:rPr b="1" lang="el-GR" sz="18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Free Phone Line: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 801-11-801-81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Fax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FAQs at 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www.sch.gr/user</a:t>
            </a:r>
            <a:r>
              <a:rPr b="1" lang="el-GR" sz="1800" spc="-1" strike="noStrike">
                <a:solidFill>
                  <a:srgbClr val="003366"/>
                </a:solidFill>
                <a:latin typeface="Verdana"/>
              </a:rPr>
              <a:t>_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suppor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echnical manuals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Working hours</a:t>
            </a:r>
            <a:r>
              <a:rPr b="1" lang="el-GR" sz="18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9.00 – 19.00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(working days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rcRect l="83335" t="0" r="0" b="0"/>
          <a:stretch/>
        </p:blipFill>
        <p:spPr>
          <a:xfrm>
            <a:off x="679320" y="2276640"/>
            <a:ext cx="1465560" cy="31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216160" y="1484280"/>
            <a:ext cx="5322960" cy="482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lp-Desk service through web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www.sch.gr</a:t>
            </a:r>
            <a:r>
              <a:rPr b="1" lang="el-GR" sz="32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user_suppo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88520" y="21096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860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tudy: “Children and the Internet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 Greece, 2002”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16160" y="1868400"/>
            <a:ext cx="7261200" cy="36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Survey profile: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Year: 2002</a:t>
            </a:r>
            <a:r>
              <a:rPr b="0" lang="el-GR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onductor: Greek Consumers Organiza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ample</a:t>
            </a:r>
            <a:r>
              <a:rPr b="0" lang="el-GR" sz="2000" spc="-1" strike="noStrike">
                <a:solidFill>
                  <a:srgbClr val="003366"/>
                </a:solidFill>
                <a:latin typeface="Verdana"/>
              </a:rPr>
              <a:t>: 570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hildre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ge</a:t>
            </a:r>
            <a:r>
              <a:rPr b="0" lang="el-GR" sz="2000" spc="-1" strike="noStrike">
                <a:solidFill>
                  <a:srgbClr val="003366"/>
                </a:solidFill>
                <a:latin typeface="Verdana"/>
              </a:rPr>
              <a:t>: 7 – 17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years old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unds: ONCE &amp; CISA European projec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Range: Pan-Hellenic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im: Study of the influence of the Interne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18335" t="0" r="65000" b="0"/>
          <a:stretch/>
        </p:blipFill>
        <p:spPr>
          <a:xfrm>
            <a:off x="527040" y="2421000"/>
            <a:ext cx="140328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6600" y="4428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hatrooms usag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07880" y="1544760"/>
          <a:ext cx="3903840" cy="247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1544760"/>
                    <a:ext cx="3903840" cy="24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5413320" y="1484280"/>
          <a:ext cx="4265640" cy="2708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3320" y="1484280"/>
                    <a:ext cx="426564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33440" y="765000"/>
            <a:ext cx="639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Survey: “Children and the Internet in Greece”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211480" y="4067280"/>
          <a:ext cx="3981240" cy="2527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1480" y="4067280"/>
                    <a:ext cx="398124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6392880" y="5158440"/>
            <a:ext cx="2306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More than 60% chatted with stranger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6600" y="4428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sage of E-commerce servic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66760" y="1546200"/>
          <a:ext cx="3970440" cy="25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546200"/>
                    <a:ext cx="397044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5591160" y="1476360"/>
          <a:ext cx="3905280" cy="248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1160" y="1476360"/>
                    <a:ext cx="390528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16002000" y="219240"/>
          <a:ext cx="7877160" cy="5143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0" y="219240"/>
                    <a:ext cx="787716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16116480" y="5686560"/>
          <a:ext cx="7877160" cy="51433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16480" y="5686560"/>
                    <a:ext cx="787716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4041160" y="324000"/>
          <a:ext cx="7877160" cy="514332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41160" y="324000"/>
                    <a:ext cx="787716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16218000" y="434880"/>
          <a:ext cx="7877160" cy="514368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218000" y="434880"/>
                    <a:ext cx="787716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6332120" y="5902200"/>
          <a:ext cx="7877160" cy="5143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332120" y="5902200"/>
                    <a:ext cx="787716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24257160" y="539640"/>
          <a:ext cx="7877160" cy="5143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257160" y="539640"/>
                    <a:ext cx="787716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6433640" y="650880"/>
          <a:ext cx="7877160" cy="51433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433640" y="650880"/>
                    <a:ext cx="787716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16548120" y="6118200"/>
          <a:ext cx="7877160" cy="514368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548120" y="6118200"/>
                    <a:ext cx="787716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4472800" y="755640"/>
          <a:ext cx="7877160" cy="514368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4472800" y="755640"/>
                    <a:ext cx="787716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2500200" y="4067280"/>
          <a:ext cx="3969000" cy="251928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00200" y="4067280"/>
                    <a:ext cx="396900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433440" y="765000"/>
            <a:ext cx="615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Survey: “Children and the Internet in Greece”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6600" y="4428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arents’ Behavior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521240" y="1773360"/>
          <a:ext cx="5184720" cy="33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1773360"/>
                    <a:ext cx="518472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127080" y="1816200"/>
          <a:ext cx="5113080" cy="3340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080" y="1816200"/>
                    <a:ext cx="51130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433440" y="765000"/>
            <a:ext cx="615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Survey: “Children and the Internet in Greece”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44520" y="1484280"/>
            <a:ext cx="7343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Main Objectives: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Verdana"/>
              </a:rPr>
              <a:t>create the national networking infrastructure, </a:t>
            </a:r>
            <a:endParaRPr b="0" lang="en-US" sz="22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Verdana"/>
              </a:rPr>
              <a:t>connect all schools in an educational Intranet</a:t>
            </a:r>
            <a:endParaRPr b="0" lang="en-US" sz="22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Verdana"/>
              </a:rPr>
              <a:t>provide and support advanced telematic services</a:t>
            </a:r>
            <a:endParaRPr b="0" lang="en-US" sz="2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</a:t>
            </a:r>
            <a:r>
              <a:rPr b="0" lang="el-GR" sz="2000" spc="-1" strike="noStrike">
                <a:solidFill>
                  <a:srgbClr val="003366"/>
                </a:solidFill>
                <a:latin typeface="Verdana"/>
              </a:rPr>
              <a:t>mplemented with the collaboration of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The </a:t>
            </a:r>
            <a:r>
              <a:rPr b="0" lang="el-GR" sz="2200" spc="-1" strike="noStrike">
                <a:solidFill>
                  <a:srgbClr val="003366"/>
                </a:solidFill>
                <a:latin typeface="Verdana"/>
              </a:rPr>
              <a:t>Ministry of Education</a:t>
            </a: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 (MoE)</a:t>
            </a:r>
            <a:endParaRPr b="0" lang="en-US" sz="22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Two (2) </a:t>
            </a:r>
            <a:r>
              <a:rPr b="0" lang="el-GR" sz="2200" spc="-1" strike="noStrike">
                <a:solidFill>
                  <a:srgbClr val="003366"/>
                </a:solidFill>
                <a:latin typeface="Verdana"/>
              </a:rPr>
              <a:t>Research Centres</a:t>
            </a:r>
            <a:endParaRPr b="0" lang="en-US" sz="22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Eight (8) </a:t>
            </a:r>
            <a:r>
              <a:rPr b="0" lang="el-GR" sz="2200" spc="-1" strike="noStrike">
                <a:solidFill>
                  <a:srgbClr val="003366"/>
                </a:solidFill>
                <a:latin typeface="Verdana"/>
              </a:rPr>
              <a:t>Universities</a:t>
            </a:r>
            <a:endParaRPr b="0" lang="en-US" sz="22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Two (2) Technological Educational Institutes</a:t>
            </a:r>
            <a:endParaRPr b="0" lang="en-US" sz="2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8880" y="2565360"/>
            <a:ext cx="154008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6600" y="4428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hildren’ Behavior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352520" y="1557360"/>
          <a:ext cx="7112160" cy="451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557360"/>
                    <a:ext cx="711216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433440" y="765000"/>
            <a:ext cx="639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Survey: “Children and the Internet in Greece”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26600" y="4428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Web destination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30120" y="1703520"/>
          <a:ext cx="4767480" cy="293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703520"/>
                    <a:ext cx="476748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5384880" y="1692360"/>
          <a:ext cx="4232160" cy="2685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4880" y="1692360"/>
                    <a:ext cx="423216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3086280" y="3813120"/>
          <a:ext cx="4387680" cy="27860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86280" y="3813120"/>
                    <a:ext cx="438768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433440" y="765000"/>
            <a:ext cx="6313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Survey: “Children and the Internet in Greece”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15440" y="4428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elf-protection ability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424160" y="1608120"/>
          <a:ext cx="6951600" cy="44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1608120"/>
                    <a:ext cx="69516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433440" y="765000"/>
            <a:ext cx="608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Survey: “Children and the Internet in Greece”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44160" y="18900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Priorities of the Greek School Network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819000" y="1844640"/>
            <a:ext cx="8112240" cy="80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pecification of the pages considered im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19000" y="2797200"/>
            <a:ext cx="8112240" cy="80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formation of teachers, parents &amp;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19000" y="3751200"/>
            <a:ext cx="8112240" cy="809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reation of educational software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(by other pro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9000" y="4741920"/>
            <a:ext cx="8112240" cy="80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olicies and techniques in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8240" y="18900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ntent Control Techniqu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8856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Keyword Blocking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Positive &amp; Negative Lis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ontent Labeling &amp; Rating System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 Control -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ontent Categori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20880" y="1555920"/>
            <a:ext cx="8496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GSN’s blacklist database classes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Pornography (Category: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Porn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)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*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rugs (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Drugs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)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*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Violence and hate </a:t>
            </a:r>
            <a:r>
              <a:rPr b="0" lang="el-GR" sz="20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iolence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)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*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ggressive behaviour &amp; racism (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ggressive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)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*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Gambling (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Gambling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)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*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dvertising Material (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Ads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nformation about hacking</a:t>
            </a:r>
            <a:r>
              <a:rPr b="0" lang="el-GR" sz="2000" spc="-1" strike="noStrike">
                <a:solidFill>
                  <a:srgbClr val="003366"/>
                </a:solidFill>
                <a:latin typeface="Verdana"/>
              </a:rPr>
              <a:t> (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Hacking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nformation about access codes in programs without legal permission</a:t>
            </a:r>
            <a:r>
              <a:rPr b="0" lang="el-GR" sz="2000" spc="-1" strike="noStrike">
                <a:solidFill>
                  <a:srgbClr val="003366"/>
                </a:solidFill>
                <a:latin typeface="Verdana"/>
              </a:rPr>
              <a:t> (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Warez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3366"/>
                </a:solidFill>
                <a:latin typeface="Verdana"/>
              </a:rPr>
              <a:t>*</a:t>
            </a:r>
            <a:r>
              <a:rPr b="0" i="1" lang="el-G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Verdana"/>
              </a:rPr>
              <a:t>Blocked in the Greek School Network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Verdana"/>
              </a:rPr>
              <a:t>With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red</a:t>
            </a:r>
            <a:r>
              <a:rPr b="0" i="1" lang="en-US" sz="1800" spc="-1" strike="noStrike">
                <a:solidFill>
                  <a:srgbClr val="003366"/>
                </a:solidFill>
                <a:latin typeface="Verdana"/>
              </a:rPr>
              <a:t> are marked the most critical categories for a school environment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26600" y="13824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mplementation issues &amp; result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5240" y="1557000"/>
            <a:ext cx="8089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The blacklist is collected by a “</a:t>
            </a:r>
            <a:r>
              <a:rPr b="0" lang="en-GB" sz="1800" spc="-1" strike="noStrike" u="sng">
                <a:solidFill>
                  <a:srgbClr val="003366"/>
                </a:solidFill>
                <a:uFillTx/>
                <a:latin typeface="Verdana"/>
              </a:rPr>
              <a:t>dumb robot”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Automatic update of blacklist on a monthly bas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More than 100.000 URLs are “blacklisted”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Parametric control (according Time, IP or UserId base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Recording and reporting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Selective logging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Communication with administrato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op rate: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&gt; 200.000 hits/day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Peak: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&gt; 34.000 hits/mi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Blocked pages: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~ 9 %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Growth rate of hits: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&gt; 30% per year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Messages to cache master: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~ 20/month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7360" y="75960"/>
            <a:ext cx="685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311560" y="1557000"/>
            <a:ext cx="7178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uccessful implementation of the project due to the collaboration among MoE, Universities, Research Centers, GRNET and school communiti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64960" indent="-264960">
              <a:spcBef>
                <a:spcPts val="6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MoE develops the national intranet of primary and secondary education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64960" indent="-264960">
              <a:spcBef>
                <a:spcPts val="6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Exploitation of the Universities’ know-how in the network design and implementa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64960" indent="-264960">
              <a:spcBef>
                <a:spcPts val="6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Exploitation of national infrastructures (e.g.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GRNET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64960" indent="-264960">
              <a:spcBef>
                <a:spcPts val="6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Cost effective operation compared to ISP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64960" indent="-264960">
              <a:spcBef>
                <a:spcPts val="6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A wide range of services provided to the use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64960" indent="-264960">
              <a:spcBef>
                <a:spcPts val="6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Creation of an environment for the deployment of ICT in educatio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64960" indent="-264960">
              <a:spcBef>
                <a:spcPts val="67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Creation of the necessary conditions for the development of educational conten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88880" y="2494080"/>
            <a:ext cx="1587600" cy="24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584280" y="1484280"/>
            <a:ext cx="8858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r your attention!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r further information please look at: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http://www.sch.gr/index_en.php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(English pages)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http://www.sch.gr/index_de.php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(German pages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n my webpage at 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http://comet.cti.gr/~mparask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Or contact to 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mparask@cti.gr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507960" y="333720"/>
            <a:ext cx="4952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ank you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Funding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43080" y="1773360"/>
            <a:ext cx="6913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Verdana"/>
              </a:rPr>
              <a:t>The GSN planning, implementation and operation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is in </a:t>
            </a:r>
            <a:r>
              <a:rPr b="0" lang="el-GR" sz="2400" spc="-1" strike="noStrike">
                <a:solidFill>
                  <a:srgbClr val="003366"/>
                </a:solidFill>
                <a:latin typeface="Verdana"/>
              </a:rPr>
              <a:t>accord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ance with </a:t>
            </a:r>
            <a:r>
              <a:rPr b="0" lang="el-GR" sz="2400" spc="-1" strike="noStrike">
                <a:solidFill>
                  <a:srgbClr val="003366"/>
                </a:solidFill>
                <a:latin typeface="Verdana"/>
              </a:rPr>
              <a:t>the EC policies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and the international practice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The project is f</a:t>
            </a:r>
            <a:r>
              <a:rPr b="0" lang="el-GR" sz="2400" spc="-1" strike="noStrike">
                <a:solidFill>
                  <a:srgbClr val="003366"/>
                </a:solidFill>
                <a:latin typeface="Verdana"/>
              </a:rPr>
              <a:t>inanced by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National Funds and by the 2</a:t>
            </a:r>
            <a:r>
              <a:rPr b="0" lang="en-US" sz="2400" spc="-1" strike="noStrike" baseline="30000">
                <a:solidFill>
                  <a:srgbClr val="003366"/>
                </a:solidFill>
                <a:latin typeface="Verdana"/>
              </a:rPr>
              <a:t>nd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3366"/>
                </a:solidFill>
                <a:latin typeface="Verdana"/>
              </a:rPr>
              <a:t>and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0" lang="en-US" sz="2400" spc="-1" strike="noStrike" baseline="30000">
                <a:solidFill>
                  <a:srgbClr val="003366"/>
                </a:solidFill>
                <a:latin typeface="Verdana"/>
              </a:rPr>
              <a:t>rd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3366"/>
                </a:solidFill>
                <a:latin typeface="Verdana"/>
              </a:rPr>
              <a:t>Community Support Framework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perational Program for the Information Society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(www.infosociety.gr) 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Total budget (1999-2005)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4 MEur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8880" y="2852640"/>
            <a:ext cx="136836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nsortiu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4887" t="0" r="35461" b="0"/>
          <a:stretch/>
        </p:blipFill>
        <p:spPr>
          <a:xfrm>
            <a:off x="639720" y="1501920"/>
            <a:ext cx="4818240" cy="4879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rcRect l="15645" t="0" r="29762" b="16576"/>
          <a:stretch/>
        </p:blipFill>
        <p:spPr>
          <a:xfrm>
            <a:off x="4664160" y="1557360"/>
            <a:ext cx="4968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artner’s Responsibiliti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36520" y="1773360"/>
            <a:ext cx="806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The partners are responsible for: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The supply of network equipment through public procurement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The implementation of network infrastructures in schools and administrative unit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The development, the distribution and the operation of telematics servic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The day to day network management 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The technical support of schools and user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</a:rPr>
              <a:t> model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s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</a:rPr>
              <a:t>ur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15800" y="1771560"/>
            <a:ext cx="727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The secondary education networking in accordance with the e-Europe planning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Uniform coverage of all geographic areas 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Strengthening of collaborations among all levels of education 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Every day support of schools offered by the local institutions  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Transfer of know-how to the Ministry of Education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Viability of infrastructures and servic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8880" y="2637000"/>
            <a:ext cx="1525680" cy="213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reek School Network Organizati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965240" y="1557360"/>
            <a:ext cx="1809720" cy="1837800"/>
            <a:chOff x="1965240" y="1557360"/>
            <a:chExt cx="1809720" cy="1837800"/>
          </a:xfrm>
        </p:grpSpPr>
        <p:grpSp>
          <p:nvGrpSpPr>
            <p:cNvPr id="123" name=""/>
            <p:cNvGrpSpPr/>
            <p:nvPr/>
          </p:nvGrpSpPr>
          <p:grpSpPr>
            <a:xfrm>
              <a:off x="1965240" y="1557360"/>
              <a:ext cx="1809720" cy="1457280"/>
              <a:chOff x="1965240" y="1557360"/>
              <a:chExt cx="1809720" cy="1457280"/>
            </a:xfrm>
          </p:grpSpPr>
          <p:sp>
            <p:nvSpPr>
              <p:cNvPr id="124" name=""/>
              <p:cNvSpPr/>
              <p:nvPr/>
            </p:nvSpPr>
            <p:spPr>
              <a:xfrm>
                <a:off x="1965240" y="1557360"/>
                <a:ext cx="1809720" cy="60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Steering Committ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(SC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003400" y="2460960"/>
                <a:ext cx="1765800" cy="55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Technical Committee (T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800800" y="2160000"/>
                <a:ext cx="192600" cy="300960"/>
              </a:xfrm>
              <a:prstGeom prst="upDownArrow">
                <a:avLst>
                  <a:gd name="adj1" fmla="val 50000"/>
                  <a:gd name="adj2" fmla="val 3110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800800" y="3014640"/>
              <a:ext cx="170640" cy="380520"/>
            </a:xfrm>
            <a:prstGeom prst="upDownArrow">
              <a:avLst>
                <a:gd name="adj1" fmla="val 50000"/>
                <a:gd name="adj2" fmla="val 443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281240" y="4830840"/>
            <a:ext cx="1377720" cy="806400"/>
            <a:chOff x="1281240" y="4830840"/>
            <a:chExt cx="1377720" cy="806400"/>
          </a:xfrm>
        </p:grpSpPr>
        <p:sp>
          <p:nvSpPr>
            <p:cNvPr id="129" name="Cloud"/>
            <p:cNvSpPr/>
            <p:nvPr/>
          </p:nvSpPr>
          <p:spPr>
            <a:xfrm>
              <a:off x="1281240" y="4830840"/>
              <a:ext cx="1377720" cy="8064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86440" y="4977360"/>
              <a:ext cx="103320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anagement Area 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712880" y="3789360"/>
            <a:ext cx="57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92240" y="4276800"/>
            <a:ext cx="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452680" y="5415120"/>
            <a:ext cx="1378080" cy="806400"/>
            <a:chOff x="2452680" y="5415120"/>
            <a:chExt cx="1378080" cy="806400"/>
          </a:xfrm>
        </p:grpSpPr>
        <p:sp>
          <p:nvSpPr>
            <p:cNvPr id="134" name="Cloud"/>
            <p:cNvSpPr/>
            <p:nvPr/>
          </p:nvSpPr>
          <p:spPr>
            <a:xfrm>
              <a:off x="2452680" y="5415120"/>
              <a:ext cx="1378080" cy="8064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59320" y="5561640"/>
              <a:ext cx="103356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anagement Area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792520" y="3789360"/>
            <a:ext cx="57780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41720" y="4275000"/>
            <a:ext cx="0" cy="11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968640" y="4830840"/>
            <a:ext cx="1378080" cy="806400"/>
            <a:chOff x="3968640" y="4830840"/>
            <a:chExt cx="1378080" cy="806400"/>
          </a:xfrm>
        </p:grpSpPr>
        <p:sp>
          <p:nvSpPr>
            <p:cNvPr id="139" name="Cloud"/>
            <p:cNvSpPr/>
            <p:nvPr/>
          </p:nvSpPr>
          <p:spPr>
            <a:xfrm>
              <a:off x="3968640" y="4830840"/>
              <a:ext cx="1378080" cy="8064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75280" y="4977360"/>
              <a:ext cx="103356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anagement Area 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232160" y="3789360"/>
            <a:ext cx="7034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7680" y="4275000"/>
            <a:ext cx="0" cy="58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31800" y="3429000"/>
            <a:ext cx="4002120" cy="882720"/>
            <a:chOff x="631800" y="3429000"/>
            <a:chExt cx="4002120" cy="882720"/>
          </a:xfrm>
        </p:grpSpPr>
        <p:sp>
          <p:nvSpPr>
            <p:cNvPr id="144" name=""/>
            <p:cNvSpPr/>
            <p:nvPr/>
          </p:nvSpPr>
          <p:spPr>
            <a:xfrm>
              <a:off x="631800" y="3807360"/>
              <a:ext cx="6156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39600" y="342900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39600" y="3429000"/>
              <a:ext cx="369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5600" y="342900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94560" y="342900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33920" y="342900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84880" y="1557000"/>
            <a:ext cx="4248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Steering Committee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: Strategy and decisio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Technical Committee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: Technical recommendations, responsibility for proper opera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Central Management Entity (CME):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Verdana"/>
                <a:ea typeface="Times New Roman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 level helpdesk, coordination of M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Management Entities (ME)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: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1</a:t>
            </a:r>
            <a:r>
              <a:rPr b="0" lang="en-US" sz="2000" spc="-1" strike="noStrike" baseline="30000">
                <a:solidFill>
                  <a:srgbClr val="003366"/>
                </a:solidFill>
                <a:latin typeface="Verdana"/>
                <a:ea typeface="Times New Roman"/>
              </a:rPr>
              <a:t>st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 level helpdesk, area management, deploymen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3440160" y="400536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720" bIns="-4572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reas of Responsibility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2245" t="0" r="14713" b="0"/>
          <a:stretch/>
        </p:blipFill>
        <p:spPr>
          <a:xfrm>
            <a:off x="2216160" y="1420920"/>
            <a:ext cx="5616720" cy="4922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8T11:50:57Z</dcterms:created>
  <dc:creator/>
  <dc:description/>
  <dc:language>en-US</dc:language>
  <cp:lastModifiedBy>Paraskevas Michael</cp:lastModifiedBy>
  <cp:lastPrinted>2000-07-13T12:35:53Z</cp:lastPrinted>
  <dcterms:modified xsi:type="dcterms:W3CDTF">2003-06-03T11:18:36Z</dcterms:modified>
  <cp:revision>372</cp:revision>
  <dc:subject/>
  <dc:title>The Greek School Network www.sch.gr</dc:title>
</cp:coreProperties>
</file>