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media/image15.wmf" ContentType="image/x-wmf"/>
  <Override PartName="/ppt/media/image14.wmf" ContentType="image/x-wmf"/>
  <Override PartName="/ppt/media/image39.wmf" ContentType="image/x-wmf"/>
  <Override PartName="/ppt/media/image33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wmf" ContentType="image/x-wmf"/>
  <Override PartName="/ppt/media/image13.jpeg" ContentType="image/jpeg"/>
  <Override PartName="/ppt/media/image41.wmf" ContentType="image/x-wmf"/>
  <Override PartName="/ppt/media/image8.jpeg" ContentType="image/jpeg"/>
  <Override PartName="/ppt/media/image44.wmf" ContentType="image/x-wmf"/>
  <Override PartName="/ppt/media/image12.png" ContentType="image/png"/>
  <Override PartName="/ppt/media/image20.jpeg" ContentType="image/jpeg"/>
  <Override PartName="/ppt/media/image36.wmf" ContentType="image/x-wmf"/>
  <Override PartName="/ppt/media/image6.wmf" ContentType="image/x-wmf"/>
  <Override PartName="/ppt/media/image7.jpeg" ContentType="image/jpeg"/>
  <Override PartName="/ppt/media/image31.wmf" ContentType="image/x-wmf"/>
  <Override PartName="/ppt/media/image1.png" ContentType="image/png"/>
  <Override PartName="/ppt/media/image29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FE79C2A-5623-4979-A023-938F5CBFE8A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984240" y="4730760"/>
            <a:ext cx="4829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Img"/>
          </p:nvPr>
        </p:nvSpPr>
        <p:spPr>
          <a:xfrm>
            <a:off x="885600" y="865080"/>
            <a:ext cx="502596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7ACBF9D-E4E9-4DA4-A409-97D19F469AD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722160" y="74916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173793A-27A2-4224-9B91-FA50A85B948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49840" y="9448920"/>
            <a:ext cx="29476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D06EA7E-0149-4FD2-93FD-2AE0B16244E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44892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498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722160" y="74916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116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464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4912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6016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464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4912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BA7-A16B-4BF6-8282-A7713BA5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841-AAA2-474B-9A49-5DC45BB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D0F-33F5-46BB-9CE1-E6ACD80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67D-ABA8-4BF7-8613-A8D39642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3C7-F81F-4E48-AF13-19D2507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9063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0BD-04E1-44BD-BC54-176303B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5F5-C453-41E4-8C47-811EEB9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7F1-0660-43AA-A625-C5BA4C3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831-CC21-46B4-AA2D-DA1722DB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6D6-CEEA-4FBB-9085-0DE5620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85E-20FA-40FC-A0EB-87920B35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464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49120" y="148428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6016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464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49120" y="3929400"/>
            <a:ext cx="28515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7A0-FDC2-4231-A337-DA38A97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9063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98320" y="392940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8320" y="1484280"/>
            <a:ext cx="4321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0160" y="3929400"/>
            <a:ext cx="8856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1280"/>
            <a:ext cx="9705600" cy="6381720"/>
            <a:chOff x="0" y="71280"/>
            <a:chExt cx="9705600" cy="6381720"/>
          </a:xfrm>
        </p:grpSpPr>
        <p:sp>
          <p:nvSpPr>
            <p:cNvPr id="1" name=""/>
            <p:cNvSpPr/>
            <p:nvPr/>
          </p:nvSpPr>
          <p:spPr>
            <a:xfrm>
              <a:off x="425520" y="470160"/>
              <a:ext cx="9280080" cy="5982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71280"/>
              <a:ext cx="9535680" cy="1276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88000"/>
              <a:ext cx="902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71280"/>
            <a:ext cx="9705600" cy="6381720"/>
            <a:chOff x="0" y="71280"/>
            <a:chExt cx="9705600" cy="6381720"/>
          </a:xfrm>
        </p:grpSpPr>
        <p:sp>
          <p:nvSpPr>
            <p:cNvPr id="7" name=""/>
            <p:cNvSpPr/>
            <p:nvPr/>
          </p:nvSpPr>
          <p:spPr>
            <a:xfrm>
              <a:off x="425520" y="470160"/>
              <a:ext cx="9280080" cy="5982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71280"/>
              <a:ext cx="9535680" cy="1276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188000"/>
              <a:ext cx="902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7240" y="6524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www.sch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epeaek.jpg (1235 bytes)"/>
          <p:cNvPicPr/>
          <p:nvPr/>
        </p:nvPicPr>
        <p:blipFill>
          <a:blip r:embed="rId2"/>
          <a:stretch/>
        </p:blipFill>
        <p:spPr>
          <a:xfrm>
            <a:off x="9201240" y="6453360"/>
            <a:ext cx="650880" cy="3538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008160" y="6524640"/>
            <a:ext cx="612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Verdana"/>
              </a:rPr>
              <a:t>Funded by the Ministry of Education and Religious Affairs and the European Union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3040" y="1795320"/>
            <a:ext cx="8007120" cy="4081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7680" y="404640"/>
            <a:ext cx="7759800" cy="120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61920"/>
            <a:ext cx="9740880" cy="2225880"/>
          </a:xfrm>
          <a:prstGeom prst="pie">
            <a:avLst/>
          </a:pr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02040"/>
            <a:ext cx="8997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1196640"/>
            <a:ext cx="8750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495360" y="6248160"/>
            <a:ext cx="23112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384360" y="6253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160"/>
            <a:ext cx="23115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FC0-F848-42C9-A616-C04066AD7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9240" y="58320"/>
            <a:ext cx="5616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Verdana"/>
              </a:rPr>
              <a:t>Ministry of Education and Religious Affairs – www.ypepth.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0.wmf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2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3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4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5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36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37.wmf"/><Relationship Id="rId2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520" y="1052640"/>
            <a:ext cx="94903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Greek School Network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28520" y="2276640"/>
            <a:ext cx="85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Network Infrastructures and Telematic Services for the Educational Society in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15040" y="3933720"/>
            <a:ext cx="4591080" cy="29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2160" y="4269600"/>
            <a:ext cx="432288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r. Michael Paraske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Technical Director of 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Research Academic Computer Technology Institute - www.cti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8880" y="43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ackbone &amp; Distribution Network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33240" y="2051280"/>
            <a:ext cx="42483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Backbone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the 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Greek Research and Technology Network - GRNET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www.grnet.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Distribution network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consists of 51 nodes (one in each prefectur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9 main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42 secondary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Equipped with 75 routers, 7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rvers, a large number of telecommunication circuits and the appropriat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ftwar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53040" y="1676520"/>
            <a:ext cx="4263120" cy="4704840"/>
            <a:chOff x="5153040" y="1676520"/>
            <a:chExt cx="4263120" cy="4704840"/>
          </a:xfrm>
        </p:grpSpPr>
        <p:grpSp>
          <p:nvGrpSpPr>
            <p:cNvPr id="186" name=""/>
            <p:cNvGrpSpPr/>
            <p:nvPr/>
          </p:nvGrpSpPr>
          <p:grpSpPr>
            <a:xfrm>
              <a:off x="5153040" y="1676520"/>
              <a:ext cx="4263120" cy="4167720"/>
              <a:chOff x="5153040" y="1676520"/>
              <a:chExt cx="4263120" cy="4167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153040" y="1676520"/>
                <a:ext cx="4263120" cy="4167720"/>
                <a:chOff x="5153040" y="1676520"/>
                <a:chExt cx="4263120" cy="416772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5153040" y="1676520"/>
                  <a:ext cx="4263120" cy="4167720"/>
                  <a:chOff x="5153040" y="1676520"/>
                  <a:chExt cx="4263120" cy="4167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153040" y="1676520"/>
                    <a:ext cx="4263120" cy="4167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rcRect l="37797" t="5709" r="-576" b="5315"/>
                  <a:stretch/>
                </p:blipFill>
                <p:spPr>
                  <a:xfrm>
                    <a:off x="5430960" y="1676520"/>
                    <a:ext cx="374544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91" name="" descr=""/>
                <p:cNvPicPr/>
                <p:nvPr/>
              </p:nvPicPr>
              <p:blipFill>
                <a:blip r:embed="rId3"/>
                <a:srcRect l="0" t="86476" r="71888" b="0"/>
                <a:stretch/>
              </p:blipFill>
              <p:spPr>
                <a:xfrm>
                  <a:off x="5321160" y="5101920"/>
                  <a:ext cx="1794960" cy="65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2" name=""/>
              <p:cNvSpPr/>
              <p:nvPr/>
            </p:nvSpPr>
            <p:spPr>
              <a:xfrm>
                <a:off x="5524920" y="5172480"/>
                <a:ext cx="1494720" cy="305640"/>
              </a:xfrm>
              <a:prstGeom prst="rect">
                <a:avLst/>
              </a:prstGeom>
              <a:solidFill>
                <a:srgbClr val="e4e2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080" bIns="460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Verdana"/>
                  </a:rPr>
                  <a:t>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Verdana"/>
                  </a:rPr>
                  <a:t>G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24920" y="5527080"/>
                <a:ext cx="1494720" cy="244800"/>
              </a:xfrm>
              <a:prstGeom prst="rect">
                <a:avLst/>
              </a:prstGeom>
              <a:solidFill>
                <a:srgbClr val="ffe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Verdana"/>
                  </a:rPr>
                  <a:t>Distribution 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901120" y="5923080"/>
              <a:ext cx="298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Verdana"/>
                </a:rPr>
                <a:t>www.sch.g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925720" y="176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880" y="54000"/>
            <a:ext cx="709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ccess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31800" y="1557360"/>
            <a:ext cx="5545080" cy="4524480"/>
            <a:chOff x="631800" y="1557360"/>
            <a:chExt cx="5545080" cy="45244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631800" y="1557360"/>
              <a:ext cx="554508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224160" y="1996920"/>
              <a:ext cx="1092240" cy="244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Verdana"/>
                </a:rPr>
                <a:t>School Labora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63800" y="2969280"/>
              <a:ext cx="5094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Wireless Li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03440" y="2998080"/>
              <a:ext cx="511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atellite Li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39800" y="5156640"/>
              <a:ext cx="582840" cy="229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Verdana"/>
                </a:rPr>
                <a:t>Rou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3440" y="5748480"/>
              <a:ext cx="655560" cy="14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68200" y="5734080"/>
              <a:ext cx="728640" cy="146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Switch / Hu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65400" y="5734080"/>
              <a:ext cx="1238040" cy="146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Verdana"/>
                </a:rPr>
                <a:t>Point of Pres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8880" y="3500280"/>
              <a:ext cx="581040" cy="292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Verdana"/>
                </a:rPr>
                <a:t>Point of Pres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4508640"/>
              <a:ext cx="581040" cy="2905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G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21600" y="1746720"/>
            <a:ext cx="309528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nnects school or administrative units, to regional node, v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Lease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PSTN dial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DSL (pil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chool Laborator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56000" y="1630440"/>
            <a:ext cx="6033600" cy="3166920"/>
            <a:chOff x="3456000" y="1630440"/>
            <a:chExt cx="6033600" cy="3166920"/>
          </a:xfrm>
        </p:grpSpPr>
        <p:sp>
          <p:nvSpPr>
            <p:cNvPr id="211" name=""/>
            <p:cNvSpPr/>
            <p:nvPr/>
          </p:nvSpPr>
          <p:spPr>
            <a:xfrm>
              <a:off x="4558680" y="2705040"/>
              <a:ext cx="231120" cy="597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4789800" y="2228040"/>
              <a:ext cx="4699800" cy="25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32840" y="3004200"/>
              <a:ext cx="3377160" cy="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6982560" y="3542400"/>
              <a:ext cx="53424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6183000" y="3423240"/>
              <a:ext cx="6498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8665560" y="3542400"/>
              <a:ext cx="533880" cy="4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531480" y="3004200"/>
              <a:ext cx="0" cy="41904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27000" y="3004200"/>
              <a:ext cx="0" cy="53820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10000" y="3004200"/>
              <a:ext cx="0" cy="53820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32840" y="3004200"/>
              <a:ext cx="0" cy="71784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3456000" y="1630440"/>
              <a:ext cx="1882800" cy="11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630240" y="1952280"/>
              <a:ext cx="162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PREFECTURAL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5720" y="3065040"/>
              <a:ext cx="406800" cy="71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789800" y="3064680"/>
              <a:ext cx="115920" cy="237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5242680" y="3722400"/>
              <a:ext cx="541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404040" y="243864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Verdana"/>
                </a:rPr>
                <a:t>SCHOOL LABORA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65640" y="3841200"/>
              <a:ext cx="5724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39880" y="3841200"/>
              <a:ext cx="5724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12680" y="3841200"/>
              <a:ext cx="5832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38280" y="3960360"/>
              <a:ext cx="985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CISCO 160x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92840" y="4140000"/>
              <a:ext cx="1159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Verdana"/>
                </a:rPr>
                <a:t>WINDOWS NT</a:t>
              </a:r>
              <a:r>
                <a:rPr b="1" lang="el-GR" sz="1000" spc="-1" strike="noStrike">
                  <a:solidFill>
                    <a:srgbClr val="000066"/>
                  </a:solidFill>
                  <a:latin typeface="Verdana"/>
                </a:rPr>
                <a:t>,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71560" y="2997720"/>
              <a:ext cx="10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128 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k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64520" y="4114440"/>
              <a:ext cx="178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Windows </a:t>
              </a: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’98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, Me, 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76160" y="3517920"/>
            <a:ext cx="381636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720520" y="1558440"/>
            <a:ext cx="6550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3366"/>
                </a:solidFill>
                <a:uFillTx/>
                <a:latin typeface="Verdana"/>
              </a:rPr>
              <a:t>Basic Services: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ddressing scheme and routing plan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Domain Name Service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Connectivity to the network / Dial-up service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E-mail (POP3, IMAP, web-mail)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Proxy/Cache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Web-Filtering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Web-Page Generator 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Web-Hosting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World Wide Web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Discussion Forums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Directory Service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chool Network Portal (</a:t>
            </a:r>
            <a:r>
              <a:rPr b="1" lang="en-US" sz="15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Personal Calendar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Personal Address Book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Users Administration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tatistics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Voice over IP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 algn="just">
              <a:lnSpc>
                <a:spcPct val="85000"/>
              </a:lnSpc>
              <a:spcBef>
                <a:spcPts val="374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Help-Desk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88880" y="2781360"/>
            <a:ext cx="1701720" cy="244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88520" y="43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lematic Services …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lematic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152880" y="2276280"/>
            <a:ext cx="5976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Advanced Servi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7920">
              <a:spcBef>
                <a:spcPts val="649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3366"/>
                </a:solidFill>
                <a:latin typeface="Verdana"/>
              </a:rPr>
              <a:t>Teleconference 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7920">
              <a:spcBef>
                <a:spcPts val="649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3366"/>
                </a:solidFill>
                <a:latin typeface="Verdana"/>
              </a:rPr>
              <a:t>Asynchronous Open Distance Learning 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7920">
              <a:spcBef>
                <a:spcPts val="649"/>
              </a:spcBef>
              <a:buClr>
                <a:srgbClr val="0033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3366"/>
                </a:solidFill>
                <a:latin typeface="Verdana"/>
              </a:rPr>
              <a:t>Video on Demand – VoD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majority of the above services have been developed using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en source software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8880" y="2781360"/>
            <a:ext cx="17017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vels of functionality provided by GSN</a:t>
            </a:r>
            <a:r>
              <a:rPr b="1" lang="el-GR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133720" y="1484280"/>
            <a:ext cx="570852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8520" y="1890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nectivity Progres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352520" y="1738440"/>
          <a:ext cx="6864480" cy="44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738440"/>
                    <a:ext cx="68644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nectivity Progres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49240" y="1628640"/>
          <a:ext cx="7991640" cy="3338640"/>
        </p:xfrm>
        <a:graphic>
          <a:graphicData uri="http://schemas.openxmlformats.org/drawingml/2006/table">
            <a:tbl>
              <a:tblPr/>
              <a:tblGrid>
                <a:gridCol w="2371680"/>
                <a:gridCol w="2097360"/>
                <a:gridCol w="1625400"/>
                <a:gridCol w="1897200"/>
              </a:tblGrid>
              <a:tr h="90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Level of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nected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ercentage of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Kindergart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4,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imary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4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57,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econdary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Initial vocal education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3366"/>
                          </a:solidFill>
                          <a:latin typeface="Verdana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49240" y="5386680"/>
            <a:ext cx="8425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marL="270000" indent="-2700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ore than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1.100 administrative units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 have access to GSN’s serv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ore than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8.000 teachers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 have personalized access to GSN’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53240" y="5013000"/>
            <a:ext cx="208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Updated: 1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stributed Help-Desk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16160" y="1484280"/>
            <a:ext cx="7058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service is provided to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educational units of secondary educatio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3.66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connected educational units of primary educatio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6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ll connected administrative units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gt; 1.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10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ndividual users (teachers)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gt; 8.0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0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The service is provided via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elephone: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801-11-801-81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ax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AQs at 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www.sch.gr/user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_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uppor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echnical manuals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Schedule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9.00 – 19.00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(working day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83335" t="0" r="0" b="0"/>
          <a:stretch/>
        </p:blipFill>
        <p:spPr>
          <a:xfrm>
            <a:off x="560520" y="2276640"/>
            <a:ext cx="146520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16160" y="1484280"/>
            <a:ext cx="5322960" cy="4824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lp-Desk service through web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3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user_suppo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ur agenda…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08160" y="1917360"/>
            <a:ext cx="820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roject’s scop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mplementation mod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ducational targe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etwork architecture and servic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nnectivity progres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Results of a study about children and Interne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Web-control servic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05240" y="1411200"/>
            <a:ext cx="417672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chool Portal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ussion Fora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3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orum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9240" y="1494000"/>
            <a:ext cx="4895640" cy="46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520" y="21096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860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udy: “Children and the Interne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 Greece, 2002”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16160" y="1868400"/>
            <a:ext cx="7261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urvey profile: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ear: 2002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ductor: Greek Consumers Organiz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ample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: 570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hildre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ge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: 7 – 17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ears ol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unds: ONCE &amp; CISA European projec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ange: Pan-Hellenic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im: Study of the influence of the Interne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527040" y="2421000"/>
            <a:ext cx="1403280" cy="3017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atrooms usag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07880" y="1544760"/>
          <a:ext cx="3903840" cy="247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544760"/>
                    <a:ext cx="390384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413320" y="1484280"/>
          <a:ext cx="4265640" cy="270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3320" y="1484280"/>
                    <a:ext cx="426564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33440" y="765000"/>
            <a:ext cx="639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11480" y="4067280"/>
          <a:ext cx="3981240" cy="2527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1480" y="4067280"/>
                    <a:ext cx="398124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392880" y="5158440"/>
            <a:ext cx="230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than 60% chatted with strang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age of E-commerce servi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6760" y="1546200"/>
          <a:ext cx="3970440" cy="25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46200"/>
                    <a:ext cx="3970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591160" y="1476360"/>
          <a:ext cx="3905280" cy="248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1160" y="1476360"/>
                    <a:ext cx="39052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6002000" y="219240"/>
          <a:ext cx="7877160" cy="5143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0" y="21924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6116480" y="5686560"/>
          <a:ext cx="7877160" cy="5143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16480" y="568656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4041160" y="324000"/>
          <a:ext cx="7877160" cy="51433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41160" y="32400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6218000" y="434880"/>
          <a:ext cx="7877160" cy="514368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18000" y="43488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6332120" y="5902200"/>
          <a:ext cx="7877160" cy="5143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332120" y="590220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4257160" y="539640"/>
          <a:ext cx="7877160" cy="5143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57160" y="53964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6433640" y="650880"/>
          <a:ext cx="7877160" cy="51433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433640" y="650880"/>
                    <a:ext cx="7877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6548120" y="6118200"/>
          <a:ext cx="7877160" cy="514368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548120" y="611820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4472800" y="755640"/>
          <a:ext cx="7877160" cy="514368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472800" y="755640"/>
                    <a:ext cx="78771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500200" y="4067280"/>
          <a:ext cx="3969000" cy="251928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00200" y="4067280"/>
                    <a:ext cx="39690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433440" y="765000"/>
            <a:ext cx="61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arents’ Behavi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21240" y="1773360"/>
          <a:ext cx="5184720" cy="33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1773360"/>
                    <a:ext cx="51847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27080" y="1816200"/>
          <a:ext cx="5113080" cy="334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80" y="1816200"/>
                    <a:ext cx="51130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33440" y="765000"/>
            <a:ext cx="61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ildren’ Behavi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55640" y="1709640"/>
          <a:ext cx="666432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709640"/>
                    <a:ext cx="66643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433440" y="765000"/>
            <a:ext cx="639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eb destination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30120" y="1703520"/>
          <a:ext cx="4319640" cy="26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703520"/>
                    <a:ext cx="431964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5735520" y="1692360"/>
          <a:ext cx="3881520" cy="246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5520" y="1692360"/>
                    <a:ext cx="38815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86280" y="3998880"/>
          <a:ext cx="4095720" cy="260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3998880"/>
                    <a:ext cx="40957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433440" y="765000"/>
            <a:ext cx="6313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5440" y="4428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lf-protection abilit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424160" y="1608120"/>
          <a:ext cx="695160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608120"/>
                    <a:ext cx="69516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433440" y="765000"/>
            <a:ext cx="608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Survey: “Children and the Internet in Greece”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8240" y="1890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tent Control Techniqu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0160" y="1484280"/>
            <a:ext cx="885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Keyword Bloc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sitive &amp; Negative List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tent Labeling &amp; Rating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4880" y="1484280"/>
            <a:ext cx="684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Main Objectives: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create the national networking infrastructure,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connect all schools in an educational Intranet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provide and support advanced telematic servic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mplemented with the collaboration of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he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Ministry of Education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and Religious Affairs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(MoE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Research Centres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(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Universities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(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echnological Educational Institutes (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The GSN planning, implementation and operation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s in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accord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nce with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the EC polici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inanced by the Second and Third Community Support Framework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(~35 MEuro in 1999 - 200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8880" y="2565360"/>
            <a:ext cx="16938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 Control -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ntent Categori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20880" y="1555920"/>
            <a:ext cx="8496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SN’s blacklist database classe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rnography (Category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rn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rugs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rug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olence and hate 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iolenc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ggressive behaviour &amp; racism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ggressiv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ambling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Gambling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vertising Material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Ad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about hacking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acking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about access codes in programs without legal permission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Warez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3366"/>
                </a:solidFill>
                <a:latin typeface="Verdana"/>
              </a:rPr>
              <a:t>*</a:t>
            </a:r>
            <a:r>
              <a:rPr b="0" i="1" lang="el-G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Blocked in the Greek School Network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 are marked the most critical categories for a school environment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6600" y="13824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mplementation issu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5240" y="1773000"/>
            <a:ext cx="808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The blacklist is collected by a “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Verdana"/>
              </a:rPr>
              <a:t>dumb robot”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Automatic update of blacklist on a monthly bas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More than 100.000 URLs are “blacklisted”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Parametric control (according Time, IP or UserId base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Recording and reporting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Selective logging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mmunication with administrator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7360" y="75960"/>
            <a:ext cx="685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311560" y="1557000"/>
            <a:ext cx="7178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uccessful implementation of the project due to the collaboration among MoE, Universities, Research Centers, GRnet and school communiti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oE develops the national intranet of primary and secondary educatio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ploitation of the Universities’ know-how in the network design and implement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ploitation of national infrastructures (e.g.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Rnet</a:t>
            </a:r>
            <a:r>
              <a:rPr b="0" lang="el-GR" sz="20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st effective operation compared to ISP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wide range of services provided to the user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reation of an environment for the deployment of ICT in educ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reation of the necessary conditions for the development of educational cont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158760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584280" y="1484280"/>
            <a:ext cx="8858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r your attention!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r further information please look at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www.sch.gr/index_en.php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(English pages)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www.sch.gr/index_de.php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(German page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my webpage at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http://comet.cti.gr/~mparask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r contact to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mparask@cti.gr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07960" y="333720"/>
            <a:ext cx="4952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ank you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sortiu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4887" t="0" r="35461" b="0"/>
          <a:stretch/>
        </p:blipFill>
        <p:spPr>
          <a:xfrm>
            <a:off x="488880" y="1501920"/>
            <a:ext cx="4818240" cy="487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15645" t="0" r="29762" b="16576"/>
          <a:stretch/>
        </p:blipFill>
        <p:spPr>
          <a:xfrm>
            <a:off x="4664160" y="155736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 model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s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ur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16160" y="1771560"/>
            <a:ext cx="6913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The secondary education networking in accordance with the e-Europe plann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Uniform coverage of all geographic area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Strengthening of collaborations among all levels of educatio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Every day support of schools offered by the local institutions 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Transfer of know-how to the Ministry of Educ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Viability of infrastructures and servic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8880" y="2637000"/>
            <a:ext cx="152568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reek School Network Organiza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65240" y="1557360"/>
            <a:ext cx="1809720" cy="1837800"/>
            <a:chOff x="1965240" y="1557360"/>
            <a:chExt cx="1809720" cy="1837800"/>
          </a:xfrm>
        </p:grpSpPr>
        <p:grpSp>
          <p:nvGrpSpPr>
            <p:cNvPr id="120" name=""/>
            <p:cNvGrpSpPr/>
            <p:nvPr/>
          </p:nvGrpSpPr>
          <p:grpSpPr>
            <a:xfrm>
              <a:off x="1965240" y="1557360"/>
              <a:ext cx="1809720" cy="1457280"/>
              <a:chOff x="1965240" y="1557360"/>
              <a:chExt cx="1809720" cy="1457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965240" y="1557360"/>
                <a:ext cx="1809720" cy="60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Steering Committ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(SC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03400" y="2460960"/>
                <a:ext cx="1765800" cy="55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Technical Committee (T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00800" y="2160000"/>
                <a:ext cx="192600" cy="300960"/>
              </a:xfrm>
              <a:prstGeom prst="upDownArrow">
                <a:avLst>
                  <a:gd name="adj1" fmla="val 50000"/>
                  <a:gd name="adj2" fmla="val 3110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00800" y="3014640"/>
              <a:ext cx="170640" cy="380520"/>
            </a:xfrm>
            <a:prstGeom prst="upDownArrow">
              <a:avLst>
                <a:gd name="adj1" fmla="val 50000"/>
                <a:gd name="adj2" fmla="val 443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81240" y="4830840"/>
            <a:ext cx="1377720" cy="806400"/>
            <a:chOff x="1281240" y="4830840"/>
            <a:chExt cx="1377720" cy="806400"/>
          </a:xfrm>
        </p:grpSpPr>
        <p:sp>
          <p:nvSpPr>
            <p:cNvPr id="126" name="Cloud"/>
            <p:cNvSpPr/>
            <p:nvPr/>
          </p:nvSpPr>
          <p:spPr>
            <a:xfrm>
              <a:off x="1281240" y="4830840"/>
              <a:ext cx="137772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86440" y="4977360"/>
              <a:ext cx="10332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12880" y="3789360"/>
            <a:ext cx="57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92240" y="427680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52680" y="5415120"/>
            <a:ext cx="1378080" cy="806400"/>
            <a:chOff x="2452680" y="5415120"/>
            <a:chExt cx="1378080" cy="806400"/>
          </a:xfrm>
        </p:grpSpPr>
        <p:sp>
          <p:nvSpPr>
            <p:cNvPr id="131" name="Cloud"/>
            <p:cNvSpPr/>
            <p:nvPr/>
          </p:nvSpPr>
          <p:spPr>
            <a:xfrm>
              <a:off x="2452680" y="5415120"/>
              <a:ext cx="137808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59320" y="5561640"/>
              <a:ext cx="10335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92520" y="3789360"/>
            <a:ext cx="5778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1720" y="427500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68640" y="4830840"/>
            <a:ext cx="1378080" cy="806400"/>
            <a:chOff x="3968640" y="4830840"/>
            <a:chExt cx="1378080" cy="806400"/>
          </a:xfrm>
        </p:grpSpPr>
        <p:sp>
          <p:nvSpPr>
            <p:cNvPr id="136" name="Cloud"/>
            <p:cNvSpPr/>
            <p:nvPr/>
          </p:nvSpPr>
          <p:spPr>
            <a:xfrm>
              <a:off x="3968640" y="4830840"/>
              <a:ext cx="1378080" cy="806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5280" y="4977360"/>
              <a:ext cx="10335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agement Area 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232160" y="3789360"/>
            <a:ext cx="7034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57680" y="4275000"/>
            <a:ext cx="0" cy="5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1800" y="3429000"/>
            <a:ext cx="4002120" cy="882720"/>
            <a:chOff x="631800" y="3429000"/>
            <a:chExt cx="4002120" cy="882720"/>
          </a:xfrm>
        </p:grpSpPr>
        <p:sp>
          <p:nvSpPr>
            <p:cNvPr id="141" name=""/>
            <p:cNvSpPr/>
            <p:nvPr/>
          </p:nvSpPr>
          <p:spPr>
            <a:xfrm>
              <a:off x="631800" y="3807360"/>
              <a:ext cx="6156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960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9600" y="3429000"/>
              <a:ext cx="369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560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9456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33920" y="34290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84880" y="1557000"/>
            <a:ext cx="4248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Steering Committe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Strategy and decis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Technical Committe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Technical recommendations, responsibility for proper oper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Central Management Entity (CME):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level helpdesk, coordination of M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Management Entities (ME)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level helpdesk, area management, deploy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3440160" y="40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720" bIns="-457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reas of Responsibilit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73360" y="1484280"/>
            <a:ext cx="64306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9063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ducational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44880" y="1699920"/>
            <a:ext cx="72007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 a networked environment which supports the educational proce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omote the collaboration between geographically distributed group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access to digital libraries and cont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flexible search in a certified cont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upport creation and distribution of presentations, seminars and lectures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communication with academic institu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Aft>
                <a:spcPts val="1001"/>
              </a:spcAft>
              <a:buClr>
                <a:srgbClr val="00006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ffer communication with international educational institutions, etc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527040" y="2421000"/>
            <a:ext cx="1403280" cy="3017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8520" y="228600"/>
            <a:ext cx="90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etwork Architectur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81240" y="2637000"/>
            <a:ext cx="8208360" cy="3455640"/>
            <a:chOff x="1281240" y="2637000"/>
            <a:chExt cx="8208360" cy="3455640"/>
          </a:xfrm>
        </p:grpSpPr>
        <p:sp>
          <p:nvSpPr>
            <p:cNvPr id="156" name=""/>
            <p:cNvSpPr/>
            <p:nvPr/>
          </p:nvSpPr>
          <p:spPr>
            <a:xfrm>
              <a:off x="6274800" y="5055120"/>
              <a:ext cx="1586160" cy="43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461560" y="3938400"/>
              <a:ext cx="0" cy="456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199200" y="4320720"/>
              <a:ext cx="735840" cy="383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867360" y="3862440"/>
              <a:ext cx="669600" cy="30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1281240" y="3404160"/>
              <a:ext cx="2607120" cy="16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384920" y="3975480"/>
              <a:ext cx="239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Backbon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WW.GRNET.G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193280" y="4321080"/>
              <a:ext cx="2168280" cy="14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08920" y="4796640"/>
              <a:ext cx="187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Prefectura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4392360" y="2637000"/>
              <a:ext cx="2517120" cy="14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644360" y="3120480"/>
              <a:ext cx="205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Administration 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67360" y="4169880"/>
              <a:ext cx="67680" cy="150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309000" y="5215680"/>
              <a:ext cx="1579680" cy="195480"/>
              <a:chOff x="6309000" y="5215680"/>
              <a:chExt cx="1579680" cy="1954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09000" y="5215680"/>
                <a:ext cx="832680" cy="4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0080" y="5387400"/>
                <a:ext cx="768600" cy="23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120080" y="5220360"/>
                <a:ext cx="21600" cy="167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791880" y="4549680"/>
              <a:ext cx="666360" cy="154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7378560" y="3055680"/>
              <a:ext cx="1710000" cy="12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7613640" y="4618800"/>
              <a:ext cx="1708920" cy="12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7692120" y="4868640"/>
              <a:ext cx="1710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62240" y="5191560"/>
              <a:ext cx="1827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School Labora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58600" y="4955760"/>
              <a:ext cx="999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080" bIns="4608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-16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87400" y="4021920"/>
              <a:ext cx="936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46240" y="3406680"/>
              <a:ext cx="15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ial-up </a:t>
              </a: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87600" y="4185360"/>
              <a:ext cx="1642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3-128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83440" y="5486040"/>
              <a:ext cx="164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64-128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63720" y="4740840"/>
              <a:ext cx="1641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28-512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76160" y="1470600"/>
            <a:ext cx="83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hree level hierarch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Distribu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ccess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8T11:50:57Z</dcterms:created>
  <dc:creator/>
  <dc:description/>
  <dc:language>en-US</dc:language>
  <cp:lastModifiedBy>Paraskevas Michael</cp:lastModifiedBy>
  <cp:lastPrinted>2000-07-13T12:35:53Z</cp:lastPrinted>
  <dcterms:modified xsi:type="dcterms:W3CDTF">2003-05-30T09:38:40Z</dcterms:modified>
  <cp:revision>332</cp:revision>
  <dc:subject/>
  <dc:title>The Greek School Network www.sch.gr</dc:title>
</cp:coreProperties>
</file>