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46.png" ContentType="image/png"/>
  <Override PartName="/ppt/media/image38.png" ContentType="image/png"/>
  <Override PartName="/ppt/media/image36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62F-3A22-408F-9FF0-D93B91D7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4D2-ABF5-4967-B52F-35CDA330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17C-D2C3-41A0-AC87-8D03BD91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4B2-D2ED-4DC7-884D-05A2266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AAA-411B-4421-BFA7-FE87176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A1B-BBD5-4AD3-A6E1-1BE8C8D8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AFD-C8F0-4C19-B3FE-C9AABA8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094-4D2F-4579-8230-39F6B242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B2C-2E4E-4F08-983A-C151E55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5DA-5B75-44B8-8A84-36321FA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58B-12E4-4C16-BCAE-97C58DA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EC4-A400-4D7B-9B45-A1BB4CC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infosociety.gr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F16-D472-4C78-9AFA-59A9248AC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36360" y="-27000"/>
            <a:ext cx="9216720" cy="6884640"/>
            <a:chOff x="-36360" y="-27000"/>
            <a:chExt cx="9216720" cy="6884640"/>
          </a:xfrm>
        </p:grpSpPr>
        <p:pic>
          <p:nvPicPr>
            <p:cNvPr id="6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2471760" y="-27000"/>
              <a:ext cx="67086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>
              <a:lum bright="6000"/>
            </a:blip>
            <a:srcRect l="0" t="0" r="75317" b="0"/>
            <a:stretch/>
          </p:blipFill>
          <p:spPr>
            <a:xfrm>
              <a:off x="969840" y="-27000"/>
              <a:ext cx="165744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>
              <a:lum bright="6000"/>
            </a:blip>
            <a:srcRect l="2158" t="0" r="75317" b="0"/>
            <a:stretch/>
          </p:blipFill>
          <p:spPr>
            <a:xfrm>
              <a:off x="-36360" y="-27000"/>
              <a:ext cx="1512720" cy="68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>
            <a:off x="611280" y="6622920"/>
            <a:ext cx="46083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66"/>
                </a:solidFill>
                <a:latin typeface="Verdana"/>
                <a:ea typeface="Arial"/>
              </a:rPr>
              <a:t>1</a:t>
            </a:r>
            <a:r>
              <a:rPr b="0" lang="el-GR" sz="1200" spc="-1" strike="noStrike" baseline="30000">
                <a:solidFill>
                  <a:srgbClr val="000066"/>
                </a:solidFill>
                <a:latin typeface="Verdana"/>
                <a:ea typeface="Arial"/>
              </a:rPr>
              <a:t>ο</a:t>
            </a:r>
            <a:r>
              <a:rPr b="0" lang="el-GR" sz="1200" spc="-1" strike="noStrike">
                <a:solidFill>
                  <a:srgbClr val="000066"/>
                </a:solidFill>
                <a:latin typeface="Verdana"/>
                <a:ea typeface="Arial"/>
              </a:rPr>
              <a:t> Συνέδριο ΕΕΠΕ – ΔΤΠΕ, Αθήνα, 16 Οκτωβρίου 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164360" y="6362640"/>
            <a:ext cx="1944720" cy="423720"/>
            <a:chOff x="7164360" y="6362640"/>
            <a:chExt cx="1944720" cy="423720"/>
          </a:xfrm>
        </p:grpSpPr>
        <p:pic>
          <p:nvPicPr>
            <p:cNvPr id="11" name="" descr="Κοινωνία της Πληροφορίας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164360" y="6362640"/>
              <a:ext cx="58752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8489880" y="6414840"/>
              <a:ext cx="6192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8"/>
            <a:stretch/>
          </p:blipFill>
          <p:spPr>
            <a:xfrm>
              <a:off x="7880400" y="6414840"/>
              <a:ext cx="60948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" name="ethnosimo" descr=""/>
          <p:cNvPicPr/>
          <p:nvPr/>
        </p:nvPicPr>
        <p:blipFill>
          <a:blip r:embed="rId9"/>
          <a:stretch/>
        </p:blipFill>
        <p:spPr>
          <a:xfrm>
            <a:off x="108000" y="17640"/>
            <a:ext cx="695160" cy="6951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738360"/>
            <a:ext cx="9716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Verdana"/>
                <a:ea typeface="Arial"/>
              </a:rPr>
              <a:t>ΥΠΕΠ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885080" y="-2700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aettenschweiler"/>
                <a:ea typeface="Arial"/>
              </a:rPr>
              <a:t>Sch.g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10"/>
          <a:stretch/>
        </p:blipFill>
        <p:spPr>
          <a:xfrm>
            <a:off x="-36360" y="6021360"/>
            <a:ext cx="65376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parask@cti.gr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.gr/lists" TargetMode="External"/><Relationship Id="rId2" Type="http://schemas.openxmlformats.org/officeDocument/2006/relationships/hyperlink" Target="http://www.sch.gr/lists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.gr/e-learni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ch.gr/con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.gr/vod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ch.gr/im/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.gr/news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nfo@sch.gr" TargetMode="External"/><Relationship Id="rId2" Type="http://schemas.openxmlformats.org/officeDocument/2006/relationships/hyperlink" Target="mailto:mparask@cti.gr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gister.sch.gr/browser/anonymous_frameset.html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Τηλεματικές Υπηρεσίες για την Πρωτοβάθμια Εκπαίδευση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645000"/>
            <a:ext cx="76676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0000"/>
                </a:solidFill>
                <a:latin typeface="Tahoma"/>
                <a:ea typeface="Arial"/>
              </a:rPr>
              <a:t>Δρ. Μιχάλης Παρασκευάς</a:t>
            </a:r>
            <a:br>
              <a:rPr sz="2000"/>
            </a:br>
            <a:r>
              <a:rPr b="1" lang="el-GR" sz="2000" spc="-1" strike="noStrike">
                <a:solidFill>
                  <a:srgbClr val="cc0000"/>
                </a:solidFill>
                <a:latin typeface="Tahoma"/>
                <a:ea typeface="Arial"/>
              </a:rPr>
              <a:t>Τεχνικός Υπεύθυνος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  <a:ea typeface="Arial"/>
              </a:rPr>
              <a:t> </a:t>
            </a:r>
            <a:r>
              <a:rPr b="1" lang="el-GR" sz="2000" spc="-1" strike="noStrike">
                <a:solidFill>
                  <a:srgbClr val="cc0000"/>
                </a:solidFill>
                <a:latin typeface="Tahoma"/>
                <a:ea typeface="Arial"/>
              </a:rPr>
              <a:t>Πανελλήνιου Σχολικού Δικτύ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Tahoma"/>
                <a:ea typeface="Arial"/>
              </a:rPr>
              <a:t>Ερευνητικό Ακαδημαϊκό Ινστιτούτο Τεχνολογίας Υπολογιστών (ΕΑΙΤ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cc0000"/>
                </a:solidFill>
                <a:latin typeface="Tahoma"/>
                <a:ea typeface="Arial"/>
              </a:rPr>
              <a:t>Γραφείο για την Κοινωνία της Πληροφορίας ΥπΕΠ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Arial"/>
                <a:hlinkClick r:id="rId1"/>
              </a:rPr>
              <a:t>mparask@cti.gr</a:t>
            </a:r>
            <a:r>
              <a:rPr b="1" lang="el-GR" sz="1600" spc="-1" strike="noStrike" u="sng">
                <a:solidFill>
                  <a:srgbClr val="cc0000"/>
                </a:solidFill>
                <a:uFillTx/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69480"/>
            <a:ext cx="720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333399"/>
                </a:solidFill>
                <a:latin typeface="Tahoma"/>
              </a:rPr>
              <a:t>Λίστες Ηλεκτρονικού Ταχυδρομείου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41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Υπηρεσία ηλεκτρονικών λιστών επικοινωνίας με δυνατότητε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υναμικές – Στατικές – Διαχειριστικές – «Βήματα Διαλόγου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όσβαση για  πιστοποιημένους χρήστες από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ch.gr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/lis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ξελιγμένο περιβάλλον διαχείρι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Ιστορικό μηνυμάτ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Έλεγχος μηνυμάτων και συνημμέν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σθήκη επικεφαλίδων και φίλτρ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Έλεγχος αποστολής μηνυμάτ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221000"/>
            <a:ext cx="583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05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Χώροι Συζητήσεω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υπηρεσία των χώρων συζητήσεων προσφέρει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όσβαση μόνο στα πιστοποιημένα μέλ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Κατηγοριοποιημένη θεματική διάθρω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υγκεκριμένοι όροι χρήσης για την προστασία των χρηστών του Π.Σ.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αρμογή των Ομάδων Συζητήσεων στα προσωπικά ενδιαφέροντα του χρήστ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181" t="3695" r="0" b="0"/>
          <a:stretch/>
        </p:blipFill>
        <p:spPr>
          <a:xfrm>
            <a:off x="684360" y="4005360"/>
            <a:ext cx="611964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05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α Τηλεκπαίδευ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360" y="1152000"/>
            <a:ext cx="485928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 υπηρεσία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ασύγχρονης τηλεκπαίδευσης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παρέχει και υποστηρίζε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ατηγορίες χρηστών (δάσκαλοι, μαθητές, διαχειριστές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αθήματα (κατηγορίες, ενότητες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δηγός δημιουργίας μαθήματο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μερολόγι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πίλυση αποριών (γνωσιακή βάση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κπαιδευτικό προφί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ύστημα βαθμολογίας εκπαιδευόμεν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στολή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σωπικά μηνύματα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ύστημα διαχείρισης περιεχομένο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761" t="0" r="0" b="0"/>
          <a:stretch/>
        </p:blipFill>
        <p:spPr>
          <a:xfrm>
            <a:off x="179280" y="1916280"/>
            <a:ext cx="4068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0920"/>
            <a:ext cx="6805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Πολυμέσω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πηρεσία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τηλεδιασκέψε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ηλεδιάσκεψη μεταξύ δύο χρηστ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ηλεδιάσκεψη μεταξύ περισσοτέρων χρηστ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394080" cy="3322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93552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6805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Πολυμέσω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3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Υπηρεσία </a:t>
            </a:r>
            <a:r>
              <a:rPr b="0" lang="el-GR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Βίντεο κατ΄ απαίτηση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πευθύνεται σε εκπαιδευτικούς, μαθητές και εκπαιδευτικούς φορεί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Χαρακτηριστικ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ιάθεση πολυμεσικού υλικού σε μορφή βίντε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Ψηφιοποίηση βίντε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ξινόμηση υλικού ανά κατηγορί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Ζωντανές μεταδόσει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602" t="0" r="6231" b="0"/>
          <a:stretch/>
        </p:blipFill>
        <p:spPr>
          <a:xfrm>
            <a:off x="179280" y="1557360"/>
            <a:ext cx="4392720" cy="209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16265" t="0" r="23615" b="0"/>
          <a:stretch/>
        </p:blipFill>
        <p:spPr>
          <a:xfrm>
            <a:off x="1042920" y="3860640"/>
            <a:ext cx="345600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44280"/>
            <a:ext cx="69501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333399"/>
                </a:solidFill>
                <a:latin typeface="Tahoma"/>
              </a:rPr>
              <a:t>Υπηρεσία Άμεσου Μηνύματος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66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υπηρεσία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άμεσου μηνύματος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σφέρε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νταλλαγή γραπτών μηνυμάτ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υζήτηση μεταξύ δύο ή και περισσοτέρων χρηστών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ργάνωση λίστας επαφών, αναζήτηση επαφ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λοκλήρωση της υπηρεσίας βίντεο μέσα από τον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b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534120" cy="253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716280"/>
            <a:ext cx="2087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6805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Ενημέρω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ια την ενημέρωση των εκπαιδευτικών &amp; μαθητών η δικτυακή πύλη προσφέρει τις ακόλουθες υπηρεσίε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λεκτρονικά περιοδικά, π.χ.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-Magazin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Νέα (ανά κατηγορίες και γενικά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νημέρωση για κάθε νέα υπηρεσία της δικτυακής πύλη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βολή σημαντικών πληροφοριών (που αφορούν τους χρήστες της δικτυακής πύλης) σε ειδικό χώρ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6805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Ηλεκτρονικά Περιοδικ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53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λεκτρονικό περιοδικό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-Magazin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ημοσίευση τευχών ανά τακτά χρονικά διαστήματ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ημοσίευση κάθε τεύχους στο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ργάνωση των άρθρων σε θεματικές ενότητ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ξελιγμένο περιβάλλον διαχείρισης άρθρ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στολή του περιοδικού μέσ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mai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υνατότητα άμεσης εκτύπωσης κάθε άρθρο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687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0580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α Ανακοινώσεω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ροβολή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νέ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ι επίσημοι λογαριασμοί μονάδων καταχωρούν άμεσα τις ανακοινώσεις του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μβέλεια ανακοίνωση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βολή νέων ανά κατηγορίες για ευκολότερη ενημέρωση των χρηστ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1807" b="0"/>
          <a:stretch/>
        </p:blipFill>
        <p:spPr>
          <a:xfrm>
            <a:off x="684360" y="3789360"/>
            <a:ext cx="5830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0920"/>
            <a:ext cx="6805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ελίδες της εκπαίδευ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έσω των </a:t>
            </a:r>
            <a:r>
              <a:rPr b="0" lang="el-GR" sz="2000" spc="-1" strike="noStrike">
                <a:solidFill>
                  <a:srgbClr val="ff0000"/>
                </a:solidFill>
                <a:latin typeface="Tahoma"/>
              </a:rPr>
              <a:t>«σελίδων της εκπαίδευσης»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οι επισκέπτες μπορούν να αναζητήσουν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Ιστοσελίδες μονάδων που φιλοξενούνται στο Π.Σ.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Ιστοσελίδες εκπαιδευτικών που φιλοξενούνται στο Π.Σ.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ξωτερικούς δικτυακούς τόπους μονάδων ή και εκπαιδευτικώ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ατηγοριοποίηση δικτυακών τόπων για ευκολότερη αναζήτηση τους (θεματικός κατάλογος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ηχανισμός αναζήτησης ιστοσελίδων μονάδω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αρουσίαση ιστοσελίδων βάση βαθμολογίας από τους επισκέπτ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υνατότητα στους χρήστες να διαφημίζουν τις ιστοσελίδες που έχουν στο Π.Σ.Δ. για αύξηση της επισκεψιμότητας των σελίδων του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6240"/>
            <a:ext cx="69850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Πανελλήνιο Σχολικό Δίκτυο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Tahoma"/>
              </a:rPr>
              <a:t>Κύριοι Στόχοι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Δημιουργία δικτυακού κορμο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Διασύνδεση όλων των σχολείων στο εκπαιδευτικό δίκτυ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Ανάπτυξη, παροχή &amp; υποστήριξη τηλεματικών υπηρεσι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Υποστήριξη / εκπαίδευση χρηστών στη χρήση των υπηρεσι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Tahoma"/>
              </a:rPr>
              <a:t>Υλοποιείται με τη συνεργασία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Υπουργείου Εθνικής Παιδείας και Θρησκευμάτ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ρευνητικών Κέντρων, 8 Πανεπιστημίων και 2 Τεχνολογικών Εκπαιδευτικών Ιδρυμάτ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Κέντρα Αριστείας - 2 βραβεί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Practic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σε διεθνές επίπεδ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77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ελίδες της εκπαίδευ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63640" y="1267920"/>
            <a:ext cx="3173400" cy="26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Λίστα ιστοσελίδων μονάδων και εκπαιδευτικών που φιλοξενούνται στο Π.Σ.Δ. – Δυνατότητα αναζήτηση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46440" cy="2129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938760" cy="194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48360" y="4046400"/>
            <a:ext cx="3744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77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ελίδες της εκπαίδευ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64000" y="1628640"/>
            <a:ext cx="345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αρουσίαση δικτυακών τόπων που προτείνουν οι χρήστες (ανήκουν στο Π.Σ.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αρουσίαση δικτυακών τόπων του Π.Σ.Δ. με βάση την βαθμολογία τους από τους χρήστε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867120"/>
            <a:ext cx="5184720" cy="1722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635120"/>
            <a:ext cx="51660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6805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ελίδες της εκπαίδευ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7640" y="3860640"/>
            <a:ext cx="4032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ξωτερικοί δικτυακοί τόποι σχολικών μονάδων ή εκπαιδευτικών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αρουσία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Καταχώρη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ναζήτηση μέσω χάρτ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584520" cy="238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79400" y="4076640"/>
            <a:ext cx="37213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68058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Οδηγίες για τους χρήστε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676764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δηγίες λειτουργίας για όλες τις υπηρεσίες που παρέχει το Π.Σ.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040360" cy="2806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41277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6877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τατιστικά Χρήση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ατιστικά μολυσμένων μηνυμάτ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τατιστικά κίνησης δικτύ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4032360" cy="163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610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05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από το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yS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ιαχείριση του λογαριασμού κάθε χρήστ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λλαγή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μυστικής ερώτηση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ωπικά στατιστικά για κάθε χρήστη (στατιστικά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χρήσης σύνδεση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2040"/>
            <a:ext cx="3430440" cy="222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3727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0580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από το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yS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ιαχείριση ρυθμίσεων δικτυακού τόπ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ρισμό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word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ι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εριγραφή ιστοσελίδας (για μονάδες και εκπαιδευτικού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Στοιχεία δικτυακού τόπου κάθε χρήστ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762360" cy="2162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67280" y="4076640"/>
            <a:ext cx="35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44280"/>
            <a:ext cx="69501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από το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yS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71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ημιουργία ιστοσελίδων που φιλοξενούνται σε χώρους του Π.Σ.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ρεις διαφορετικοί τρόποι δημιουργία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Άμεση δημοσίευ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ναλυτικές οδηγίες για την δημιουργία των ιστοσελίδ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720" y="3429000"/>
            <a:ext cx="5688000" cy="2486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13823" r="37384" b="3163"/>
          <a:stretch/>
        </p:blipFill>
        <p:spPr>
          <a:xfrm>
            <a:off x="6300720" y="3284640"/>
            <a:ext cx="2611440" cy="28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-1440"/>
            <a:ext cx="6805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Υπηρεσίες από το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yS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εριοχή όπου μπορεί να βλέπει προσαρμοσμένα νέα στις απαιτήσεις τ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εριοχή δημιουργίας και φύλαξης αγαπημένων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vorite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960720" cy="2192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3468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-1440"/>
            <a:ext cx="687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Προσωποποιημένη Σελίδ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4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ύνθεση σελίδας για κάθε χρήστη με δικές του επιλογές από το περιεχόμενο της δικτυακής πύλ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78040" y="1989000"/>
            <a:ext cx="60703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Δικτυακή</a:t>
            </a:r>
            <a:r>
              <a:rPr b="0" lang="el-G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Πύλη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Η νέα, ανανεωμένη δικτυακή πύλη του Πανελλήνιου Σχολικού Δικτύ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4966" t="0" r="5124" b="0"/>
          <a:stretch/>
        </p:blipFill>
        <p:spPr>
          <a:xfrm>
            <a:off x="755640" y="2997360"/>
            <a:ext cx="561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ας ευχαριστώ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Ερωτήσεις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fo@sch.g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parask@cti.g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58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Χρησιμοποίηση νέων τεχνολογιών για την κατασκευή τη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Ομαδοποίηση των υπηρεσιών του Π.Σ.Δ. μέσα στη δικτυακή πύλη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Παροχή καινούργιων υπηρεσιών προς τους εκπαιδευτικούς όλων των βαθμίδω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Παροχή υπηρεσιών προς τους διαχειριστές του Π.Σ.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Παροχή ενημέρωσης προς τους εκπαιδευτικούς, μαθητές και γονεί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150560" y="115560"/>
            <a:ext cx="66610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Δικτυακή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Πύλ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77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ahoma"/>
              </a:rPr>
              <a:t>Διαδικασία Εγγραφή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Εγγραφή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εκπαιδευτικών για την παροχή υπηρεσιών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Βασικότερες υπηρεσίε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λεκτρονικό Ταχυδρομείο και Οργάνω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μάδες Συζητήσεων, Βίντεο, Άμεσο Μήνυμ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σύγχρονη Τηλεκπαίδευση, Νέα και Ενημέρω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Τηλεδιάσκεψη, Λίστες Ηλεκτρονικού Ταχυδρομεί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3684" r="26267" b="13772"/>
          <a:stretch/>
        </p:blipFill>
        <p:spPr>
          <a:xfrm>
            <a:off x="2556000" y="3645000"/>
            <a:ext cx="3457440" cy="289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386080" cy="2120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1522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6877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Ηλεκτρονικό Ταχυδρομείο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πηρεσία ηλεκτρονικού ταχυδρομείου και οργάνω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λεκτρονικό Ταχυδρομείο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P3, IMAP, web-mai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Ημερολόγιο, Βιβλίο Διευθύνσεων, Λίστα Εργασιών, Σημειώσει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ναλυτικές οδηγίες χρήσης των υπηρεσιώ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151" t="2602" r="0" b="0"/>
          <a:stretch/>
        </p:blipFill>
        <p:spPr>
          <a:xfrm>
            <a:off x="324000" y="3213000"/>
            <a:ext cx="6262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4280"/>
            <a:ext cx="6877080" cy="6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Ηλεκτρονικό Ταχυδρομείο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98100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ξελιγμένες δυνατότητες υπηρεσία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σφαλής αποστολή και λήψη αλληλογραφίας με κρυπτογράφηση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εγάλο μέγεθος γραμματοκιβωτίο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B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ια σχολικές μονάδε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B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ια εκπαιδευτικού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B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ια μαθητέ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Εναλλακτική διεύθυνσ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ώθηση αλληλογραφίας σε άλλη διεύθυνσ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Αποστολή μηνυμάτων με έλεγχο ταυτότητας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TP Authentication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τασία από ιούς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viru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Προστασία από απρόκλητη  αλληλογραφία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spamming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(επιλογή του χρήστ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image1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179280" y="2205000"/>
            <a:ext cx="3092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8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Ενεργοί Λογαριασμοί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-mai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788000" y="3357720"/>
          <a:ext cx="4176720" cy="2638440"/>
        </p:xfrm>
        <a:graphic>
          <a:graphicData uri="http://schemas.openxmlformats.org/drawingml/2006/table">
            <a:tbl>
              <a:tblPr/>
              <a:tblGrid>
                <a:gridCol w="2790720"/>
                <a:gridCol w="1386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εργοί Λογαριασμοί Ηλεκτρονικού Ταχυδρομείο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4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ονάδες   Πρωτοβάθμ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ονάδες Δευτεροβάθμ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ονάδες Μεταδευτεροβάθμ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κπαιδευτικο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αθητέ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οιπο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ΥΝΟΛ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1"/>
          <a:srcRect l="0" t="0" r="22059" b="0"/>
          <a:stretch/>
        </p:blipFill>
        <p:spPr>
          <a:xfrm>
            <a:off x="0" y="1413000"/>
            <a:ext cx="568800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6805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Tahoma"/>
              </a:rPr>
              <a:t>Στατιστικά Χρήσης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-mai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341" t="0" r="6687" b="0"/>
          <a:stretch/>
        </p:blipFill>
        <p:spPr>
          <a:xfrm>
            <a:off x="3564000" y="3213000"/>
            <a:ext cx="5400720" cy="301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14042" t="0" r="25088" b="0"/>
          <a:stretch/>
        </p:blipFill>
        <p:spPr>
          <a:xfrm>
            <a:off x="179280" y="1197000"/>
            <a:ext cx="41767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8:11:29Z</dcterms:created>
  <dc:creator>ksypolit</dc:creator>
  <dc:description/>
  <dc:language>en-US</dc:language>
  <cp:lastModifiedBy>Michael Paraskevas</cp:lastModifiedBy>
  <dcterms:modified xsi:type="dcterms:W3CDTF">2004-10-16T20:42:07Z</dcterms:modified>
  <cp:revision>96</cp:revision>
  <dc:subject/>
  <dc:title>Δικτυακή Πύλη</dc:title>
</cp:coreProperties>
</file>