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6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31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34.png" ContentType="image/png"/>
  <Override PartName="/ppt/media/image10.wmf" ContentType="image/x-wmf"/>
  <Override PartName="/ppt/media/image35.png" ContentType="image/png"/>
  <Override PartName="/ppt/media/image18.wmf" ContentType="image/x-wmf"/>
  <Override PartName="/ppt/media/image20.wmf" ContentType="image/x-wmf"/>
  <Override PartName="/ppt/media/image37.png" ContentType="image/png"/>
  <Override PartName="/ppt/media/image40.wmf" ContentType="image/x-wmf"/>
  <Override PartName="/ppt/media/image38.png" ContentType="image/png"/>
  <Override PartName="/ppt/media/image41.wmf" ContentType="image/x-wmf"/>
  <Override PartName="/ppt/media/image42.png" ContentType="image/png"/>
  <Override PartName="/ppt/media/image2.wmf" ContentType="image/x-wmf"/>
  <Override PartName="/ppt/media/image43.png" ContentType="image/png"/>
  <Override PartName="/ppt/media/image25.jpeg" ContentType="image/jpeg"/>
  <Override PartName="/ppt/media/image32.png" ContentType="image/png"/>
  <Override PartName="/ppt/media/image44.png" ContentType="image/png"/>
  <Override PartName="/ppt/media/image45.png" ContentType="image/png"/>
  <Override PartName="/ppt/media/image13.wmf" ContentType="image/x-wmf"/>
  <Override PartName="/ppt/media/image4.jpeg" ContentType="image/jpeg"/>
  <Override PartName="/ppt/media/image8.wmf" ContentType="image/x-wmf"/>
  <Override PartName="/ppt/media/image12.wmf" ContentType="image/x-wmf"/>
  <Override PartName="/ppt/media/image33.jpeg" ContentType="image/jpeg"/>
  <Override PartName="/ppt/media/image27.png" ContentType="image/png"/>
  <Override PartName="/ppt/media/image7.wmf" ContentType="image/x-wmf"/>
  <Override PartName="/ppt/media/image36.wmf" ContentType="image/x-wmf"/>
  <Override PartName="/ppt/media/image6.wmf" ContentType="image/x-wmf"/>
  <Override PartName="/ppt/media/image39.wmf" ContentType="image/x-wmf"/>
  <Override PartName="/ppt/media/image9.wmf" ContentType="image/x-wmf"/>
  <Override PartName="/ppt/media/image5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55960" cy="461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7280" y="-360"/>
            <a:ext cx="2876760" cy="461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45720" y="773280"/>
            <a:ext cx="4953240" cy="371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33480" y="4721400"/>
            <a:ext cx="4973760" cy="448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9441000"/>
            <a:ext cx="295596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7280" y="9441000"/>
            <a:ext cx="287676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9FED3200-F0A3-42FE-991C-C38B7CF996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3887280" y="9441000"/>
            <a:ext cx="287676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353E15B0-2439-4BBC-9E5A-EFA17A92B8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9441000"/>
            <a:ext cx="295596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-360"/>
            <a:ext cx="2955960" cy="461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887280" y="-360"/>
            <a:ext cx="2876760" cy="461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7000" y="74772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09360" y="4714560"/>
            <a:ext cx="49784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887280" y="9441000"/>
            <a:ext cx="287676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1E559E25-8642-43CE-8B46-2989BB81DD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9441000"/>
            <a:ext cx="295596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-360"/>
            <a:ext cx="2955960" cy="461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87280" y="-360"/>
            <a:ext cx="2876760" cy="461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7000" y="74772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9360" y="4714560"/>
            <a:ext cx="49784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63640" y="76320"/>
            <a:ext cx="6237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8424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24000" y="3878640"/>
            <a:ext cx="8424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63640" y="76320"/>
            <a:ext cx="6237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4111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1120" y="1371240"/>
            <a:ext cx="4111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24000" y="3878640"/>
            <a:ext cx="4111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1120" y="3878640"/>
            <a:ext cx="4111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63640" y="76320"/>
            <a:ext cx="6237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271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2680" y="1371240"/>
            <a:ext cx="271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371240"/>
            <a:ext cx="271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24000" y="3878640"/>
            <a:ext cx="271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2680" y="3878640"/>
            <a:ext cx="271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878640"/>
            <a:ext cx="271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63640" y="76320"/>
            <a:ext cx="6237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24000" y="1371240"/>
            <a:ext cx="8424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63640" y="76320"/>
            <a:ext cx="6237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8424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63640" y="76320"/>
            <a:ext cx="6237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4111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1120" y="1371240"/>
            <a:ext cx="4111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63640" y="76320"/>
            <a:ext cx="6237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63640" y="76320"/>
            <a:ext cx="6237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63640" y="76320"/>
            <a:ext cx="6237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4111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1120" y="1371240"/>
            <a:ext cx="4111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24000" y="3878640"/>
            <a:ext cx="4111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63640" y="76320"/>
            <a:ext cx="6237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24000" y="1371240"/>
            <a:ext cx="8424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63640" y="76320"/>
            <a:ext cx="6237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4111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1120" y="1371240"/>
            <a:ext cx="4111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41120" y="3878640"/>
            <a:ext cx="4111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63640" y="76320"/>
            <a:ext cx="6237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4111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1120" y="1371240"/>
            <a:ext cx="4111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4000" y="3878640"/>
            <a:ext cx="8424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63640" y="76320"/>
            <a:ext cx="6237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8424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24000" y="3878640"/>
            <a:ext cx="8424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63640" y="76320"/>
            <a:ext cx="6237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4111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1120" y="1371240"/>
            <a:ext cx="4111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24000" y="3878640"/>
            <a:ext cx="4111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41120" y="3878640"/>
            <a:ext cx="4111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63640" y="76320"/>
            <a:ext cx="6237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271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2680" y="1371240"/>
            <a:ext cx="271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1360" y="1371240"/>
            <a:ext cx="271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24000" y="3878640"/>
            <a:ext cx="271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2680" y="3878640"/>
            <a:ext cx="271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1360" y="3878640"/>
            <a:ext cx="271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63640" y="76320"/>
            <a:ext cx="6237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8424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63640" y="76320"/>
            <a:ext cx="6237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4111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1120" y="1371240"/>
            <a:ext cx="4111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63640" y="76320"/>
            <a:ext cx="6237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63640" y="76320"/>
            <a:ext cx="6237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63640" y="76320"/>
            <a:ext cx="6237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4111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1120" y="1371240"/>
            <a:ext cx="4111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24000" y="3878640"/>
            <a:ext cx="4111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63640" y="76320"/>
            <a:ext cx="6237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4111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1120" y="1371240"/>
            <a:ext cx="4111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1120" y="3878640"/>
            <a:ext cx="4111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63640" y="76320"/>
            <a:ext cx="6237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4111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1120" y="1371240"/>
            <a:ext cx="4111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24000" y="3878640"/>
            <a:ext cx="8424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63640" y="76320"/>
            <a:ext cx="6237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4000" y="1371240"/>
            <a:ext cx="8424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4114800" y="31291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4427640" y="6149880"/>
            <a:ext cx="4681440" cy="6638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rcRect l="0" t="0" r="59251" b="0"/>
          <a:stretch/>
        </p:blipFill>
        <p:spPr>
          <a:xfrm>
            <a:off x="0" y="0"/>
            <a:ext cx="1763640" cy="5493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8434440" y="0"/>
            <a:ext cx="709560" cy="90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035" b="0"/>
          <a:stretch/>
        </p:blipFill>
        <p:spPr>
          <a:xfrm>
            <a:off x="611280" y="277920"/>
            <a:ext cx="7991280" cy="6319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8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4920" y="980640"/>
            <a:ext cx="8424720" cy="15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0000"/>
                </a:solidFill>
                <a:latin typeface="Verdana"/>
              </a:rPr>
              <a:t>Έλεγχος Περιεχομένου </a:t>
            </a:r>
            <a:br>
              <a:rPr sz="3600"/>
            </a:br>
            <a:r>
              <a:rPr b="1" lang="el-GR" sz="3600" spc="-1" strike="noStrike">
                <a:solidFill>
                  <a:srgbClr val="ff0000"/>
                </a:solidFill>
                <a:latin typeface="Verdana"/>
              </a:rPr>
              <a:t>σε Εκπαιδευτικά Δίκτυα: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1547640" y="2133720"/>
            <a:ext cx="6912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66"/>
                </a:solidFill>
                <a:latin typeface="Verdana"/>
              </a:rPr>
              <a:t>Η εφαρμογή του στο Πανελλήνιο Σχολικό Δίκτυ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0720" y="4508640"/>
            <a:ext cx="7667640" cy="14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66"/>
                </a:solidFill>
                <a:latin typeface="Verdana"/>
              </a:rPr>
              <a:t>Δρ. Μιχάλης Παρασκευάς</a:t>
            </a:r>
            <a:br>
              <a:rPr sz="1800"/>
            </a:br>
            <a:r>
              <a:rPr b="1" lang="el-GR" sz="1800" spc="-1" strike="noStrike">
                <a:solidFill>
                  <a:srgbClr val="000066"/>
                </a:solidFill>
                <a:latin typeface="Verdana"/>
              </a:rPr>
              <a:t>Τεχνικός Υπεύθυνος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l-GR" sz="1800" spc="-1" strike="noStrike">
                <a:solidFill>
                  <a:srgbClr val="000066"/>
                </a:solidFill>
                <a:latin typeface="Verdana"/>
              </a:rPr>
              <a:t>ΠΣ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66"/>
                </a:solidFill>
                <a:latin typeface="Verdana"/>
              </a:rPr>
              <a:t>Ερευνητικό Ακαδημαϊκό Ινστιτούτο Τεχνολογίας Υπολογιστώ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66"/>
                </a:solidFill>
                <a:latin typeface="Verdana"/>
              </a:rPr>
              <a:t>Γραφείο για την Κοινωνία της Πληροφορίας ΥπΕΠ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63640" y="7632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Μαθητικοί προορισμοί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7252" t="12756" r="8688" b="0"/>
          <a:stretch/>
        </p:blipFill>
        <p:spPr>
          <a:xfrm>
            <a:off x="71280" y="2004840"/>
            <a:ext cx="3780000" cy="3125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rcRect l="10558" t="13550" r="7035" b="13550"/>
          <a:stretch/>
        </p:blipFill>
        <p:spPr>
          <a:xfrm>
            <a:off x="3780000" y="1138320"/>
            <a:ext cx="3384360" cy="2361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rcRect l="5958" t="13147" r="13431" b="0"/>
          <a:stretch/>
        </p:blipFill>
        <p:spPr>
          <a:xfrm>
            <a:off x="5148360" y="2997360"/>
            <a:ext cx="3671640" cy="3144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932360" y="5877000"/>
            <a:ext cx="42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66"/>
                </a:solidFill>
                <a:latin typeface="Verdana"/>
              </a:rPr>
              <a:t>Έρευνα: Παιδιά και Διαδίκτυο, Ε.ΚΑΤ.Ο.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63280" y="76320"/>
            <a:ext cx="6480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Αυτοπροστασία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15173" r="0" b="18920"/>
          <a:stretch/>
        </p:blipFill>
        <p:spPr>
          <a:xfrm>
            <a:off x="1116000" y="1557360"/>
            <a:ext cx="6840720" cy="35780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932360" y="5877000"/>
            <a:ext cx="42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66"/>
                </a:solidFill>
                <a:latin typeface="Verdana"/>
              </a:rPr>
              <a:t>Έρευνα: Παιδιά και Διαδίκτυο, Ε.ΚΑΤ.Ο.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87280" y="115920"/>
            <a:ext cx="6840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Σχετικά με το ΠΣΔ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92360" y="1125000"/>
            <a:ext cx="7200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66"/>
                </a:solidFill>
                <a:latin typeface="Verdana"/>
              </a:rPr>
              <a:t>Κύριοι Στόχοι</a:t>
            </a:r>
            <a:r>
              <a:rPr b="1" lang="en-GB" sz="2400" spc="-1" strike="noStrike">
                <a:solidFill>
                  <a:srgbClr val="000066"/>
                </a:solidFill>
                <a:latin typeface="Verdana"/>
              </a:rPr>
              <a:t>: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Δημιουργία δικτυακού κορμού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Διασύνδεση όλων των σχολείων στο εκπαιδευτικό δίκτυο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Ανάπτυξη, παροχή &amp; υποστήριξη τηλεματικών υπηρεσιών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Υποστήριξη χρηστών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66"/>
                </a:solidFill>
                <a:latin typeface="Verdana"/>
              </a:rPr>
              <a:t>Υλοποιείται με τη συνεργασία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Υπουργείου Εθνικής Παιδείας και Θρησκευμάτων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2 </a:t>
            </a: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Ερευνητικών Κέντρων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8 Πανεπιστημίων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2 Τεχνολογικών Εκπαιδευτικών Ιδρυμάτων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0" t="0" r="84657" b="72226"/>
          <a:stretch/>
        </p:blipFill>
        <p:spPr>
          <a:xfrm>
            <a:off x="0" y="2421000"/>
            <a:ext cx="1476360" cy="2087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63640" y="7632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Χρηματοδότηση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124000" y="1587240"/>
            <a:ext cx="662472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Σχεδιασμός, υλοποίηση και λειτουργία δικτύου σύμφωνα με τις πολιτικές της Ε.Ε.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Χρηματοδότηση από Β’ και Γ’ ΚΠΣ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cc0000"/>
                </a:solidFill>
                <a:latin typeface="Verdana"/>
              </a:rPr>
              <a:t>Επιχειρησιακό Πρόγραμμα για την Κοινωνία της Πληροφορίας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(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Verdana"/>
              </a:rPr>
              <a:t>www.infosociety.gr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)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Συνολικός προϋπολογισμός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(1999-2005): 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44 </a:t>
            </a:r>
            <a:r>
              <a:rPr b="0" lang="el-GR" sz="2400" spc="-1" strike="noStrike">
                <a:solidFill>
                  <a:srgbClr val="cc0000"/>
                </a:solidFill>
                <a:latin typeface="Verdana"/>
              </a:rPr>
              <a:t>ΜΕυρώ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2413080"/>
            <a:ext cx="1908000" cy="1807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63640" y="7632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Φορείς Υλοποίησης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4619" b="4893"/>
          <a:stretch/>
        </p:blipFill>
        <p:spPr>
          <a:xfrm>
            <a:off x="179280" y="1197000"/>
            <a:ext cx="876960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63640" y="76320"/>
            <a:ext cx="6237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Verdana"/>
              </a:rPr>
              <a:t>Περιοχές Ευθύνης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0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63640" y="909720"/>
          <a:ext cx="5329440" cy="58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909720"/>
                    <a:ext cx="532944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619280" y="1428480"/>
            <a:ext cx="7129440" cy="459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2440" indent="-352440">
              <a:spcAft>
                <a:spcPts val="1125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Υποστήριξη της μάθησης μέσα από δικτυακό περιβάλλον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52440" indent="-352440">
              <a:spcAft>
                <a:spcPts val="1125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Συνεργασία ομάδων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,</a:t>
            </a: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 γεωγραφικά διασκορπισμένων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52440" indent="-352440">
              <a:spcAft>
                <a:spcPts val="1125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Πρόσβαση σε ψηφιακές βιβλιοθήκες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52440" indent="-352440">
              <a:spcAft>
                <a:spcPts val="1125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Ανταλλαγή πληροφοριών και απόψεων (π.χ. ερωτήσεις-απαντήσεις από ειδικούς, ασκήσεις – λύσεις, κλπ)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52440" indent="-352440">
              <a:spcAft>
                <a:spcPts val="1125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Ευέλικτη αναζήτηση πιστοποιημένα χρήσιμων πληροφοριών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52440" indent="-352440">
              <a:spcAft>
                <a:spcPts val="1125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Δημιουργία &amp; διανομή παρουσιάσεων, σεμιναρίων &amp; διαλέξεων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52440" indent="-352440">
              <a:spcAft>
                <a:spcPts val="1125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Διεξαγωγή θεματικών συζητήσεων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52440" indent="-352440">
              <a:spcAft>
                <a:spcPts val="1125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Επικοινωνία με εκπαιδευτικά ιδρύματα του εξωτερικού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692360" y="71280"/>
            <a:ext cx="6232320" cy="9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Εκπαιδευτικοί Στόχοι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18335" t="0" r="65000" b="0"/>
          <a:stretch/>
        </p:blipFill>
        <p:spPr>
          <a:xfrm>
            <a:off x="0" y="2205000"/>
            <a:ext cx="1403280" cy="3017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1763640" y="836640"/>
          <a:ext cx="540072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836640"/>
                    <a:ext cx="54007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908000" y="152280"/>
            <a:ext cx="59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66"/>
                </a:solidFill>
                <a:latin typeface="Verdana"/>
              </a:rPr>
              <a:t>Δέσμες Δράσεων ΥπΕΠΘ στην Κτ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24360" y="3141720"/>
            <a:ext cx="1081080" cy="792000"/>
          </a:xfrm>
          <a:prstGeom prst="ellipse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35640" y="2924280"/>
            <a:ext cx="863640" cy="1152360"/>
          </a:xfrm>
          <a:prstGeom prst="ellipse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24360" y="4003560"/>
            <a:ext cx="1081080" cy="720720"/>
          </a:xfrm>
          <a:prstGeom prst="ellipse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00360" y="2924280"/>
            <a:ext cx="792000" cy="1150920"/>
          </a:xfrm>
          <a:prstGeom prst="ellipse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2347920"/>
            <a:ext cx="1081080" cy="720720"/>
          </a:xfrm>
          <a:prstGeom prst="ellipse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-7668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Δικτυακός Κορμός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356000" y="1341360"/>
            <a:ext cx="4608720" cy="4464000"/>
            <a:chOff x="4356000" y="1341360"/>
            <a:chExt cx="4608720" cy="4464000"/>
          </a:xfrm>
        </p:grpSpPr>
        <p:grpSp>
          <p:nvGrpSpPr>
            <p:cNvPr id="153" name=""/>
            <p:cNvGrpSpPr/>
            <p:nvPr/>
          </p:nvGrpSpPr>
          <p:grpSpPr>
            <a:xfrm>
              <a:off x="4356000" y="1341360"/>
              <a:ext cx="4608720" cy="4464000"/>
              <a:chOff x="4356000" y="1341360"/>
              <a:chExt cx="4608720" cy="446400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4356000" y="1341360"/>
                <a:ext cx="4608720" cy="4464000"/>
                <a:chOff x="4356000" y="1341360"/>
                <a:chExt cx="4608720" cy="446400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356000" y="1341360"/>
                  <a:ext cx="4608720" cy="4464000"/>
                </a:xfrm>
                <a:prstGeom prst="rect">
                  <a:avLst/>
                </a:prstGeom>
                <a:blipFill rotWithShape="0">
                  <a:blip r:embed="rId1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56" name="" descr=""/>
                <p:cNvPicPr/>
                <p:nvPr/>
              </p:nvPicPr>
              <p:blipFill>
                <a:blip r:embed="rId2"/>
                <a:srcRect l="37841" t="5709" r="-605" b="5256"/>
                <a:stretch/>
              </p:blipFill>
              <p:spPr>
                <a:xfrm>
                  <a:off x="4659120" y="1341360"/>
                  <a:ext cx="4048920" cy="4341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57" name="" descr=""/>
              <p:cNvPicPr/>
              <p:nvPr/>
            </p:nvPicPr>
            <p:blipFill>
              <a:blip r:embed="rId3"/>
              <a:srcRect l="0" t="86476" r="71888" b="0"/>
              <a:stretch/>
            </p:blipFill>
            <p:spPr>
              <a:xfrm>
                <a:off x="4537800" y="5010480"/>
                <a:ext cx="1940400" cy="706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8" name="" descr="Greek Research &amp; Technology Network"/>
            <p:cNvPicPr/>
            <p:nvPr/>
          </p:nvPicPr>
          <p:blipFill>
            <a:blip r:embed="rId4"/>
            <a:stretch/>
          </p:blipFill>
          <p:spPr>
            <a:xfrm>
              <a:off x="4843800" y="5068440"/>
              <a:ext cx="1572120" cy="31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"/>
          <p:cNvSpPr/>
          <p:nvPr/>
        </p:nvSpPr>
        <p:spPr>
          <a:xfrm>
            <a:off x="250920" y="1250640"/>
            <a:ext cx="3960720" cy="45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b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 u="sng">
                <a:solidFill>
                  <a:srgbClr val="003366"/>
                </a:solidFill>
                <a:uFillTx/>
                <a:latin typeface="Verdana"/>
              </a:rPr>
              <a:t>Δίκτυο Κορμού</a:t>
            </a: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: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l-GR" sz="1800" spc="-1" strike="noStrike">
                <a:solidFill>
                  <a:srgbClr val="003366"/>
                </a:solidFill>
                <a:latin typeface="Verdana"/>
              </a:rPr>
              <a:t>Εθνικό Δίκτυο Έρευνας και Τεχνολογίας – ΕΔΕΤ </a:t>
            </a:r>
            <a:r>
              <a:rPr b="0" lang="en-GB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www.grnet.g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 u="sng">
                <a:solidFill>
                  <a:srgbClr val="003366"/>
                </a:solidFill>
                <a:uFillTx/>
                <a:latin typeface="Verdana"/>
              </a:rPr>
              <a:t>Δίκτυο Διανομής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Verdana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: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  51 </a:t>
            </a:r>
            <a:r>
              <a:rPr b="0" lang="el-GR" sz="1800" spc="-1" strike="noStrike">
                <a:solidFill>
                  <a:srgbClr val="003366"/>
                </a:solidFill>
                <a:latin typeface="Verdana"/>
              </a:rPr>
              <a:t>κόμβο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200" indent="-236520">
              <a:lnSpc>
                <a:spcPct val="100000"/>
              </a:lnSpc>
              <a:spcBef>
                <a:spcPts val="675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9 </a:t>
            </a:r>
            <a:r>
              <a:rPr b="0" lang="el-GR" sz="1800" spc="-1" strike="noStrike">
                <a:solidFill>
                  <a:srgbClr val="003366"/>
                </a:solidFill>
                <a:latin typeface="Verdana"/>
              </a:rPr>
              <a:t>κύριο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200" indent="-236520">
              <a:lnSpc>
                <a:spcPct val="100000"/>
              </a:lnSpc>
              <a:spcBef>
                <a:spcPts val="675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42 </a:t>
            </a:r>
            <a:r>
              <a:rPr b="0" lang="el-GR" sz="1800" spc="-1" strike="noStrike">
                <a:solidFill>
                  <a:srgbClr val="003366"/>
                </a:solidFill>
                <a:latin typeface="Verdana"/>
              </a:rPr>
              <a:t>δευτερεύοντε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75 routers, 7</a:t>
            </a:r>
            <a:r>
              <a:rPr b="0" lang="el-GR" sz="1800" spc="-1" strike="noStrike">
                <a:solidFill>
                  <a:srgbClr val="003366"/>
                </a:solidFill>
                <a:latin typeface="Verdana"/>
              </a:rPr>
              <a:t>1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servers, </a:t>
            </a:r>
            <a:r>
              <a:rPr b="0" lang="el-GR" sz="1800" spc="-1" strike="noStrike">
                <a:solidFill>
                  <a:srgbClr val="003366"/>
                </a:solidFill>
                <a:latin typeface="Verdana"/>
              </a:rPr>
              <a:t>μεγάλος αριθμός τηλ/κών κυκλωμάτων και κατάλληλα λογισμικά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 u="sng">
                <a:solidFill>
                  <a:srgbClr val="003366"/>
                </a:solidFill>
                <a:uFillTx/>
                <a:latin typeface="Verdana"/>
              </a:rPr>
              <a:t>Πανελλήνιο Σχολικό Δίκτυο</a:t>
            </a:r>
            <a:r>
              <a:rPr b="0" lang="el-GR" sz="1800" spc="-1" strike="noStrike">
                <a:solidFill>
                  <a:srgbClr val="003366"/>
                </a:solidFill>
                <a:latin typeface="Verdana"/>
              </a:rPr>
              <a:t>: ένας από τους μεγαλύτερους δικτυακούς παρόχους στη χώρ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70036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35280" y="115920"/>
            <a:ext cx="59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Verdana"/>
              </a:rPr>
              <a:t>Τρόποι Σύνδεσης Σχολείω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educhart" descr=""/>
          <p:cNvPicPr/>
          <p:nvPr/>
        </p:nvPicPr>
        <p:blipFill>
          <a:blip r:embed="rId1"/>
          <a:stretch/>
        </p:blipFill>
        <p:spPr>
          <a:xfrm>
            <a:off x="4140360" y="1512720"/>
            <a:ext cx="4752720" cy="42213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50920" y="1529280"/>
            <a:ext cx="396072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b">
            <a:spAutoFit/>
          </a:bodyPr>
          <a:p>
            <a:pPr marL="272880" indent="-272880">
              <a:lnSpc>
                <a:spcPct val="100000"/>
              </a:lnSpc>
              <a:spcBef>
                <a:spcPts val="13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ISDN </a:t>
            </a:r>
            <a:br>
              <a:rPr sz="1800"/>
            </a:b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(64-128 kb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13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cc0000"/>
                </a:solidFill>
                <a:latin typeface="Verdana"/>
              </a:rPr>
              <a:t>Μισθωμένα Κυκλώματα</a:t>
            </a: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 (0,128–2Mb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13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PSTN dialup </a:t>
            </a:r>
            <a:br>
              <a:rPr sz="1800"/>
            </a:b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(56 kb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13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cc0000"/>
                </a:solidFill>
                <a:latin typeface="Verdana"/>
              </a:rPr>
              <a:t>Ασύρματες Ζεύξεις</a:t>
            </a: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(2-10 Mb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13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VDSL </a:t>
            </a:r>
            <a:br>
              <a:rPr sz="1800"/>
            </a:b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(10-1</a:t>
            </a:r>
            <a:r>
              <a:rPr b="1" lang="el-GR" sz="1800" spc="-1" strike="noStrike">
                <a:solidFill>
                  <a:srgbClr val="003366"/>
                </a:solidFill>
                <a:latin typeface="Verdana"/>
              </a:rPr>
              <a:t>8</a:t>
            </a: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 Mbps, </a:t>
            </a:r>
            <a:r>
              <a:rPr b="1" lang="el-GR" sz="1800" spc="-1" strike="noStrike">
                <a:solidFill>
                  <a:srgbClr val="003366"/>
                </a:solidFill>
                <a:latin typeface="Verdana"/>
              </a:rPr>
              <a:t>πιλοτικά</a:t>
            </a: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13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ADSL </a:t>
            </a:r>
            <a:br>
              <a:rPr sz="1800"/>
            </a:b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(</a:t>
            </a:r>
            <a:r>
              <a:rPr b="1" lang="el-GR" sz="1800" spc="-1" strike="noStrike">
                <a:solidFill>
                  <a:srgbClr val="003366"/>
                </a:solidFill>
                <a:latin typeface="Verdana"/>
              </a:rPr>
              <a:t>512/128 </a:t>
            </a: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kbps, </a:t>
            </a:r>
            <a:r>
              <a:rPr b="1" lang="el-GR" sz="1800" spc="-1" strike="noStrike">
                <a:solidFill>
                  <a:srgbClr val="003366"/>
                </a:solidFill>
                <a:latin typeface="Verdana"/>
              </a:rPr>
              <a:t>πιλοτικά</a:t>
            </a: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63640" y="7632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Ατζέντα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835280" y="2204640"/>
            <a:ext cx="6912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Το πρόβλημα...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Μέθοδοι ελέγχου περιεχομένου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Το Πανελλήνιο Σχολικό Δίκτυο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Η λύση που εφαρμόζει...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Αποτελέσματα - Συμπεράσματα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1644480" cy="2305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07640" y="76320"/>
            <a:ext cx="6093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Κατηγορίες Χρηστών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123640" y="1483920"/>
            <a:ext cx="676764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Η πιστοποίηση των χρηστών είναι μία ισχυρή απαίτηση, λόγω του εκπαιδευτικού χαρακτήρα του δικτύου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000066"/>
                </a:solidFill>
                <a:uFillTx/>
                <a:latin typeface="Verdana"/>
              </a:rPr>
              <a:t>Κατηγορίες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Σχολικές Μονάδες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Διοικητικές Μονάδες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Εκπαιδευτικοί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Μαθητές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Διοικητικό Προσωπικό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08000" y="2906640"/>
            <a:ext cx="1795320" cy="1452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63640" y="76320"/>
            <a:ext cx="6237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Βασικές Υπηρεσίες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030400" y="1844640"/>
            <a:ext cx="69343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66"/>
                </a:solidFill>
                <a:latin typeface="Verdana"/>
              </a:rPr>
              <a:t>Σύνδεση στο δίκτυο (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Connectivity, Dial-up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901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66"/>
                </a:solidFill>
                <a:latin typeface="Verdana"/>
              </a:rPr>
              <a:t>Ηλεκτρονικό ταχυδρομείο 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(POP3, IMAP, web-mail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901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66"/>
                </a:solidFill>
                <a:latin typeface="Verdana"/>
              </a:rPr>
              <a:t>Διακομιστής διαμεσολάβησης (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Proxy/Cache</a:t>
            </a:r>
            <a:r>
              <a:rPr b="1" lang="el-GR" sz="1800" spc="-1" strike="noStrike">
                <a:solidFill>
                  <a:srgbClr val="000066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901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0000"/>
                </a:solidFill>
                <a:latin typeface="Verdana"/>
              </a:rPr>
              <a:t>Ελεγχόμενη πρόσβαση στον παγκόσμιο ιστό  (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Web-Filtering</a:t>
            </a:r>
            <a:r>
              <a:rPr b="1" lang="el-GR" sz="1800" spc="-1" strike="noStrike">
                <a:solidFill>
                  <a:srgbClr val="ff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901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66"/>
                </a:solidFill>
                <a:latin typeface="Verdana"/>
              </a:rPr>
              <a:t>Αυτόματη δημιουργία ιστοσελίδων (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Web-Page Generator</a:t>
            </a:r>
            <a:r>
              <a:rPr b="1" lang="el-GR" sz="1800" spc="-1" strike="noStrike">
                <a:solidFill>
                  <a:srgbClr val="000066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901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66"/>
                </a:solidFill>
                <a:latin typeface="Verdana"/>
              </a:rPr>
              <a:t>Φιλοξενία ιστοσελίδων (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Web-Hosting</a:t>
            </a:r>
            <a:r>
              <a:rPr b="1" lang="el-GR" sz="1800" spc="-1" strike="noStrike">
                <a:solidFill>
                  <a:srgbClr val="000066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901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66"/>
                </a:solidFill>
                <a:latin typeface="Verdana"/>
              </a:rPr>
              <a:t>Δικτυακή πύλη 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(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Verdana"/>
              </a:rPr>
              <a:t>www.sch.gr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)</a:t>
            </a:r>
            <a:r>
              <a:rPr b="1" lang="el-GR" sz="1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675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66"/>
                </a:solidFill>
                <a:latin typeface="Verdana"/>
              </a:rPr>
              <a:t>Χώροι συζήτησης (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Verdana"/>
              </a:rPr>
              <a:t>www.sch.gr/forums</a:t>
            </a:r>
            <a:r>
              <a:rPr b="1" lang="el-GR" sz="1800" spc="-1" strike="noStrike">
                <a:solidFill>
                  <a:srgbClr val="000066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2490840"/>
            <a:ext cx="177804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63640" y="76320"/>
            <a:ext cx="6237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Βασικές Υπηρεσίες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030400" y="1844640"/>
            <a:ext cx="69343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75"/>
              </a:spcBef>
              <a:buClr>
                <a:srgbClr val="000066"/>
              </a:buClr>
              <a:buFont typeface="Verdan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ewsgroups</a:t>
            </a:r>
            <a:r>
              <a:rPr b="1" lang="el-GR" sz="1800" spc="-1" strike="noStrike">
                <a:solidFill>
                  <a:srgbClr val="000066"/>
                </a:solidFill>
                <a:latin typeface="Verdana"/>
              </a:rPr>
              <a:t> (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Verdana"/>
              </a:rPr>
              <a:t>news.sch.gr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675"/>
              </a:spcBef>
              <a:buClr>
                <a:srgbClr val="000066"/>
              </a:buClr>
              <a:buFont typeface="Verdan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66"/>
                </a:solidFill>
                <a:latin typeface="Verdana"/>
              </a:rPr>
              <a:t>Υπηρεσία καταλόγου (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Directory Service</a:t>
            </a:r>
            <a:r>
              <a:rPr b="1" lang="el-GR" sz="1800" spc="-1" strike="noStrike">
                <a:solidFill>
                  <a:srgbClr val="000066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675"/>
              </a:spcBef>
              <a:buClr>
                <a:srgbClr val="000066"/>
              </a:buClr>
              <a:buFont typeface="Verdan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66"/>
                </a:solidFill>
                <a:latin typeface="Verdana"/>
              </a:rPr>
              <a:t>Προσωπικό ημερολόγιο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675"/>
              </a:spcBef>
              <a:buClr>
                <a:srgbClr val="000066"/>
              </a:buClr>
              <a:buFont typeface="Verdan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66"/>
                </a:solidFill>
                <a:latin typeface="Verdana"/>
              </a:rPr>
              <a:t>Προσωπικό βιβλίο διευθύνσεων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675"/>
              </a:spcBef>
              <a:buClr>
                <a:srgbClr val="000066"/>
              </a:buClr>
              <a:buFont typeface="Verdan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66"/>
                </a:solidFill>
                <a:latin typeface="Verdana"/>
              </a:rPr>
              <a:t>Διαχείριση Χρηστών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675"/>
              </a:spcBef>
              <a:buClr>
                <a:srgbClr val="000066"/>
              </a:buClr>
              <a:buFont typeface="Verdan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66"/>
                </a:solidFill>
                <a:latin typeface="Verdana"/>
              </a:rPr>
              <a:t>Αυτόματη εγγραφή εκπαιδευτικών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675"/>
              </a:spcBef>
              <a:buClr>
                <a:srgbClr val="000066"/>
              </a:buClr>
              <a:buFont typeface="Verdan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66"/>
                </a:solidFill>
                <a:latin typeface="Verdana"/>
              </a:rPr>
              <a:t>Στατιστικά (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Verdana"/>
              </a:rPr>
              <a:t>www.sch.gr/statistics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675"/>
              </a:spcBef>
              <a:buClr>
                <a:srgbClr val="000066"/>
              </a:buClr>
              <a:buFont typeface="Verdan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Voice over IP (</a:t>
            </a:r>
            <a:r>
              <a:rPr b="1" lang="el-GR" sz="1800" spc="-1" strike="noStrike">
                <a:solidFill>
                  <a:srgbClr val="000066"/>
                </a:solidFill>
                <a:latin typeface="Verdana"/>
              </a:rPr>
              <a:t>παρέχεται πιλοτικά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675"/>
              </a:spcBef>
              <a:buClr>
                <a:srgbClr val="000066"/>
              </a:buClr>
              <a:buFont typeface="Verdan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66"/>
                </a:solidFill>
                <a:latin typeface="Verdana"/>
              </a:rPr>
              <a:t>Υποστήριξης χρηστών 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Help-Desk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675"/>
              </a:spcBef>
              <a:buClr>
                <a:srgbClr val="000066"/>
              </a:buClr>
              <a:buFont typeface="Verdan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66"/>
                </a:solidFill>
                <a:latin typeface="Verdana"/>
              </a:rPr>
              <a:t>Σύστημα 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GI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2490840"/>
            <a:ext cx="177804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411280" y="1989000"/>
            <a:ext cx="63374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66"/>
                </a:solidFill>
                <a:latin typeface="Verdana"/>
              </a:rPr>
              <a:t>Τηλεδιάσκεψη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br>
              <a:rPr sz="2800"/>
            </a:b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http://rts.sch.gr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66"/>
                </a:solidFill>
                <a:latin typeface="Verdana"/>
              </a:rPr>
              <a:t>Ασύγχρονη τηλεκπαίδευση </a:t>
            </a:r>
            <a:br>
              <a:rPr sz="2800"/>
            </a:b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http://www2.sch.gr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66"/>
                </a:solidFill>
                <a:latin typeface="Verdana"/>
              </a:rPr>
              <a:t>Video on Demand – VoD </a:t>
            </a:r>
            <a:r>
              <a:rPr b="0" lang="el-GR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l-GR" sz="1800" spc="-1" strike="noStrike">
                <a:solidFill>
                  <a:srgbClr val="cc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http://vod.sch.gr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66"/>
                </a:solidFill>
                <a:latin typeface="Verdana"/>
              </a:rPr>
              <a:t>Νέο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ORTAL </a:t>
            </a:r>
            <a:br>
              <a:rPr sz="2800"/>
            </a:b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http://www2.sch.gr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1763640" y="76320"/>
            <a:ext cx="6237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Προηγμένες Υπηρεσίες 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2490840"/>
            <a:ext cx="177804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411280" y="1916280"/>
            <a:ext cx="6337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Απομακρυσμένη διαχείριση σταθμών εργασίας σχολείων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1001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Αυτοματοποιημένες ηλεκτρονικές λίστες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1001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Virtual Drive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1001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Instant Messaging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1001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Παρακολούθηση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LA</a:t>
            </a: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 υπηρεσιών ΠΣΔ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1001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Ψηφιακές υπογραφές (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PKI/CA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1001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Ηλεκτρονικές κάρτες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(e-cards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763640" y="76320"/>
            <a:ext cx="6237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Υπηρεσίες σε υλοποίηση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2490840"/>
            <a:ext cx="177804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411280" y="2133360"/>
            <a:ext cx="6408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Εικονικοί χώροι μάθησης (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Virtual Reality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Υπηρεσία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ASP (</a:t>
            </a: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φιλοξενία τρίτων εφαρμογών)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Εξασφάλιση προσβασιμότητας ΑΜΕΑ στις υπηρεσίες του ΠΣΔ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Περιβάλλον διαχείρισης πολυμεσικού εκπαιδευτικού περιεχομένου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Quality of Service (QoS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Εφαρμογή πρωτοκόλλου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IPv6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763640" y="76320"/>
            <a:ext cx="6237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Υπηρεσίες σε σχεδιασμό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2490840"/>
            <a:ext cx="177804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63640" y="76320"/>
            <a:ext cx="6237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Verdana"/>
              </a:rPr>
              <a:t>Δικτύωση σχολικών μονάδων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26880" y="1123920"/>
          <a:ext cx="8177400" cy="527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6880" y="1123920"/>
                    <a:ext cx="8177400" cy="52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>
            <a:lum contrast="6000"/>
          </a:blip>
          <a:srcRect l="11444" t="13875" r="12356" b="6487"/>
          <a:stretch/>
        </p:blipFill>
        <p:spPr>
          <a:xfrm>
            <a:off x="1332000" y="957240"/>
            <a:ext cx="6553080" cy="513576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63640" y="76320"/>
            <a:ext cx="6237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Δικτυακή Πύλη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 rot="19715400">
            <a:off x="1695600" y="306828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www.sch.g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57400" y="11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63640" y="76320"/>
            <a:ext cx="6237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Εκπαιδευτική Πύλη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>
            <a:lum contrast="6000"/>
          </a:blip>
          <a:srcRect l="10872" t="13924" r="12356" b="11911"/>
          <a:stretch/>
        </p:blipFill>
        <p:spPr>
          <a:xfrm>
            <a:off x="1187280" y="1052640"/>
            <a:ext cx="7056720" cy="5111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468360" y="1484280"/>
          <a:ext cx="8351640" cy="4032360"/>
        </p:xfrm>
        <a:graphic>
          <a:graphicData uri="http://schemas.openxmlformats.org/drawingml/2006/table">
            <a:tbl>
              <a:tblPr/>
              <a:tblGrid>
                <a:gridCol w="4052880"/>
                <a:gridCol w="1520640"/>
                <a:gridCol w="1389240"/>
                <a:gridCol w="1388880"/>
              </a:tblGrid>
              <a:tr h="94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Βαθμίδα Εκπαίδευση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Σύνολο Δικτυωμένων Μονάδω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Σύνολο Μονάδω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Ποσοστό Δικτύωση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Πρωτοβάθμια - Νηπιαγωγεί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.6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Πρωτοβάθμια - Δημοτικ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.9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.9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6,5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Δευτεροβάθμια - Γυμνάσι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9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9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0,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Δευτεροβάθμια - Λύκει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0,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Δευτεροβάθμια - ΤΕ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0,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Αρχική Επαγγελματική Κατάρτιση (ΙΕ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0,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Σύνολ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.0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5.3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</a:tbl>
          </a:graphicData>
        </a:graphic>
      </p:graphicFrame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63640" y="7632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Συνδεδεμένες σχολικές μονάδες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5805360"/>
            <a:ext cx="25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Verdana"/>
              </a:rPr>
              <a:t>Ενημέρωση: 31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el-GR" sz="1200" spc="-1" strike="noStrike">
                <a:solidFill>
                  <a:srgbClr val="000000"/>
                </a:solidFill>
                <a:latin typeface="Verdana"/>
              </a:rPr>
              <a:t>12.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63640" y="76320"/>
            <a:ext cx="6237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66"/>
                </a:solidFill>
                <a:latin typeface="Verdana"/>
              </a:rPr>
              <a:t>Έρευνα: «Παιδιά και Διαδίκτυο»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580760"/>
            <a:ext cx="8424720" cy="40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66"/>
                </a:solidFill>
                <a:latin typeface="Verdana"/>
              </a:rPr>
              <a:t>Στοιχεία έρευνας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Φορέας: Ελληνική Καταναλωτική Οργάνωση (Ε.ΚΑΤ.Ο.)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Verdana"/>
              </a:rPr>
              <a:t>www.ekato.org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Κλίμακα: Πανελλαδική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Δείγμα: 570 παιδιά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Ηλικίες: 7 – 17 ετών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Πλαίσιο: Ευρωπαϊκά προγράμματα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NCE &amp; CISA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539640" y="1341360"/>
          <a:ext cx="8209080" cy="4319640"/>
        </p:xfrm>
        <a:graphic>
          <a:graphicData uri="http://schemas.openxmlformats.org/drawingml/2006/table">
            <a:tbl>
              <a:tblPr/>
              <a:tblGrid>
                <a:gridCol w="5970600"/>
                <a:gridCol w="2238480"/>
              </a:tblGrid>
              <a:tr h="100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Βαθμίδα Εκπαίδευση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Σύνολο Λογαριασμών Σύνδεση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7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Διευθύνσεις &amp; Γραφεία Πρωτοβάθμιας Εκπαίδευση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Διευθύνσεις &amp; Γραφεία Δευτεροβάθμιας Εκπαίδευση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Σχολικές Βιβλιοθήκε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Γραφεία ΣΕ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Επαγγελματική Κατάρτιση (ΚΥ ΟΕΕ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Λοιπές Μονάδε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ΣΥΝΟΛ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.1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</a:tbl>
          </a:graphicData>
        </a:graphic>
      </p:graphicFrame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63640" y="76320"/>
            <a:ext cx="6237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Λογαριασμοί σύνδεσης διοικητικών μονάδων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5805360"/>
            <a:ext cx="25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Verdana"/>
              </a:rPr>
              <a:t>Ενημέρωση: 31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el-GR" sz="1200" spc="-1" strike="noStrike">
                <a:solidFill>
                  <a:srgbClr val="000000"/>
                </a:solidFill>
                <a:latin typeface="Verdana"/>
              </a:rPr>
              <a:t>12.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08000" y="76320"/>
            <a:ext cx="590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Verdana"/>
              </a:rPr>
              <a:t>Ενεργοί Λογαριασμοί 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E-mai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52360" y="933480"/>
          <a:ext cx="8640720" cy="507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933480"/>
                    <a:ext cx="8640720" cy="50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63640" y="76320"/>
            <a:ext cx="6237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Verdana"/>
              </a:rPr>
              <a:t>Προσωπικοί λογαριασμοί εκπαιδευτικών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79280" y="1052640"/>
          <a:ext cx="8640720" cy="511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52640"/>
                    <a:ext cx="8640720" cy="51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835280" y="76320"/>
            <a:ext cx="5976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Υποστήριξη Χρηστών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92360" y="1267920"/>
            <a:ext cx="720072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66"/>
                </a:solidFill>
                <a:latin typeface="Verdana"/>
              </a:rPr>
              <a:t>Υ</a:t>
            </a:r>
            <a:r>
              <a:rPr b="1" lang="en-GB" sz="2400" spc="-1" strike="noStrike">
                <a:solidFill>
                  <a:srgbClr val="000066"/>
                </a:solidFill>
                <a:latin typeface="Verdana"/>
              </a:rPr>
              <a:t>ποστ</a:t>
            </a:r>
            <a:r>
              <a:rPr b="1" lang="el-GR" sz="2400" spc="-1" strike="noStrike">
                <a:solidFill>
                  <a:srgbClr val="000066"/>
                </a:solidFill>
                <a:latin typeface="Verdana"/>
              </a:rPr>
              <a:t>ηρίζονται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Όλα τα συνδεδεμένα σχολεία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Όλες οι συνδεδεμένες διοικητικές μονάδες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Μεμονωμένοι χρήστες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66"/>
                </a:solidFill>
                <a:latin typeface="Verdana"/>
              </a:rPr>
              <a:t>Τρόπος παροχής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Τηλεφωνικά </a:t>
            </a:r>
            <a:r>
              <a:rPr b="1" lang="el-GR" sz="1800" spc="-1" strike="noStrike">
                <a:solidFill>
                  <a:srgbClr val="cc0000"/>
                </a:solidFill>
                <a:latin typeface="Verdana"/>
              </a:rPr>
              <a:t>801-11-801-81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Με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FAQs </a:t>
            </a: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στη διεύθυνση </a:t>
            </a:r>
            <a:r>
              <a:rPr b="0" lang="en-GB" sz="1800" spc="-1" strike="noStrike" u="sng">
                <a:solidFill>
                  <a:srgbClr val="000066"/>
                </a:solidFill>
                <a:uFillTx/>
                <a:latin typeface="Verdana"/>
              </a:rPr>
              <a:t>www.sch.gr/user</a:t>
            </a:r>
            <a:r>
              <a:rPr b="0" lang="el-GR" sz="1800" spc="-1" strike="noStrike" u="sng">
                <a:solidFill>
                  <a:srgbClr val="000066"/>
                </a:solidFill>
                <a:uFillTx/>
                <a:latin typeface="Verdana"/>
              </a:rPr>
              <a:t>_</a:t>
            </a:r>
            <a:r>
              <a:rPr b="0" lang="en-GB" sz="1800" spc="-1" strike="noStrike" u="sng">
                <a:solidFill>
                  <a:srgbClr val="000066"/>
                </a:solidFill>
                <a:uFillTx/>
                <a:latin typeface="Verdana"/>
              </a:rPr>
              <a:t>suppor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Με τ</a:t>
            </a:r>
            <a:r>
              <a:rPr b="0" lang="en-GB" sz="1800" spc="-1" strike="noStrike">
                <a:solidFill>
                  <a:srgbClr val="000066"/>
                </a:solidFill>
                <a:latin typeface="Verdana"/>
              </a:rPr>
              <a:t>εχνικ</a:t>
            </a: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ά</a:t>
            </a:r>
            <a:r>
              <a:rPr b="0" lang="en-GB" sz="1800" spc="-1" strike="noStrike">
                <a:solidFill>
                  <a:srgbClr val="000066"/>
                </a:solidFill>
                <a:latin typeface="Verdana"/>
              </a:rPr>
              <a:t> εγχειρ</a:t>
            </a: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ίδια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66"/>
                </a:solidFill>
                <a:latin typeface="Verdana"/>
              </a:rPr>
              <a:t>Ωράριο</a:t>
            </a: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8.30 – 19.00 τις εργάσιμες ημέρες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rcRect l="83335" t="0" r="0" b="0"/>
          <a:stretch/>
        </p:blipFill>
        <p:spPr>
          <a:xfrm>
            <a:off x="179280" y="2276640"/>
            <a:ext cx="1465200" cy="31464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1280" y="6467400"/>
            <a:ext cx="320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νημέρωση Στοιχείων: 5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09.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79640" y="66600"/>
            <a:ext cx="597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66"/>
                </a:solidFill>
                <a:latin typeface="Verdana"/>
              </a:rPr>
              <a:t>Δραστηριότητα υπηρεσίας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Help De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5920" y="1052640"/>
          <a:ext cx="5751360" cy="338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920" y="1052640"/>
                    <a:ext cx="575136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5435640" y="3762360"/>
          <a:ext cx="3635280" cy="2362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5640" y="3762360"/>
                    <a:ext cx="36352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835280" y="75960"/>
            <a:ext cx="59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Verdana"/>
              </a:rPr>
              <a:t>Χρήσεις Δ</a:t>
            </a:r>
            <a:r>
              <a:rPr b="1" lang="el-GR" sz="2800" spc="-1" strike="noStrike">
                <a:solidFill>
                  <a:srgbClr val="000066"/>
                </a:solidFill>
                <a:latin typeface="Arial"/>
              </a:rPr>
              <a:t>ιαδ</a:t>
            </a:r>
            <a:r>
              <a:rPr b="1" lang="el-GR" sz="2800" spc="-1" strike="noStrike">
                <a:solidFill>
                  <a:srgbClr val="000066"/>
                </a:solidFill>
                <a:latin typeface="Verdana"/>
              </a:rPr>
              <a:t>ικτύου </a:t>
            </a:r>
            <a:br>
              <a:rPr sz="2800"/>
            </a:br>
            <a:r>
              <a:rPr b="1" lang="el-GR" sz="2800" spc="-1" strike="noStrike">
                <a:solidFill>
                  <a:srgbClr val="000066"/>
                </a:solidFill>
                <a:latin typeface="Verdana"/>
              </a:rPr>
              <a:t>στην Εκπαίδευση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22520" y="1795320"/>
            <a:ext cx="5246640" cy="31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Εργαλείο μάθησης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Εργαλείο επικοινωνίας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Εργαλείο συνεργασίας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Πηγή πληροφόρησης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Πρόσβαση σε υπηρεσίες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Αντικείμενο γνώσης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2558880" cy="28954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76320" y="5486400"/>
            <a:ext cx="89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Verdana"/>
              </a:rPr>
              <a:t>Αναιρεί χρονικούς &amp; γεωγραφικούς περιορισμού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63280" y="76320"/>
            <a:ext cx="6480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Verdana"/>
              </a:rPr>
              <a:t>Πηγές Ακατάλληλου Περιεχομένου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66"/>
                </a:solidFill>
                <a:latin typeface="Verdana"/>
              </a:rPr>
              <a:t>Περιεχόμενο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Εμπορικές και προσωπικές ιστοσελίδες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66"/>
                </a:solidFill>
                <a:latin typeface="Verdana"/>
              </a:rPr>
              <a:t>Επικοινωνία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Υπηρεσίες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Newsgroups</a:t>
            </a: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hat,</a:t>
            </a: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FTP</a:t>
            </a: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 και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Bulletin board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Υπηρεσίες E-mail ("spam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mail</a:t>
            </a: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")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Υπηρεσίες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nstant Messaging (</a:t>
            </a: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π.χ.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CQ)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66"/>
                </a:solidFill>
                <a:latin typeface="Verdana"/>
              </a:rPr>
              <a:t>Εμπόριο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Υπηρεσίες ηλεκτρονικού εμπορίου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Διαφήμιση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63280" y="76320"/>
            <a:ext cx="6480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Verdana"/>
              </a:rPr>
              <a:t>Τεχνικές Ελέγχου Περιεχομένου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24000" y="1220400"/>
            <a:ext cx="8424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66"/>
                </a:solidFill>
                <a:latin typeface="Verdana"/>
              </a:rPr>
              <a:t>Με λέξεις κλειδιά 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(Blocking keywords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75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Απαγόρευση πρόσβασης σε σελίδες που περιέχουν συγκεκριμένες λέξεις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75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Αδυναμία ελέγχου εικόνων, ήχων, κλπ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7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66"/>
                </a:solidFill>
                <a:latin typeface="Verdana"/>
              </a:rPr>
              <a:t>Αρνητικές και θετικές λίστες (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egative &amp; Positive Lists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75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Χρήση προκαθορισμένων λιστών αποδεκτών ή απαράδεκτων σελίδων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75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Μεγάλο διαχειριστικό βάρος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7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66"/>
                </a:solidFill>
                <a:latin typeface="Verdana"/>
              </a:rPr>
              <a:t>Κατηγοριοποίηση και ταξινόμηση περιεχομένου  (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Content labeling &amp; rat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75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Απόδοση ετικετών σε κάθε σελίδα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nterne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75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Κατηγοριοποίηση από τον δημιουργό της σελίδας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75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Κατηγοριοποίηση από ανεξάρτητους φορείς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7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66"/>
                </a:solidFill>
                <a:latin typeface="Verdana"/>
              </a:rPr>
              <a:t>Συνδυασμός των παραπάνω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63640" y="11592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66"/>
                </a:solidFill>
                <a:latin typeface="Verdana"/>
              </a:rPr>
              <a:t>Τεχνικές: </a:t>
            </a:r>
            <a:br>
              <a:rPr sz="2400"/>
            </a:br>
            <a:r>
              <a:rPr b="1" lang="el-GR" sz="2400" spc="-1" strike="noStrike">
                <a:solidFill>
                  <a:srgbClr val="000066"/>
                </a:solidFill>
                <a:latin typeface="Verdana"/>
              </a:rPr>
              <a:t>Μπλοκάρισμα με λέξεις κλειδιά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17680" y="1341360"/>
            <a:ext cx="8175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355680">
              <a:lnSpc>
                <a:spcPct val="110000"/>
              </a:lnSpc>
              <a:spcBef>
                <a:spcPts val="10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Αποκλείει την πρόσβαση σε σελίδες που περιέχουν συγκεκριμένες λέξεις, π.χ. αλκοόλ, σεξ, ναρκωτικά</a:t>
            </a:r>
            <a:r>
              <a:rPr b="0" lang="en-GB" sz="2000" spc="-1" strike="noStrike">
                <a:solidFill>
                  <a:srgbClr val="000066"/>
                </a:solidFill>
                <a:latin typeface="Verdana"/>
              </a:rPr>
              <a:t>, </a:t>
            </a: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κλπ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33520" indent="-355680">
              <a:lnSpc>
                <a:spcPct val="110000"/>
              </a:lnSpc>
              <a:spcBef>
                <a:spcPts val="10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Πολύ εύκολη στην εφαρμογή της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33520" indent="-355680">
              <a:lnSpc>
                <a:spcPct val="110000"/>
              </a:lnSpc>
              <a:spcBef>
                <a:spcPts val="10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Είναι δυνατό να αποκόψει σελίδες που δεν πρέπει να αποκοπούν και αντίστροφα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33520" indent="-355680">
              <a:lnSpc>
                <a:spcPct val="110000"/>
              </a:lnSpc>
              <a:spcBef>
                <a:spcPts val="10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Ανεπαρκής: Αποκόπτει κάθε σελίδα που περιέχει τη λέξη κλειδί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33520" indent="-355680">
              <a:lnSpc>
                <a:spcPct val="110000"/>
              </a:lnSpc>
              <a:spcBef>
                <a:spcPts val="10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Μπορεί εύκολα να παρακαμφθεί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33520" indent="-355680">
              <a:lnSpc>
                <a:spcPct val="110000"/>
              </a:lnSpc>
              <a:spcBef>
                <a:spcPts val="10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Η αποκοπή βασίζεται μόνο στη σύγκριση κειμένου, όχι εικόνες,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video</a:t>
            </a: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, κλπ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63280" y="138240"/>
            <a:ext cx="6480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Verdana"/>
              </a:rPr>
              <a:t>Τεχνικές: </a:t>
            </a:r>
            <a:br>
              <a:rPr sz="2800"/>
            </a:br>
            <a:r>
              <a:rPr b="1" lang="el-GR" sz="2800" spc="-1" strike="noStrike">
                <a:solidFill>
                  <a:srgbClr val="000066"/>
                </a:solidFill>
                <a:latin typeface="Verdana"/>
              </a:rPr>
              <a:t>Θετικές και Αρνητικές Λίστες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17680" y="1626840"/>
            <a:ext cx="81756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Θετικές (λευκές) λίστες: κατάλογοι με διευθύνσεις περιοχών (</a:t>
            </a: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domains</a:t>
            </a: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)</a:t>
            </a: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του διαδικτύου</a:t>
            </a: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στις οποίες επιτρέπεται η πρόσβαση</a:t>
            </a: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Αρνητικές (μαύρες) λίστες: κατάλογοι με διευθύνσεις περιοχών</a:t>
            </a: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στις οποίες απαγορεύεται η πρόσβαση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Εύκολες στη χρήση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Πολύ περιοριστική τεχνική αναφορικά με το πλήθος των ιστοσελίδων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63640" y="76320"/>
            <a:ext cx="6237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Χρήση 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hatroom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1400" y="871560"/>
            <a:ext cx="4170240" cy="2589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427640" y="1368360"/>
            <a:ext cx="4681440" cy="2924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332000" y="3238560"/>
            <a:ext cx="4248000" cy="3338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932360" y="5877000"/>
            <a:ext cx="42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66"/>
                </a:solidFill>
                <a:latin typeface="Verdana"/>
              </a:rPr>
              <a:t>Έρευνα: Παιδιά και Διαδίκτυο, Ε.ΚΑΤ.Ο.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92360" y="189000"/>
            <a:ext cx="6480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Verdana"/>
              </a:rPr>
              <a:t>Τεχνικές: Κατηγοριοποίηση &amp; Ταξινόμηση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84280" y="1483920"/>
            <a:ext cx="80913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Κατηγοριοποίηση των ιστοσελίδων με βάση το περιεχόμενο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Ο χρήστης είναι ελεύθερος να αποφασίσει ποιες κατηγορίες θα αποκόπτει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Κατηγοριοποίηση από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66"/>
                </a:solidFill>
                <a:latin typeface="Verdana"/>
              </a:rPr>
              <a:t>ανεξάρτητους οργανισμούς π.χ. </a:t>
            </a: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Internet Content Rating Association</a:t>
            </a:r>
            <a:r>
              <a:rPr b="0" lang="el-GR" sz="1600" spc="-1" strike="noStrike">
                <a:solidFill>
                  <a:srgbClr val="000066"/>
                </a:solidFill>
                <a:latin typeface="Verdana"/>
              </a:rPr>
              <a:t> (</a:t>
            </a: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ICRA</a:t>
            </a:r>
            <a:r>
              <a:rPr b="0" lang="el-GR" sz="1600" spc="-1" strike="noStrike">
                <a:solidFill>
                  <a:srgbClr val="000066"/>
                </a:solidFill>
                <a:latin typeface="Verdana"/>
              </a:rPr>
              <a:t>), </a:t>
            </a: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SafeSurf</a:t>
            </a:r>
            <a:r>
              <a:rPr b="0" lang="el-GR" sz="1600" spc="-1" strike="noStrike">
                <a:solidFill>
                  <a:srgbClr val="000066"/>
                </a:solidFill>
                <a:latin typeface="Verdana"/>
              </a:rPr>
              <a:t>, </a:t>
            </a: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Entertainment Software Rating Board (ESRB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66"/>
                </a:solidFill>
                <a:latin typeface="Verdana"/>
              </a:rPr>
              <a:t>τους </a:t>
            </a: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web developers (self-rate) 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66"/>
                </a:solidFill>
                <a:latin typeface="Verdana"/>
              </a:rPr>
              <a:t>τον χρήστη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Σημαντικό θέμα αποτελεί το διαρκώς αυξανόμενο μέγεθος του </a:t>
            </a:r>
            <a:r>
              <a:rPr b="0" lang="en-GB" sz="1800" spc="-1" strike="noStrike">
                <a:solidFill>
                  <a:srgbClr val="000066"/>
                </a:solidFill>
                <a:latin typeface="Verdana"/>
              </a:rPr>
              <a:t> Internet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Ανεπαρκής αν κανείς δεν συνεισφέρει στο έργο της κατηγοριοποίησης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Ανεπαρκής μέχρι να συγκεντρωθεί μία κρίσιμη μάζα κατηγοριοποιημένου υλικού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6264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Verdana"/>
              </a:rPr>
              <a:t>Τεχνικές: </a:t>
            </a:r>
            <a:br>
              <a:rPr sz="2800"/>
            </a:br>
            <a:r>
              <a:rPr b="1" lang="el-GR" sz="2800" spc="-1" strike="noStrike">
                <a:solidFill>
                  <a:srgbClr val="000066"/>
                </a:solidFill>
                <a:latin typeface="Verdana"/>
              </a:rPr>
              <a:t>Συμπεράσματα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24720" cy="43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Όλες οι παραπάνω τεχνικές έχουν ατέλειες και τεχνικούς περιορισμούς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Το έργο του ελέγχου περιεχομένου είναι εξαιρετικά δύσκολο. Βασικός παράγοντας δυσκολίας είναι το  διαρκώς αυξανόμενο μέγεθος του Διαδικτύου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Η καλύτερη προσέγγιση είναι αυτή που συνδυάζει όλες τις πιθανές τεχνικές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Οι μαθητές υπό την επίβλεψη των καθηγητών τους πρέπει να  εκπαιδεύονται καθημερινά ώστε να είναι ικανοί να προστατέψουν οι ίδιοι τον εαυτό τους από τους πιθανούς κινδύνους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0720" y="138240"/>
            <a:ext cx="836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Λύσεις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8175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10000"/>
              </a:lnSpc>
              <a:spcBef>
                <a:spcPts val="14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66"/>
                </a:solidFill>
                <a:latin typeface="Verdana"/>
              </a:rPr>
              <a:t>Με Εμπορικό Λογισμικό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14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66"/>
                </a:solidFill>
                <a:latin typeface="Verdana"/>
              </a:rPr>
              <a:t>Με Ελεύθερο Λογισμικό / Λογισμικό Ανοικτού Κώδικα (ΕΛ/ΛΑΚ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14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66"/>
                </a:solidFill>
                <a:latin typeface="Verdana"/>
              </a:rPr>
              <a:t>Λύσεις βασισμένες σε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hardwar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517680" y="1267920"/>
            <a:ext cx="8175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Είναι πολύ ισχυρές λύσεις που μπορούν να</a:t>
            </a:r>
            <a:r>
              <a:rPr b="0" lang="en-GB" sz="2000" spc="-1" strike="noStrike">
                <a:solidFill>
                  <a:srgbClr val="000066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Καταγράφουν αναλυτικά κάθε δραστηριότητα του χρήστη</a:t>
            </a:r>
            <a:r>
              <a:rPr b="0" lang="en-GB" sz="2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Ελέγχουν την πρόσβαση στις υπηρεσίες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web, mail, news, chat, instance messaging</a:t>
            </a: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, κλπ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, </a:t>
            </a: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αλλά και άλλων εφαρμογών που έχει ο χρήστης στον υπολογιστή του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Ορίζουν χρονικές ζώνες πρόσβασης στο </a:t>
            </a:r>
            <a:r>
              <a:rPr b="0" lang="en-GB" sz="2000" spc="-1" strike="noStrike">
                <a:solidFill>
                  <a:srgbClr val="000066"/>
                </a:solidFill>
                <a:latin typeface="Verdana"/>
              </a:rPr>
              <a:t>Interne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Αποκλείουν συγκεκριμένα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ports </a:t>
            </a: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και υπηρεσίες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Επιτρέπουν διαφορετική διαμόρφωση ανά χρήστη ή ομάδα χρηστών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Εγκαθίστανται σε </a:t>
            </a:r>
            <a:r>
              <a:rPr b="0" lang="en-GB" sz="2000" spc="-1" strike="noStrike">
                <a:solidFill>
                  <a:srgbClr val="000066"/>
                </a:solidFill>
                <a:latin typeface="Verdana"/>
              </a:rPr>
              <a:t>server :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martFilter, Bess, WebSense</a:t>
            </a:r>
            <a:r>
              <a:rPr b="0" lang="en-GB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ή στους </a:t>
            </a:r>
            <a:r>
              <a:rPr b="0" lang="en-GB" sz="2000" spc="-1" strike="noStrike">
                <a:solidFill>
                  <a:srgbClr val="000066"/>
                </a:solidFill>
                <a:latin typeface="Verdana"/>
              </a:rPr>
              <a:t>clients: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tNanny, CyberSitter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Προσφέρουν εκδόσεις για οικιακή χρήση </a:t>
            </a:r>
            <a:r>
              <a:rPr b="0" lang="en-GB" sz="2000" spc="-1" strike="noStrike">
                <a:solidFill>
                  <a:srgbClr val="000066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yberPatrol</a:t>
            </a:r>
            <a:r>
              <a:rPr b="0" lang="en-GB" sz="2000" spc="-1" strike="noStrike">
                <a:solidFill>
                  <a:srgbClr val="000066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1835280" y="44280"/>
            <a:ext cx="619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Verdana"/>
              </a:rPr>
              <a:t>Λύσεις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: </a:t>
            </a:r>
            <a:r>
              <a:rPr b="1" lang="el-GR" sz="2800" spc="-1" strike="noStrike">
                <a:solidFill>
                  <a:srgbClr val="000066"/>
                </a:solidFill>
                <a:latin typeface="Verdana"/>
              </a:rPr>
              <a:t>Εμπορικό Λογισμικό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324000" y="1371240"/>
            <a:ext cx="8424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66"/>
                </a:solidFill>
                <a:uFillTx/>
                <a:latin typeface="Verdana"/>
              </a:rPr>
              <a:t>Squid</a:t>
            </a:r>
            <a:r>
              <a:rPr b="1" lang="el-GR" sz="1800" spc="-1" strike="noStrike" u="sng">
                <a:solidFill>
                  <a:srgbClr val="000066"/>
                </a:solidFill>
                <a:uFillTx/>
                <a:latin typeface="Verdana"/>
              </a:rPr>
              <a:t>:</a:t>
            </a: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open source,</a:t>
            </a: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 ευρείας χρήσης, καλά διαμορφούμενος </a:t>
            </a:r>
            <a:r>
              <a:rPr b="0" lang="en-GB" sz="1800" spc="-1" strike="noStrike">
                <a:solidFill>
                  <a:srgbClr val="000066"/>
                </a:solidFill>
                <a:latin typeface="Verdana"/>
              </a:rPr>
              <a:t>proxy &amp; cache server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Ανακατευθυντές</a:t>
            </a:r>
            <a:r>
              <a:rPr b="0" lang="en-GB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ελέγχου περιεχομένου </a:t>
            </a:r>
            <a:r>
              <a:rPr b="0" lang="en-GB" sz="1800" spc="-1" strike="noStrike">
                <a:solidFill>
                  <a:srgbClr val="000066"/>
                </a:solidFill>
                <a:latin typeface="Verdana"/>
              </a:rPr>
              <a:t>(</a:t>
            </a: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χρησιμοποιούμενοι από </a:t>
            </a:r>
            <a:r>
              <a:rPr b="0" lang="en-GB" sz="1800" spc="-1" strike="noStrike">
                <a:solidFill>
                  <a:srgbClr val="000066"/>
                </a:solidFill>
                <a:latin typeface="Verdana"/>
              </a:rPr>
              <a:t>Squid)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SquidGuard, Squirm </a:t>
            </a:r>
            <a:r>
              <a:rPr b="0" lang="el-GR" sz="1600" spc="-1" strike="noStrike">
                <a:solidFill>
                  <a:srgbClr val="000066"/>
                </a:solidFill>
                <a:latin typeface="Verdana"/>
              </a:rPr>
              <a:t>και </a:t>
            </a: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Jesred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Άλλοι ελεύθεροι </a:t>
            </a:r>
            <a:r>
              <a:rPr b="0" lang="en-GB" sz="1800" spc="-1" strike="noStrike">
                <a:solidFill>
                  <a:srgbClr val="000066"/>
                </a:solidFill>
                <a:latin typeface="Verdana"/>
              </a:rPr>
              <a:t>proxies: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Netscape Proxy Server 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Microsoft Proxy Server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Κόστος Διαχείρισης </a:t>
            </a:r>
            <a:r>
              <a:rPr b="0" lang="en-GB" sz="1800" spc="-1" strike="noStrike">
                <a:solidFill>
                  <a:srgbClr val="00006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66"/>
                </a:solidFill>
                <a:latin typeface="Verdana"/>
              </a:rPr>
              <a:t>Απουσία φιλικού περιβάλλοντος διαχείρισης</a:t>
            </a: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66"/>
                </a:solidFill>
                <a:latin typeface="Verdana"/>
              </a:rPr>
              <a:t>Κάποιες από τις λειτουργίες αλλάζουν μόνο μετά από επαναγλώτισση του πηγαίου κώδικα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66"/>
                </a:solidFill>
                <a:latin typeface="Verdana"/>
              </a:rPr>
              <a:t>Δεν υπάρχει επίσημη υποστήριξη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Πολύ μεγάλος αριθμός τέτοιων λογισμικών διατίθενται  ελεύθερα στο </a:t>
            </a:r>
            <a:r>
              <a:rPr b="0" lang="en-GB" sz="1800" spc="-1" strike="noStrike">
                <a:solidFill>
                  <a:srgbClr val="000066"/>
                </a:solidFill>
                <a:latin typeface="Verdana"/>
              </a:rPr>
              <a:t>Interne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1836360" y="66600"/>
            <a:ext cx="60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Verdana"/>
              </a:rPr>
              <a:t>Λύσεις: Ελεύθερα και Ανοικτά Λογισμικά (ΕΛ/ΛΑΚ)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584280" y="1413000"/>
            <a:ext cx="8175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Δείχνουν ως η πιο πλήρης λύση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Χρησιμοποιούνται σε εγκαταστάσεις μεγάλης κλίμακας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Π.χ.</a:t>
            </a:r>
            <a:r>
              <a:rPr b="0" lang="en-GB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tCache</a:t>
            </a:r>
            <a:r>
              <a:rPr b="0" lang="en-GB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από την </a:t>
            </a:r>
            <a:r>
              <a:rPr b="0" lang="en-GB" sz="1800" spc="-1" strike="noStrike">
                <a:solidFill>
                  <a:srgbClr val="000066"/>
                </a:solidFill>
                <a:latin typeface="Verdana"/>
              </a:rPr>
              <a:t>Network Appliance Company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Πλεονεκτήματα</a:t>
            </a:r>
            <a:r>
              <a:rPr b="0" lang="en-GB" sz="1800" spc="-1" strike="noStrike">
                <a:solidFill>
                  <a:srgbClr val="00006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66"/>
                </a:solidFill>
                <a:latin typeface="Verdana"/>
              </a:rPr>
              <a:t>Απαιτούν ελάχιστη προσπάθεια εγκατάστασης και διαμόρφωσης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66"/>
                </a:solidFill>
                <a:latin typeface="Verdana"/>
              </a:rPr>
              <a:t>Διαχειρίζονται μέσω </a:t>
            </a: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web, cgi </a:t>
            </a:r>
            <a:r>
              <a:rPr b="0" lang="el-GR" sz="1600" spc="-1" strike="noStrike">
                <a:solidFill>
                  <a:srgbClr val="000066"/>
                </a:solidFill>
                <a:latin typeface="Verdana"/>
              </a:rPr>
              <a:t>φορμών</a:t>
            </a: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l-GR" sz="1600" spc="-1" strike="noStrike">
                <a:solidFill>
                  <a:srgbClr val="000066"/>
                </a:solidFill>
                <a:latin typeface="Verdana"/>
              </a:rPr>
              <a:t>και </a:t>
            </a: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telnet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66"/>
                </a:solidFill>
                <a:latin typeface="Verdana"/>
              </a:rPr>
              <a:t>Η λειτουργία τους επιβλέπεται μέσω του πρωτοκόλλου</a:t>
            </a: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 SNMP 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66"/>
                </a:solidFill>
                <a:latin typeface="Verdana"/>
              </a:rPr>
              <a:t>Οι αναβαθμίσεις λογισμικού μπορούν να γίνουν από μακριά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66"/>
                </a:solidFill>
                <a:latin typeface="Verdana"/>
              </a:rPr>
              <a:t>Διαμορφώνονται και λειτουργούν με πλήρη υποστήριξη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66"/>
                </a:solidFill>
                <a:latin typeface="Verdana"/>
              </a:rPr>
              <a:t>Συντηρούν</a:t>
            </a: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 log files </a:t>
            </a:r>
            <a:r>
              <a:rPr b="0" lang="el-GR" sz="1600" spc="-1" strike="noStrike">
                <a:solidFill>
                  <a:srgbClr val="000066"/>
                </a:solidFill>
                <a:latin typeface="Verdana"/>
              </a:rPr>
              <a:t>των εξυπηρετούμενων αιτημάτων, των δικαιωμάτων χρηστών και ομάδων χρηστών, λίστες ελέγχου πρόσβασης</a:t>
            </a: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, </a:t>
            </a:r>
            <a:r>
              <a:rPr b="0" lang="el-GR" sz="1600" spc="-1" strike="noStrike">
                <a:solidFill>
                  <a:srgbClr val="000066"/>
                </a:solidFill>
                <a:latin typeface="Verdana"/>
              </a:rPr>
              <a:t>κλπ</a:t>
            </a: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66"/>
                </a:solidFill>
                <a:latin typeface="Verdana"/>
              </a:rPr>
              <a:t>Η πιστοποίηση των χρηστών γίνεται μέσω κωδικού ή μέσω </a:t>
            </a: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RADIUS server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Μειονεκτήματα</a:t>
            </a:r>
            <a:r>
              <a:rPr b="0" lang="en-GB" sz="1800" spc="-1" strike="noStrike">
                <a:solidFill>
                  <a:srgbClr val="00006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66"/>
                </a:solidFill>
                <a:latin typeface="Verdana"/>
              </a:rPr>
              <a:t>Υψηλό κόστος</a:t>
            </a: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1763280" y="189000"/>
            <a:ext cx="6264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Verdana"/>
              </a:rPr>
              <a:t>Λύσεις βασισμένες σε 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Hardware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63640" y="76320"/>
            <a:ext cx="6237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Υλοποίηση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στο ΠΣΔ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2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67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Χρήση διαφανούς διακομιστή διαμεσολάβησης (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Transparent Proxy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Λογισμικό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Verdana"/>
              </a:rPr>
              <a:t>Squid</a:t>
            </a: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, το οποίο χρησιμοποιείται στα μεγαλύτερα εκπαιδευτικά δίκτυα διεθνώς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: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JANET</a:t>
            </a: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 (</a:t>
            </a:r>
            <a:r>
              <a:rPr b="0" lang="el-GR" sz="1600" spc="-1" strike="noStrike">
                <a:solidFill>
                  <a:srgbClr val="000066"/>
                </a:solidFill>
                <a:latin typeface="Verdana"/>
              </a:rPr>
              <a:t>Αγγλία</a:t>
            </a: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),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GARR </a:t>
            </a: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(</a:t>
            </a:r>
            <a:r>
              <a:rPr b="0" lang="el-GR" sz="1600" spc="-1" strike="noStrike">
                <a:solidFill>
                  <a:srgbClr val="000066"/>
                </a:solidFill>
                <a:latin typeface="Verdana"/>
              </a:rPr>
              <a:t>Ιταλία</a:t>
            </a: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),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FN </a:t>
            </a: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(</a:t>
            </a:r>
            <a:r>
              <a:rPr b="0" lang="el-GR" sz="1600" spc="-1" strike="noStrike">
                <a:solidFill>
                  <a:srgbClr val="000066"/>
                </a:solidFill>
                <a:latin typeface="Verdana"/>
              </a:rPr>
              <a:t>Γερμανία</a:t>
            </a: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),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SWITCH </a:t>
            </a: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(</a:t>
            </a:r>
            <a:r>
              <a:rPr b="0" lang="el-GR" sz="1600" spc="-1" strike="noStrike">
                <a:solidFill>
                  <a:srgbClr val="000066"/>
                </a:solidFill>
                <a:latin typeface="Verdana"/>
              </a:rPr>
              <a:t>Ελβετία</a:t>
            </a: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),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SURFnet </a:t>
            </a: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(</a:t>
            </a:r>
            <a:r>
              <a:rPr b="0" lang="el-GR" sz="1600" spc="-1" strike="noStrike">
                <a:solidFill>
                  <a:srgbClr val="000066"/>
                </a:solidFill>
                <a:latin typeface="Verdana"/>
              </a:rPr>
              <a:t>Δανία</a:t>
            </a: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),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NLANR </a:t>
            </a: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(</a:t>
            </a:r>
            <a:r>
              <a:rPr b="0" lang="el-GR" sz="1600" spc="-1" strike="noStrike">
                <a:solidFill>
                  <a:srgbClr val="000066"/>
                </a:solidFill>
                <a:latin typeface="Verdana"/>
              </a:rPr>
              <a:t>ΗΠΑ</a:t>
            </a: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lnSpc>
                <a:spcPct val="110000"/>
              </a:lnSpc>
              <a:spcBef>
                <a:spcPts val="67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Παραμετρικός έλεγχος σε διάφορα επίπεδα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lnSpc>
                <a:spcPct val="110000"/>
              </a:lnSpc>
              <a:spcBef>
                <a:spcPts val="67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Ορισμός πολλαπλών κανόνων ανά χρήστη, ομάδα χρηστών, κλπ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lnSpc>
                <a:spcPct val="110000"/>
              </a:lnSpc>
              <a:spcBef>
                <a:spcPts val="67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Αποκλεισμός πρόσβασης, αποθάρρυνση πρόσβασης, ενημέρωση για είσοδο σε «ακατάλληλη» περιοχή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lnSpc>
                <a:spcPct val="110000"/>
              </a:lnSpc>
              <a:spcBef>
                <a:spcPts val="67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Επιβολή περιορισμών σε συγκεκριμένες ώρες της ημέρας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lnSpc>
                <a:spcPct val="110000"/>
              </a:lnSpc>
              <a:spcBef>
                <a:spcPts val="67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Καταγραφή κίνησης και δημιουργία αναφορών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lnSpc>
                <a:spcPct val="110000"/>
              </a:lnSpc>
              <a:spcBef>
                <a:spcPts val="67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Δημιουργία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blacklist </a:t>
            </a: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από ένα «κουτό ρομπότ»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(dummy robot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lnSpc>
                <a:spcPct val="110000"/>
              </a:lnSpc>
              <a:spcBef>
                <a:spcPts val="67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Περιορισμένη επιτυχία (ψευδώς θετικές και ψευδώς αρνητικές απαντήσεις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lnSpc>
                <a:spcPct val="110000"/>
              </a:lnSpc>
              <a:spcBef>
                <a:spcPts val="67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Δυνατότητα επικοινωνίας χρηστών με τον διαχειριστή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63640" y="44280"/>
            <a:ext cx="6553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66"/>
                </a:solidFill>
                <a:latin typeface="Verdana"/>
              </a:rPr>
              <a:t>Δυνητικά Επιβλαβές Περιεχόμενο </a:t>
            </a:r>
            <a:br>
              <a:rPr sz="2400"/>
            </a:br>
            <a:r>
              <a:rPr b="1" lang="el-GR" sz="2400" spc="-1" strike="noStrike">
                <a:solidFill>
                  <a:srgbClr val="000066"/>
                </a:solidFill>
                <a:latin typeface="Verdana"/>
              </a:rPr>
              <a:t>(για ανήλικους)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24000" y="1508040"/>
            <a:ext cx="8424720" cy="45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Δικτυακές σελίδες που περιέχουν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56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Πορνογραφία και ειδικά παιδική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(</a:t>
            </a: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Κατηγορία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: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Porn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)*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56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Προπαγάνδα ναρκωτικών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rugs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)*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56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Προπαγάνδα βίας και μίσους (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Violence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)*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56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Προπαγάνδα για επιθετική συμπεριφορά και ρατσισμό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ggressive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)*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56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Τυχερά παιχνίδια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Gambling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)*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56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Διαφημιστικό υλικό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(Ads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56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Πληροφορίες για παραβιάσεις ασφαλείας υπολογιστικών συστημάτων (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Hack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56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Πληροφορίες με κωδικούς πρόσβασης σε προγράμματα χωρίς νόμιμη άδεια (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Warez)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000066"/>
                </a:solidFill>
                <a:latin typeface="Verdana"/>
              </a:rPr>
              <a:t>*</a:t>
            </a:r>
            <a:r>
              <a:rPr b="0" i="1" lang="el-GR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i="1" lang="el-GR" sz="1600" spc="-1" strike="noStrike">
                <a:solidFill>
                  <a:srgbClr val="000066"/>
                </a:solidFill>
                <a:latin typeface="Verdana"/>
              </a:rPr>
              <a:t>Αποκόπτονται από το Πανελλήνιο Σχολικό Δίκτυο. 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i="1" lang="el-GR" sz="1600" spc="-1" strike="noStrike">
                <a:solidFill>
                  <a:srgbClr val="000066"/>
                </a:solidFill>
                <a:latin typeface="Verdana"/>
              </a:rPr>
              <a:t>Με </a:t>
            </a:r>
            <a:r>
              <a:rPr b="1" lang="el-GR" sz="1600" spc="-1" strike="noStrike">
                <a:solidFill>
                  <a:srgbClr val="ff0000"/>
                </a:solidFill>
                <a:latin typeface="Verdana"/>
              </a:rPr>
              <a:t>κόκκινο</a:t>
            </a:r>
            <a:r>
              <a:rPr b="0" i="1" lang="en-US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i="1" lang="el-GR" sz="1600" spc="-1" strike="noStrike">
                <a:solidFill>
                  <a:srgbClr val="000066"/>
                </a:solidFill>
                <a:latin typeface="Verdana"/>
              </a:rPr>
              <a:t>σημειώνονται οι πλέον κρίσιμες κατηγορίες για την εκπαίδευση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63640" y="76320"/>
            <a:ext cx="6237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Περιγραφή 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blacklist</a:t>
            </a: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 ΠΣΔ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8424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10000"/>
              </a:lnSpc>
              <a:spcBef>
                <a:spcPts val="67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Η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blacklist</a:t>
            </a: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 προέρχεται από τη λίστα ακατάλληλων δικτυακών τόπων και σελίδων που δημιουργήθηκε και συντηρείται από τους δημιουργούς του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quidGuard</a:t>
            </a: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7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Οι εγγραφές της βάσης είναι τριών τύπων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domains</a:t>
            </a:r>
            <a:r>
              <a:rPr b="0" lang="el-GR" sz="1600" spc="-1" strike="noStrike">
                <a:solidFill>
                  <a:srgbClr val="000066"/>
                </a:solidFill>
                <a:latin typeface="Verdana"/>
              </a:rPr>
              <a:t>, π.χ.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sex</a:t>
            </a:r>
            <a:r>
              <a:rPr b="0" lang="el-GR" sz="1600" spc="-1" strike="noStrike">
                <a:solidFill>
                  <a:srgbClr val="000066"/>
                </a:solidFill>
                <a:latin typeface="Verdana"/>
              </a:rPr>
              <a:t>.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com</a:t>
            </a:r>
            <a:r>
              <a:rPr b="0" lang="el-GR" sz="1600" spc="-1" strike="noStrike">
                <a:solidFill>
                  <a:srgbClr val="000066"/>
                </a:solidFill>
                <a:latin typeface="Verdana"/>
              </a:rPr>
              <a:t>, που αποκλείουν την πρόσβαση σε ολόκληρες δικτυακές περιοχές που έχουν ακατάλληλο περιεχόμενο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 (</a:t>
            </a:r>
            <a:r>
              <a:rPr b="0" lang="el-GR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~</a:t>
            </a:r>
            <a:r>
              <a:rPr b="1" lang="el-GR" sz="1600" spc="-1" strike="noStrike">
                <a:solidFill>
                  <a:srgbClr val="ff0000"/>
                </a:solidFill>
                <a:latin typeface="Verdana"/>
              </a:rPr>
              <a:t>63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.</a:t>
            </a:r>
            <a:r>
              <a:rPr b="1" lang="el-GR" sz="1600" spc="-1" strike="noStrike">
                <a:solidFill>
                  <a:srgbClr val="ff0000"/>
                </a:solidFill>
                <a:latin typeface="Verdana"/>
              </a:rPr>
              <a:t>600</a:t>
            </a:r>
            <a:r>
              <a:rPr b="0" lang="el-GR" sz="1600" spc="-1" strike="noStrike">
                <a:solidFill>
                  <a:srgbClr val="000066"/>
                </a:solidFill>
                <a:latin typeface="Verdana"/>
              </a:rPr>
              <a:t> εγγραφές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urls</a:t>
            </a:r>
            <a:r>
              <a:rPr b="0" lang="el-GR" sz="1600" spc="-1" strike="noStrike">
                <a:solidFill>
                  <a:srgbClr val="000066"/>
                </a:solidFill>
                <a:latin typeface="Verdana"/>
              </a:rPr>
              <a:t>, π.χ. </a:t>
            </a: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bearportal</a:t>
            </a:r>
            <a:r>
              <a:rPr b="0" lang="el-GR" sz="1600" spc="-1" strike="noStrike">
                <a:solidFill>
                  <a:srgbClr val="000066"/>
                </a:solidFill>
                <a:latin typeface="Verdana"/>
              </a:rPr>
              <a:t>.</a:t>
            </a: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com</a:t>
            </a:r>
            <a:r>
              <a:rPr b="0" lang="el-GR" sz="1600" spc="-1" strike="noStrike">
                <a:solidFill>
                  <a:srgbClr val="000066"/>
                </a:solidFill>
                <a:latin typeface="Verdana"/>
              </a:rPr>
              <a:t>/</a:t>
            </a: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adults</a:t>
            </a:r>
            <a:r>
              <a:rPr b="0" lang="el-GR" sz="1600" spc="-1" strike="noStrike">
                <a:solidFill>
                  <a:srgbClr val="000066"/>
                </a:solidFill>
                <a:latin typeface="Verdana"/>
              </a:rPr>
              <a:t>, που αποκλείουν την πρόσβαση σε συγκεκριμένες σελίδες δικτυακών τόπων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 (</a:t>
            </a:r>
            <a:r>
              <a:rPr b="0" lang="el-GR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~</a:t>
            </a:r>
            <a:r>
              <a:rPr b="0" lang="el-GR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l-GR" sz="1600" spc="-1" strike="noStrike">
                <a:solidFill>
                  <a:srgbClr val="ff0000"/>
                </a:solidFill>
                <a:latin typeface="Verdana"/>
              </a:rPr>
              <a:t>30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.</a:t>
            </a:r>
            <a:r>
              <a:rPr b="1" lang="el-GR" sz="1600" spc="-1" strike="noStrike">
                <a:solidFill>
                  <a:srgbClr val="ff0000"/>
                </a:solidFill>
                <a:latin typeface="Verdana"/>
              </a:rPr>
              <a:t>800</a:t>
            </a:r>
            <a:r>
              <a:rPr b="0" lang="el-GR" sz="1600" spc="-1" strike="noStrike">
                <a:solidFill>
                  <a:srgbClr val="000066"/>
                </a:solidFill>
                <a:latin typeface="Verdana"/>
              </a:rPr>
              <a:t> εγγραφές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66"/>
                </a:solidFill>
                <a:latin typeface="Verdana"/>
              </a:rPr>
              <a:t>expressions</a:t>
            </a:r>
            <a:r>
              <a:rPr b="0" lang="el-GR" sz="1600" spc="-1" strike="noStrike">
                <a:solidFill>
                  <a:srgbClr val="000066"/>
                </a:solidFill>
                <a:latin typeface="Verdana"/>
              </a:rPr>
              <a:t>, που περιέχουν λέξεις κλειδιά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,</a:t>
            </a:r>
            <a:r>
              <a:rPr b="0" lang="el-GR" sz="1600" spc="-1" strike="noStrike">
                <a:solidFill>
                  <a:srgbClr val="000066"/>
                </a:solidFill>
                <a:latin typeface="Verdana"/>
              </a:rPr>
              <a:t> βάσει των οποίων αποκλείεται η πρόσβαση σε δικτυακούς τόπους ή σελίδες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 (</a:t>
            </a:r>
            <a:r>
              <a:rPr b="0" lang="el-GR" sz="1600" spc="-1" strike="noStrike">
                <a:solidFill>
                  <a:srgbClr val="000066"/>
                </a:solidFill>
                <a:latin typeface="Verdana"/>
              </a:rPr>
              <a:t>μερικές δεκάδες τέτοιες λέξεις κλειδιά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)</a:t>
            </a:r>
            <a:r>
              <a:rPr b="0" lang="el-GR" sz="1600" spc="-1" strike="noStrike">
                <a:solidFill>
                  <a:srgbClr val="000066"/>
                </a:solidFill>
                <a:latin typeface="Verdana"/>
              </a:rPr>
              <a:t>. Προσφέρουν σημαντική ευελιξία καθώς δεν είναι αποδοτικό ούτε δυνατόν να καταχωρηθούν όλοι οι δικτυακοί τόποι ή σελίδες στις δύο προηγούμενες κατηγορίες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63640" y="76320"/>
            <a:ext cx="6237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Το αποτέλεσμα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rcRect l="875" t="1242" r="17699" b="15042"/>
          <a:stretch/>
        </p:blipFill>
        <p:spPr>
          <a:xfrm>
            <a:off x="1187280" y="1057320"/>
            <a:ext cx="6913800" cy="5035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63640" y="76320"/>
            <a:ext cx="6237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Verdana"/>
              </a:rPr>
              <a:t>Χρήση υπηρεσιών </a:t>
            </a:r>
            <a:br>
              <a:rPr sz="2800"/>
            </a:br>
            <a:r>
              <a:rPr b="1" lang="el-GR" sz="2800" spc="-1" strike="noStrike">
                <a:solidFill>
                  <a:srgbClr val="000066"/>
                </a:solidFill>
                <a:latin typeface="Verdana"/>
              </a:rPr>
              <a:t>ηλεκτρονικού εμπορίου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12509" t="11980" r="0" b="0"/>
          <a:stretch/>
        </p:blipFill>
        <p:spPr>
          <a:xfrm>
            <a:off x="34920" y="1222200"/>
            <a:ext cx="3816360" cy="3016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0" t="4464" r="0" b="0"/>
          <a:stretch/>
        </p:blipFill>
        <p:spPr>
          <a:xfrm>
            <a:off x="1692360" y="3701880"/>
            <a:ext cx="3743280" cy="2822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rcRect l="0" t="6296" r="0" b="0"/>
          <a:stretch/>
        </p:blipFill>
        <p:spPr>
          <a:xfrm>
            <a:off x="5076720" y="1295280"/>
            <a:ext cx="4067280" cy="3049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932360" y="5877000"/>
            <a:ext cx="42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66"/>
                </a:solidFill>
                <a:latin typeface="Verdana"/>
              </a:rPr>
              <a:t>Έρευνα: Παιδιά και Διαδίκτυο, Ε.ΚΑΤ.Ο.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63640" y="76320"/>
            <a:ext cx="6237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Αποτελέσματα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8424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876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Αποκόπτεται από την υπηρεσία σε καθημερινή βάση ποσοστό σελίδων από </a:t>
            </a:r>
            <a:r>
              <a:rPr b="0" lang="el-GR" sz="2000" spc="-1" strike="noStrike">
                <a:solidFill>
                  <a:srgbClr val="ff0000"/>
                </a:solidFill>
                <a:latin typeface="Verdana"/>
              </a:rPr>
              <a:t>1,5% </a:t>
            </a: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έως </a:t>
            </a:r>
            <a:r>
              <a:rPr b="0" lang="el-GR" sz="2000" spc="-1" strike="noStrike">
                <a:solidFill>
                  <a:srgbClr val="ff0000"/>
                </a:solidFill>
                <a:latin typeface="Verdana"/>
              </a:rPr>
              <a:t>3,0%.</a:t>
            </a: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876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Κυμαίνεται γενικά σε χαμηλά επίπεδα, χωρίς αυτό να σημαίνει ότι η υπηρεσία δεν λειτουργεί ικανοποιητικά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876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Λόγοι για το χαμηλό ποσοστό μπορούν να θεωρηθούν, ότι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788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οι χρήστες του ΠΣΔ σταδιακά «εκπαιδεύονται» και «αυτοπεριορίζονται»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788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Η πρόσβαση στις ακατάλληλες σελίδες απαγορεύεται στην πρώτη προσπάθεια και συνεπώς στα αρχεία καταγραφών εμφανίζονται ως μοναδικά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hits</a:t>
            </a: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 σε αντίθεση με τις λοιπές σελίδες, στις οποίες οι χρήστες μπορούν να προηγηθούν χωρίς περιορισμούς και εμφανίζουν πολλαπλάσια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hits</a:t>
            </a: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 στα αρχεία καταγραφών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63640" y="0"/>
            <a:ext cx="662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66"/>
                </a:solidFill>
                <a:latin typeface="Verdana"/>
              </a:rPr>
              <a:t>Προτεραιότητες του Πανελλήνιου Σχολικού Δικτύου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4" name=""/>
          <p:cNvSpPr/>
          <p:nvPr/>
        </p:nvSpPr>
        <p:spPr>
          <a:xfrm>
            <a:off x="611280" y="1738440"/>
            <a:ext cx="7993080" cy="809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Καθορισμός σελίδων με ακατάλληλο περιεχόμεν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1280" y="2690640"/>
            <a:ext cx="7993080" cy="80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080" bIns="4608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Ενημέρωση των δασκάλων, γονέων, μαθητώ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1280" y="3645000"/>
            <a:ext cx="7993080" cy="809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080" bIns="4608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Παραγωγή ποιοτικού εκπαιδευτικού λογισμικού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(</a:t>
            </a: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από άλλα έργα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pro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4635360"/>
            <a:ext cx="7993080" cy="809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080" bIns="4608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Πολιτικές και τεχνικές σε λειτουργί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63640" y="7632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Verdana"/>
              </a:rPr>
              <a:t>Πολιτικές Αποδεκτής Χρήσης του 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Interne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52360" y="1483920"/>
            <a:ext cx="86407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Ενημέρωση και ευαισθητοποίηση των πολιτών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Ενίσχυση της κριτικής ικανότητας των παιδιών για την αποτίμηση του περιεχομένου του Interne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Θετική Αντιπρόταση: Προσφορά περιβάλλοντος με αξιόλογο εκπαιδευτικό υλικό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Συμβουλές για την προστασία των προσωπικών δεδομένων των παιδιών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Ενημέρωση για τα εργαλεία διαχείρισης ακατάλληλου υλικού (φίλτρα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63640" y="7632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Η παρέμβαση των γονέων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836280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Να ενημερωθούν για το Internet και τι κάνουν τα παιδιά τους εκεί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Να δημιουργήσουν μια συμφωνία σε οικογενειακό επίπεδο για την χρήση του Interne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Να συνοδεύουν τα μικρότερα παιδιά όταν συνδέονται στο Internet, ειδικά την πρώτη φορά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Να δημιουργήσουν τη δική τους λίστα με τις προτεινόμενες παιδικές σελίδες και να συμπεριλάβουν μηχανές αναζήτησης φιλικές στη χρήση τους για παιδιά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Να διδάξουν τα παιδιά τους να μην δίνουν ποτέ προσωπικά στοιχεία και πληροφορίες στο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nterne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Να βάζουν τους υπολογιστές με σύνδεση στο Internet σε ένα συχνά χρησιμοποιούμενο χώρο του σπιτιού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66"/>
                </a:solidFill>
                <a:latin typeface="Verdana"/>
              </a:rPr>
              <a:t>Να ενημερωθούν για τα τεχνολογικά εργαλεία τα οποία είναι διαθέσιμα για τον έλεγχο του περιεχομένου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834920" y="442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Συμπεράσματα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692000" y="1341000"/>
            <a:ext cx="72723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66"/>
                </a:solidFill>
                <a:latin typeface="Verdana"/>
              </a:rPr>
              <a:t>Το πρόβλημα που μας απασχολεί δεν είναι απλό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66"/>
                </a:solidFill>
                <a:latin typeface="Verdana"/>
              </a:rPr>
              <a:t>Οι ακολουθούμενες πρακτικές είναι περίπου ίδιες σε όλο τον κόσμο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66"/>
                </a:solidFill>
                <a:latin typeface="Verdana"/>
              </a:rPr>
              <a:t>Τα φίλτρα δεν μπορούν να εφαρμοστούν ενιαία 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66"/>
                </a:solidFill>
                <a:latin typeface="Verdana"/>
              </a:rPr>
              <a:t>Δεν μπορούν να εγγυηθούν επιτυχία </a:t>
            </a:r>
            <a:r>
              <a:rPr b="1" lang="en-GB" sz="1400" spc="-1" strike="noStrike">
                <a:solidFill>
                  <a:srgbClr val="000066"/>
                </a:solidFill>
                <a:latin typeface="Verdana"/>
              </a:rPr>
              <a:t>100% 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66"/>
                </a:solidFill>
                <a:latin typeface="Verdana"/>
              </a:rPr>
              <a:t>Έλεγχος περιεχομένου για σχολικό περιβάλλον και όχι για ενήλικες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66"/>
                </a:solidFill>
                <a:latin typeface="Verdana"/>
              </a:rPr>
              <a:t>Η πολιτική ελέγχου του ΠΣΔ βασίζεται σε χρήση ΕΛ/ΛΑΚ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 proxy </a:t>
            </a:r>
            <a:r>
              <a:rPr b="1" lang="en-GB" sz="1400" spc="-1" strike="noStrike">
                <a:solidFill>
                  <a:srgbClr val="000066"/>
                </a:solidFill>
                <a:latin typeface="Verdana"/>
              </a:rPr>
              <a:t>server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66"/>
                </a:solidFill>
                <a:latin typeface="Verdana"/>
              </a:rPr>
              <a:t>Η ενημέρωση των γονέων και των σχολείων είναι βασικός παράγοντας επιτυχίας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66"/>
                </a:solidFill>
                <a:latin typeface="Verdana"/>
              </a:rPr>
              <a:t>Ενημέρωση για τρόπους επικοινωνίας με τους διαχειριστές της υπηρεσίας 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66"/>
                </a:solidFill>
                <a:latin typeface="Verdana"/>
              </a:rPr>
              <a:t>Οι λίστες δεν είναι ανθρωπίνως δυνατό να συντηρούνται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66"/>
                </a:solidFill>
                <a:latin typeface="Verdana"/>
              </a:rPr>
              <a:t>Τακτική ενημέρωση των λιστών και με την αλληλεπίδραση των χρηστών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66"/>
                </a:solidFill>
                <a:latin typeface="Verdana"/>
              </a:rPr>
              <a:t>Παρακολούθηση των αλλαγών στο </a:t>
            </a:r>
            <a:r>
              <a:rPr b="1" lang="en-GB" sz="1400" spc="-1" strike="noStrike">
                <a:solidFill>
                  <a:srgbClr val="000066"/>
                </a:solidFill>
                <a:latin typeface="Verdana"/>
              </a:rPr>
              <a:t>Internet 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1359000" cy="2160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539640" y="1484280"/>
            <a:ext cx="8175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… </a:t>
            </a: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για την προσοχή σας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!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Για περισσότερες πληροφορίες, δείτε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http://www.sch.gr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Επικοινωνία: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mparask@cti.gr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mparask@sch.gr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6" name=""/>
          <p:cNvSpPr/>
          <p:nvPr/>
        </p:nvSpPr>
        <p:spPr>
          <a:xfrm>
            <a:off x="2411280" y="188280"/>
            <a:ext cx="4572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Σας ευχαριστώ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63280" y="76320"/>
            <a:ext cx="6480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Χρήση 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nternet </a:t>
            </a: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από γονείς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81080" y="1195560"/>
            <a:ext cx="4535280" cy="3601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211640" y="1341360"/>
            <a:ext cx="4824360" cy="3834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932360" y="5877000"/>
            <a:ext cx="42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66"/>
                </a:solidFill>
                <a:latin typeface="Verdana"/>
              </a:rPr>
              <a:t>Έρευνα: Παιδιά και Διαδίκτυο, Ε.ΚΑΤ.Ο.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63640" y="76320"/>
            <a:ext cx="640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Συμπεριφορά Γονέων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195560"/>
            <a:ext cx="4716360" cy="3746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354560" y="1557360"/>
            <a:ext cx="4681440" cy="3744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932360" y="5877000"/>
            <a:ext cx="42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66"/>
                </a:solidFill>
                <a:latin typeface="Verdana"/>
              </a:rPr>
              <a:t>Έρευνα: Παιδιά και Διαδίκτυο, Ε.ΚΑΤ.Ο.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468360" y="1052640"/>
          <a:ext cx="8064360" cy="484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52640"/>
                    <a:ext cx="8064360" cy="48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63280" y="76320"/>
            <a:ext cx="6480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Συμπεριφορά Παιδιών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63640" y="7632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Verdana"/>
              </a:rPr>
              <a:t>Το πρόβλημα </a:t>
            </a:r>
            <a:br>
              <a:rPr sz="2800"/>
            </a:br>
            <a:r>
              <a:rPr b="1" lang="el-GR" sz="2800" spc="-1" strike="noStrike">
                <a:solidFill>
                  <a:srgbClr val="000066"/>
                </a:solidFill>
                <a:latin typeface="Verdana"/>
              </a:rPr>
              <a:t>του κόστους πρόσβασης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0" r="15526" b="5346"/>
          <a:stretch/>
        </p:blipFill>
        <p:spPr>
          <a:xfrm>
            <a:off x="34920" y="1138320"/>
            <a:ext cx="3745080" cy="3298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10527" t="6441" r="0" b="0"/>
          <a:stretch/>
        </p:blipFill>
        <p:spPr>
          <a:xfrm>
            <a:off x="5580000" y="1158840"/>
            <a:ext cx="3456000" cy="2846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rcRect l="0" t="13569" r="0" b="17717"/>
          <a:stretch/>
        </p:blipFill>
        <p:spPr>
          <a:xfrm>
            <a:off x="3132000" y="3830760"/>
            <a:ext cx="3745080" cy="2046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932360" y="5877000"/>
            <a:ext cx="42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66"/>
                </a:solidFill>
                <a:latin typeface="Verdana"/>
              </a:rPr>
              <a:t>Έρευνα: Παιδιά και Διαδίκτυο, Ε.ΚΑΤ.Ο.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3T08:46:43Z</dcterms:created>
  <dc:creator>Michael Paraskevas</dc:creator>
  <dc:description/>
  <dc:language>en-US</dc:language>
  <cp:lastModifiedBy>Michael Paraskevas</cp:lastModifiedBy>
  <dcterms:modified xsi:type="dcterms:W3CDTF">2004-04-21T09:23:45Z</dcterms:modified>
  <cp:revision>412</cp:revision>
  <dc:subject/>
  <dc:title>PowerPoint Presentation</dc:title>
</cp:coreProperties>
</file>