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4520" y="1212840"/>
            <a:ext cx="82774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4520" y="2222280"/>
            <a:ext cx="8277480" cy="198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4520" y="4398120"/>
            <a:ext cx="8277480" cy="198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4520" y="1212840"/>
            <a:ext cx="82774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4520" y="2222280"/>
            <a:ext cx="4039200" cy="198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2222280"/>
            <a:ext cx="4039200" cy="198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34520" y="4398120"/>
            <a:ext cx="4039200" cy="198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040" y="4398120"/>
            <a:ext cx="4039200" cy="198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34520" y="1212840"/>
            <a:ext cx="82774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34520" y="2222280"/>
            <a:ext cx="2665080" cy="198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3160" y="2222280"/>
            <a:ext cx="2665080" cy="198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1800" y="2222280"/>
            <a:ext cx="2665080" cy="198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4520" y="4398120"/>
            <a:ext cx="2665080" cy="198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3160" y="4398120"/>
            <a:ext cx="2665080" cy="198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1800" y="4398120"/>
            <a:ext cx="2665080" cy="198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3D2D4-6EF5-48C1-8EB3-DF40569306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4520" y="1212840"/>
            <a:ext cx="82774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34520" y="2222280"/>
            <a:ext cx="827748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10CD3-A9F2-474D-AB5E-4D48A43C47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4520" y="1212840"/>
            <a:ext cx="82774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34520" y="2222280"/>
            <a:ext cx="827748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1C549-7E98-403A-BC91-5C5646CE7B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4520" y="1212840"/>
            <a:ext cx="82774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34520" y="2222280"/>
            <a:ext cx="403920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6040" y="2222280"/>
            <a:ext cx="403920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0993F-8935-47BE-97DD-DD8B6CC702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4520" y="1212840"/>
            <a:ext cx="82774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46DA7-FEE7-440D-94D6-563ECBA5C7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34520" y="1212840"/>
            <a:ext cx="82774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ED7FE-135C-433C-B122-6A4B5F3114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4520" y="1212840"/>
            <a:ext cx="82774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4520" y="2222280"/>
            <a:ext cx="4039200" cy="198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040" y="2222280"/>
            <a:ext cx="403920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34520" y="4398120"/>
            <a:ext cx="4039200" cy="198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E5F7F-581D-4A5B-B185-748CEFA97A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34520" y="1212840"/>
            <a:ext cx="82774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34520" y="2222280"/>
            <a:ext cx="827748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4520" y="1212840"/>
            <a:ext cx="82774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4520" y="2222280"/>
            <a:ext cx="403920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040" y="2222280"/>
            <a:ext cx="4039200" cy="198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6040" y="4398120"/>
            <a:ext cx="4039200" cy="198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02CB4-64CE-4C54-B1EB-C25465F6D5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4520" y="1212840"/>
            <a:ext cx="82774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4520" y="2222280"/>
            <a:ext cx="4039200" cy="198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040" y="2222280"/>
            <a:ext cx="4039200" cy="198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34520" y="4398120"/>
            <a:ext cx="8277480" cy="198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0E632-8001-4009-99F0-B96042E25C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4520" y="1212840"/>
            <a:ext cx="82774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4520" y="2222280"/>
            <a:ext cx="8277480" cy="198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4520" y="4398120"/>
            <a:ext cx="8277480" cy="198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6DABA-713F-4919-918A-6B762231EA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4520" y="1212840"/>
            <a:ext cx="82774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4520" y="2222280"/>
            <a:ext cx="4039200" cy="198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040" y="2222280"/>
            <a:ext cx="4039200" cy="198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34520" y="4398120"/>
            <a:ext cx="4039200" cy="198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6040" y="4398120"/>
            <a:ext cx="4039200" cy="198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28921-B48B-4E3C-8E80-D67541F825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4520" y="1212840"/>
            <a:ext cx="82774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34520" y="2222280"/>
            <a:ext cx="2665080" cy="198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3160" y="2222280"/>
            <a:ext cx="2665080" cy="198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31800" y="2222280"/>
            <a:ext cx="2665080" cy="198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34520" y="4398120"/>
            <a:ext cx="2665080" cy="198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3160" y="4398120"/>
            <a:ext cx="2665080" cy="198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31800" y="4398120"/>
            <a:ext cx="2665080" cy="198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060A7-EC5E-477B-83A5-75D389525A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4520" y="1212840"/>
            <a:ext cx="82774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34520" y="2222280"/>
            <a:ext cx="827748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4520" y="1212840"/>
            <a:ext cx="82774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4520" y="2222280"/>
            <a:ext cx="403920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040" y="2222280"/>
            <a:ext cx="403920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4520" y="1212840"/>
            <a:ext cx="82774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60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34520" y="1212840"/>
            <a:ext cx="82774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4520" y="1212840"/>
            <a:ext cx="82774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34520" y="2222280"/>
            <a:ext cx="4039200" cy="198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2222280"/>
            <a:ext cx="403920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34520" y="4398120"/>
            <a:ext cx="4039200" cy="198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4520" y="1212840"/>
            <a:ext cx="82774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4520" y="2222280"/>
            <a:ext cx="403920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2222280"/>
            <a:ext cx="4039200" cy="198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040" y="4398120"/>
            <a:ext cx="4039200" cy="198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4520" y="1212840"/>
            <a:ext cx="82774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4520" y="2222280"/>
            <a:ext cx="4039200" cy="198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2222280"/>
            <a:ext cx="4039200" cy="198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4520" y="4398120"/>
            <a:ext cx="8277480" cy="198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4520" y="2611440"/>
            <a:ext cx="82774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46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4520" y="4309560"/>
            <a:ext cx="827748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marL="1440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4600"/>
              </a:solidFill>
              <a:latin typeface="Verdana"/>
            </a:endParaRPr>
          </a:p>
          <a:p>
            <a:pPr lvl="1" marL="144000" indent="-14400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4600"/>
              </a:solidFill>
              <a:latin typeface="Verdana"/>
            </a:endParaRPr>
          </a:p>
          <a:p>
            <a:pPr lvl="2" marL="144000" indent="-1440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4600"/>
              </a:solidFill>
              <a:latin typeface="Verdana"/>
            </a:endParaRPr>
          </a:p>
          <a:p>
            <a:pPr lvl="3" marL="144000" indent="-14400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4600"/>
              </a:solidFill>
              <a:latin typeface="Verdana"/>
            </a:endParaRPr>
          </a:p>
          <a:p>
            <a:pPr lvl="4" marL="144000" indent="-14400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4600"/>
              </a:solidFill>
              <a:latin typeface="Verdana"/>
            </a:endParaRPr>
          </a:p>
          <a:p>
            <a:pPr lvl="5" marL="144000" indent="-14400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4600"/>
              </a:solidFill>
              <a:latin typeface="Verdana"/>
            </a:endParaRPr>
          </a:p>
          <a:p>
            <a:pPr lvl="6" marL="144000" indent="-14400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46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4056480" y="6629400"/>
            <a:ext cx="119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ffffff"/>
                </a:solidFill>
                <a:latin typeface="Verdana"/>
              </a:rPr>
              <a:t>http://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eclass.sch.</a:t>
            </a:r>
            <a:r>
              <a:rPr b="0" lang="el-GR" sz="900" spc="-1" strike="noStrike">
                <a:solidFill>
                  <a:srgbClr val="ffffff"/>
                </a:solidFill>
                <a:latin typeface="Verdana"/>
              </a:rPr>
              <a:t>g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34520" y="1212840"/>
            <a:ext cx="82774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600"/>
                </a:solidFill>
                <a:latin typeface="Trebuchet MS"/>
              </a:rPr>
              <a:t>Click to edit the title text format</a:t>
            </a:r>
            <a:endParaRPr b="1" lang="en-US" sz="30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34520" y="2222280"/>
            <a:ext cx="827748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e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7e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7e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7e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7e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6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1"/>
          </p:nvPr>
        </p:nvSpPr>
        <p:spPr>
          <a:xfrm>
            <a:off x="7047000" y="6624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275E-B686-4226-9C30-11DB1BC48390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92360" y="6640560"/>
            <a:ext cx="183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000" spc="-1" strike="noStrike">
                <a:solidFill>
                  <a:srgbClr val="ffffff"/>
                </a:solidFill>
                <a:latin typeface="Trebuchet MS"/>
              </a:rPr>
              <a:t>http://</a:t>
            </a: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eclass.sch.</a:t>
            </a:r>
            <a:r>
              <a:rPr b="1" lang="el-GR" sz="1000" spc="-1" strike="noStrike">
                <a:solidFill>
                  <a:srgbClr val="ffffff"/>
                </a:solidFill>
                <a:latin typeface="Trebuchet MS"/>
              </a:rPr>
              <a:t>g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604360" y="115920"/>
            <a:ext cx="436320" cy="65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&#928;&#931;&#916;_&#933;&#960;&#951;&#961;&#949;&#963;&#943;&#949;&#962;_&#919;&#955;&#949;&#954;&#964;&#961;&#959;&#957;&#953;&#954;&#942;&#962;_&#924;&#940;&#952;&#951;&#963;&#951;&#962;.ppt" TargetMode="External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34520" y="1052640"/>
            <a:ext cx="82774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4600"/>
                </a:solidFill>
                <a:latin typeface="Trebuchet MS"/>
              </a:rPr>
              <a:t>Υπηρεσία Ηλεκτρονικής Διαχείρισης Τάξης</a:t>
            </a:r>
            <a:br>
              <a:rPr sz="2600"/>
            </a:br>
            <a:r>
              <a:rPr b="0" lang="en-US" sz="2600" spc="-1" strike="noStrike">
                <a:solidFill>
                  <a:srgbClr val="004600"/>
                </a:solidFill>
                <a:latin typeface="Trebuchet MS"/>
              </a:rPr>
              <a:t>http://eclass.sch.gr</a:t>
            </a:r>
            <a:endParaRPr b="1" lang="en-US" sz="2600" spc="-1" strike="noStrike">
              <a:solidFill>
                <a:srgbClr val="004600"/>
              </a:solidFill>
              <a:latin typeface="Trebuchet MS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55640" y="2014560"/>
            <a:ext cx="7488360" cy="436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E9458-F46B-41A4-855D-3829CEF166C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4520" y="1204920"/>
            <a:ext cx="82774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4600"/>
                </a:solidFill>
                <a:latin typeface="Trebuchet MS"/>
              </a:rPr>
              <a:t>Βασικά Χαρακτηριστικά</a:t>
            </a:r>
            <a:endParaRPr b="1" lang="en-US" sz="30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1280" y="2203560"/>
            <a:ext cx="7920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e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4600"/>
                </a:solidFill>
                <a:latin typeface="Trebuchet MS"/>
              </a:rPr>
              <a:t>Ολοκληρωμένο εργαλείο </a:t>
            </a:r>
            <a:r>
              <a:rPr b="1" lang="el-GR" sz="1600" spc="-1" strike="noStrike">
                <a:solidFill>
                  <a:srgbClr val="004600"/>
                </a:solidFill>
                <a:latin typeface="Trebuchet MS"/>
              </a:rPr>
              <a:t>ηλεκτρονικής διαχείρισης των μαθημάτων </a:t>
            </a:r>
            <a:r>
              <a:rPr b="0" lang="el-GR" sz="1600" spc="-1" strike="noStrike">
                <a:solidFill>
                  <a:srgbClr val="004600"/>
                </a:solidFill>
                <a:latin typeface="Trebuchet MS"/>
              </a:rPr>
              <a:t>που διδάσκονται στο σχολείο, βασισμένο στα πρότυπα του Παγκόσμιου Ιστού.</a:t>
            </a:r>
            <a:endParaRPr b="0" lang="en-US" sz="1600" spc="-1" strike="noStrike">
              <a:solidFill>
                <a:srgbClr val="0046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e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4600"/>
                </a:solidFill>
                <a:latin typeface="Trebuchet MS"/>
              </a:rPr>
              <a:t>Απευθύνεται σε </a:t>
            </a:r>
            <a:r>
              <a:rPr b="1" lang="el-GR" sz="1600" spc="-1" strike="noStrike">
                <a:solidFill>
                  <a:srgbClr val="004600"/>
                </a:solidFill>
                <a:latin typeface="Trebuchet MS"/>
              </a:rPr>
              <a:t>εκπαιδευτικούς</a:t>
            </a:r>
            <a:r>
              <a:rPr b="0" lang="el-GR" sz="1600" spc="-1" strike="noStrike">
                <a:solidFill>
                  <a:srgbClr val="004600"/>
                </a:solidFill>
                <a:latin typeface="Trebuchet MS"/>
              </a:rPr>
              <a:t> και </a:t>
            </a:r>
            <a:r>
              <a:rPr b="1" lang="el-GR" sz="1600" spc="-1" strike="noStrike">
                <a:solidFill>
                  <a:srgbClr val="004600"/>
                </a:solidFill>
                <a:latin typeface="Trebuchet MS"/>
              </a:rPr>
              <a:t>μαθητές</a:t>
            </a:r>
            <a:r>
              <a:rPr b="0" lang="en-US" sz="1600" spc="-1" strike="noStrike">
                <a:solidFill>
                  <a:srgbClr val="004600"/>
                </a:solidFill>
                <a:latin typeface="Trebuchet MS"/>
              </a:rPr>
              <a:t>,</a:t>
            </a:r>
            <a:r>
              <a:rPr b="0" lang="el-GR" sz="1600" spc="-1" strike="noStrike">
                <a:solidFill>
                  <a:srgbClr val="004600"/>
                </a:solidFill>
                <a:latin typeface="Trebuchet MS"/>
              </a:rPr>
              <a:t> καθώς ενισχύει την κλασσική εκπαιδευτική πρακτική που λαμβάνει χώρα μέσα στη σχολική τάξη. </a:t>
            </a:r>
            <a:endParaRPr b="0" lang="en-US" sz="1600" spc="-1" strike="noStrike">
              <a:solidFill>
                <a:srgbClr val="0046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7e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4600"/>
                </a:solidFill>
                <a:latin typeface="Trebuchet MS"/>
              </a:rPr>
              <a:t>Εστιάζει στο δίπτυχο:</a:t>
            </a:r>
            <a:endParaRPr b="0" lang="en-US" sz="1600" spc="-1" strike="noStrike">
              <a:solidFill>
                <a:srgbClr val="004600"/>
              </a:solidFill>
              <a:latin typeface="Trebuchet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7e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4600"/>
                </a:solidFill>
                <a:latin typeface="Trebuchet MS"/>
              </a:rPr>
              <a:t>ωρολόγιο πρόγραμμα </a:t>
            </a:r>
            <a:r>
              <a:rPr b="0" lang="el-GR" sz="1600" spc="-1" strike="noStrike">
                <a:solidFill>
                  <a:srgbClr val="004600"/>
                </a:solidFill>
                <a:latin typeface="Trebuchet MS"/>
              </a:rPr>
              <a:t>και </a:t>
            </a:r>
            <a:endParaRPr b="0" lang="en-US" sz="1600" spc="-1" strike="noStrike">
              <a:solidFill>
                <a:srgbClr val="004600"/>
              </a:solidFill>
              <a:latin typeface="Trebuchet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7e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4600"/>
                </a:solidFill>
                <a:latin typeface="Trebuchet MS"/>
              </a:rPr>
              <a:t>διδακτικό προσωπικό </a:t>
            </a:r>
            <a:r>
              <a:rPr b="0" lang="el-GR" sz="1600" spc="-1" strike="noStrike">
                <a:solidFill>
                  <a:srgbClr val="004600"/>
                </a:solidFill>
                <a:latin typeface="Trebuchet MS"/>
              </a:rPr>
              <a:t>κάθε σχολικής μονάδας</a:t>
            </a:r>
            <a:endParaRPr b="0" lang="en-US" sz="1600" spc="-1" strike="noStrike">
              <a:solidFill>
                <a:srgbClr val="0046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e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4600"/>
                </a:solidFill>
                <a:latin typeface="Trebuchet MS"/>
              </a:rPr>
              <a:t>Δεν επιχειρεί να αντικαταστήσει την παραδοσιακή διδασκαλία </a:t>
            </a:r>
            <a:r>
              <a:rPr b="0" lang="el-GR" sz="1600" spc="-1" strike="noStrike">
                <a:solidFill>
                  <a:srgbClr val="004600"/>
                </a:solidFill>
                <a:latin typeface="Trebuchet MS"/>
              </a:rPr>
              <a:t>με </a:t>
            </a:r>
            <a:r>
              <a:rPr b="0" lang="el-GR" sz="1600" spc="-1" strike="noStrike">
                <a:solidFill>
                  <a:srgbClr val="004600"/>
                </a:solidFill>
                <a:latin typeface="Trebuchet MS"/>
              </a:rPr>
              <a:t>εξ’ αποστάσεως εκπαίδευση, αλλά να στηρίξει και να εμπλουτίσει την υπάρχουσα εκπαιδευτική διαδικασία με νέες δυνατότητες (βασισμένες στις ΤΠΕ), κάνοντας εποικοδομητική χρήση των υποδομών.</a:t>
            </a:r>
            <a:endParaRPr b="0" lang="en-US" sz="1600" spc="-1" strike="noStrike">
              <a:solidFill>
                <a:srgbClr val="0046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e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4600"/>
                </a:solidFill>
                <a:latin typeface="Trebuchet MS"/>
              </a:rPr>
              <a:t>Πρόσβαση μέσω του λογαριασμού των εκπαιδευτικών στο ΠΣΔ.</a:t>
            </a:r>
            <a:endParaRPr b="0" lang="en-US" sz="16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A0860-F907-4E1E-82D8-57B09F554BE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4520" y="981000"/>
            <a:ext cx="82774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600"/>
                </a:solidFill>
                <a:latin typeface="Trebuchet MS"/>
              </a:rPr>
              <a:t>Λειτουργικά Χαρακτηριστικά</a:t>
            </a:r>
            <a:endParaRPr b="1" lang="en-US" sz="30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6436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e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600"/>
                </a:solidFill>
                <a:latin typeface="Trebuchet MS"/>
              </a:rPr>
              <a:t>Υποστηρίζει ενέργειες όπως: </a:t>
            </a:r>
            <a:endParaRPr b="0" lang="en-US" sz="1600" spc="-1" strike="noStrike">
              <a:solidFill>
                <a:srgbClr val="0046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7e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600"/>
                </a:solidFill>
                <a:latin typeface="Trebuchet MS"/>
              </a:rPr>
              <a:t>την ηλεκτρονική ανάρτηση πρόσθετου </a:t>
            </a:r>
            <a:r>
              <a:rPr b="1" lang="en-US" sz="1600" spc="-1" strike="noStrike">
                <a:solidFill>
                  <a:srgbClr val="004600"/>
                </a:solidFill>
                <a:latin typeface="Trebuchet MS"/>
              </a:rPr>
              <a:t>εκπαιδευτικού υλικού</a:t>
            </a:r>
            <a:r>
              <a:rPr b="0" lang="en-US" sz="1600" spc="-1" strike="noStrike">
                <a:solidFill>
                  <a:srgbClr val="004600"/>
                </a:solidFill>
                <a:latin typeface="Trebuchet MS"/>
              </a:rPr>
              <a:t>, </a:t>
            </a:r>
            <a:endParaRPr b="0" lang="en-US" sz="1600" spc="-1" strike="noStrike">
              <a:solidFill>
                <a:srgbClr val="0046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7e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600"/>
                </a:solidFill>
                <a:latin typeface="Trebuchet MS"/>
              </a:rPr>
              <a:t>την παράθεση εναλλακτικών </a:t>
            </a:r>
            <a:r>
              <a:rPr b="1" lang="en-US" sz="1600" spc="-1" strike="noStrike">
                <a:solidFill>
                  <a:srgbClr val="004600"/>
                </a:solidFill>
                <a:latin typeface="Trebuchet MS"/>
              </a:rPr>
              <a:t>εκπαιδευτικών πηγών </a:t>
            </a:r>
            <a:r>
              <a:rPr b="0" lang="en-US" sz="1600" spc="-1" strike="noStrike">
                <a:solidFill>
                  <a:srgbClr val="004600"/>
                </a:solidFill>
                <a:latin typeface="Trebuchet MS"/>
              </a:rPr>
              <a:t>από το Διαδίκτυο, </a:t>
            </a:r>
            <a:endParaRPr b="0" lang="en-US" sz="1600" spc="-1" strike="noStrike">
              <a:solidFill>
                <a:srgbClr val="0046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7e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600"/>
                </a:solidFill>
                <a:latin typeface="Trebuchet MS"/>
              </a:rPr>
              <a:t>τη δημιουργία </a:t>
            </a:r>
            <a:r>
              <a:rPr b="1" lang="en-US" sz="1600" spc="-1" strike="noStrike">
                <a:solidFill>
                  <a:srgbClr val="004600"/>
                </a:solidFill>
                <a:latin typeface="Trebuchet MS"/>
              </a:rPr>
              <a:t>ασκήσεων αυτοαξιολόγησης</a:t>
            </a:r>
            <a:r>
              <a:rPr b="0" lang="en-US" sz="1600" spc="-1" strike="noStrike">
                <a:solidFill>
                  <a:srgbClr val="004600"/>
                </a:solidFill>
                <a:latin typeface="Trebuchet MS"/>
              </a:rPr>
              <a:t>, και </a:t>
            </a:r>
            <a:endParaRPr b="0" lang="en-US" sz="1600" spc="-1" strike="noStrike">
              <a:solidFill>
                <a:srgbClr val="0046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7e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600"/>
                </a:solidFill>
                <a:latin typeface="Trebuchet MS"/>
              </a:rPr>
              <a:t>το </a:t>
            </a:r>
            <a:r>
              <a:rPr b="1" lang="en-US" sz="1600" spc="-1" strike="noStrike">
                <a:solidFill>
                  <a:srgbClr val="004600"/>
                </a:solidFill>
                <a:latin typeface="Trebuchet MS"/>
              </a:rPr>
              <a:t>χρονοπρογραμματισμό</a:t>
            </a:r>
            <a:r>
              <a:rPr b="0" lang="en-US" sz="1600" spc="-1" strike="noStrike">
                <a:solidFill>
                  <a:srgbClr val="004600"/>
                </a:solidFill>
                <a:latin typeface="Trebuchet MS"/>
              </a:rPr>
              <a:t> της διδασκόμενης ύλης με την ηλεκτρονική διαχείριση του παραδοσιακού βιβλίου ύλης </a:t>
            </a:r>
            <a:endParaRPr b="0" lang="en-US" sz="1600" spc="-1" strike="noStrike">
              <a:solidFill>
                <a:srgbClr val="004600"/>
              </a:solidFill>
              <a:latin typeface="Trebuchet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284720" y="3981600"/>
            <a:ext cx="4535280" cy="2400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26920" y="3710160"/>
            <a:ext cx="3600720" cy="24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e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600"/>
                </a:solidFill>
                <a:latin typeface="Trebuchet MS"/>
              </a:rPr>
              <a:t>Δίνει τη δυνατότητα για </a:t>
            </a:r>
            <a:r>
              <a:rPr b="1" lang="en-US" sz="1600" spc="-1" strike="noStrike">
                <a:solidFill>
                  <a:srgbClr val="004600"/>
                </a:solidFill>
                <a:latin typeface="Trebuchet MS"/>
              </a:rPr>
              <a:t>επαναχρησιμοποίηση</a:t>
            </a:r>
            <a:r>
              <a:rPr b="0" lang="en-US" sz="1600" spc="-1" strike="noStrike">
                <a:solidFill>
                  <a:srgbClr val="004600"/>
                </a:solidFill>
                <a:latin typeface="Trebuchet MS"/>
              </a:rPr>
              <a:t> και εμπλουτισμό του πρόσθετου διδακτικού περιεχομένο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e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BF6A6-A9F0-4CE2-9742-F20078DBDBB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34520" y="1212840"/>
            <a:ext cx="82774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600"/>
                </a:solidFill>
                <a:latin typeface="Trebuchet MS"/>
              </a:rPr>
              <a:t>Μάθημα – Βιβλιοθήκη Γνώσης</a:t>
            </a:r>
            <a:endParaRPr b="1" lang="en-US" sz="30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4520" y="2222280"/>
            <a:ext cx="827748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007e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600"/>
                </a:solidFill>
                <a:latin typeface="Trebuchet MS"/>
              </a:rPr>
              <a:t>Κάθε ηλεκτρονικό μάθημα στην </a:t>
            </a:r>
            <a:r>
              <a:rPr b="1" lang="en-US" sz="1600" spc="-1" strike="noStrike">
                <a:solidFill>
                  <a:srgbClr val="004600"/>
                </a:solidFill>
                <a:latin typeface="Trebuchet MS"/>
              </a:rPr>
              <a:t>η-τάξη </a:t>
            </a:r>
            <a:r>
              <a:rPr b="0" lang="en-US" sz="1600" spc="-1" strike="noStrike">
                <a:solidFill>
                  <a:srgbClr val="004600"/>
                </a:solidFill>
                <a:latin typeface="Trebuchet MS"/>
              </a:rPr>
              <a:t>αποτελεί μια δυναμική βιβλιοθήκη γνώσης για το τρέχον σχολικό έτος, αλλά και σημείο αναφοράς για το επόμενο.</a:t>
            </a:r>
            <a:endParaRPr b="0" lang="en-US" sz="1600" spc="-1" strike="noStrike">
              <a:solidFill>
                <a:srgbClr val="004600"/>
              </a:solidFill>
              <a:latin typeface="Trebuchet MS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007e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600"/>
                </a:solidFill>
                <a:latin typeface="Trebuchet MS"/>
              </a:rPr>
              <a:t>Οι μαθητές μπορούν να ανακαλύψουν ένα νέο μέσο προσέγγισης της γνώσης μέσα από τον Παγκόσμιο Ιστό, με πρόσβαση σε περιεχόμενο που σχετίζεται άμεσα με τα μαθήματά τους στο σχολείο. </a:t>
            </a:r>
            <a:endParaRPr b="0" lang="en-US" sz="1600" spc="-1" strike="noStrike">
              <a:solidFill>
                <a:srgbClr val="004600"/>
              </a:solidFill>
              <a:latin typeface="Trebuchet MS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007e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600"/>
                </a:solidFill>
                <a:latin typeface="Trebuchet MS"/>
              </a:rPr>
              <a:t>Το παραδοσιακό σχολείο έρχεται πιο κοντά στο σύγχρονο μαθητή, υιοθετώντας τις νέες τεχνολογίες. </a:t>
            </a:r>
            <a:endParaRPr b="0" lang="en-US" sz="16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9D8AA-6116-4E56-8F1D-0F7D0938797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4520" y="981000"/>
            <a:ext cx="82774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4600"/>
                </a:solidFill>
                <a:latin typeface="Trebuchet MS"/>
              </a:rPr>
              <a:t>Στατιστικά Χρήσης</a:t>
            </a:r>
            <a:endParaRPr b="1" lang="en-US" sz="30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4520" y="1844280"/>
            <a:ext cx="827748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7e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4600"/>
                </a:solidFill>
                <a:latin typeface="Trebuchet MS"/>
              </a:rPr>
              <a:t>Περιεχόμενο – χρήστες (20/3/2008)</a:t>
            </a:r>
            <a:endParaRPr b="0" lang="en-US" sz="1800" spc="-1" strike="noStrike">
              <a:solidFill>
                <a:srgbClr val="004600"/>
              </a:solidFill>
              <a:latin typeface="Trebuchet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600"/>
              </a:solidFill>
              <a:latin typeface="Trebuchet MS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4600"/>
                </a:solidFill>
                <a:latin typeface="Trebuchet MS"/>
              </a:rPr>
              <a:t>Σχολικό Έτος 2006 – 2007</a:t>
            </a:r>
            <a:r>
              <a:rPr b="1" lang="el-GR" sz="1600" spc="-1" strike="noStrike">
                <a:solidFill>
                  <a:srgbClr val="004600"/>
                </a:solidFill>
                <a:latin typeface="Trebuchet MS"/>
              </a:rPr>
              <a:t>	</a:t>
            </a:r>
            <a:r>
              <a:rPr b="1" lang="el-GR" sz="1600" spc="-1" strike="noStrike">
                <a:solidFill>
                  <a:srgbClr val="004600"/>
                </a:solidFill>
                <a:latin typeface="Trebuchet MS"/>
              </a:rPr>
              <a:t>	</a:t>
            </a:r>
            <a:r>
              <a:rPr b="1" lang="el-GR" sz="1600" spc="-1" strike="noStrike">
                <a:solidFill>
                  <a:srgbClr val="004600"/>
                </a:solidFill>
                <a:latin typeface="Trebuchet MS"/>
              </a:rPr>
              <a:t>Σχολικό Έτος 2007 - 2008</a:t>
            </a:r>
            <a:endParaRPr b="0" lang="en-US" sz="1600" spc="-1" strike="noStrike">
              <a:solidFill>
                <a:srgbClr val="0046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7e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4600"/>
                </a:solidFill>
                <a:latin typeface="Trebuchet MS"/>
              </a:rPr>
              <a:t>2.065 </a:t>
            </a:r>
            <a:r>
              <a:rPr b="0" lang="el-GR" sz="1600" spc="-1" strike="noStrike">
                <a:solidFill>
                  <a:srgbClr val="004600"/>
                </a:solidFill>
                <a:latin typeface="Trebuchet MS"/>
              </a:rPr>
              <a:t>ηλεκτρονικά μαθήματα</a:t>
            </a:r>
            <a:r>
              <a:rPr b="0" lang="el-GR" sz="1600" spc="-1" strike="noStrike">
                <a:solidFill>
                  <a:srgbClr val="004600"/>
                </a:solidFill>
                <a:latin typeface="Trebuchet MS"/>
              </a:rPr>
              <a:t>	</a:t>
            </a:r>
            <a:r>
              <a:rPr b="0" lang="el-GR" sz="1600" spc="-1" strike="noStrike">
                <a:solidFill>
                  <a:srgbClr val="004600"/>
                </a:solidFill>
                <a:latin typeface="Trebuchet MS"/>
              </a:rPr>
              <a:t>	</a:t>
            </a:r>
            <a:r>
              <a:rPr b="0" lang="el-GR" sz="1600" spc="-1" strike="noStrike">
                <a:solidFill>
                  <a:srgbClr val="004600"/>
                </a:solidFill>
                <a:latin typeface="Trebuchet MS"/>
              </a:rPr>
              <a:t>- </a:t>
            </a:r>
            <a:r>
              <a:rPr b="1" lang="en-US" sz="1600" spc="-1" strike="noStrike">
                <a:solidFill>
                  <a:srgbClr val="004600"/>
                </a:solidFill>
                <a:latin typeface="Trebuchet MS"/>
              </a:rPr>
              <a:t>1.199</a:t>
            </a:r>
            <a:r>
              <a:rPr b="0" lang="el-GR" sz="1600" spc="-1" strike="noStrike">
                <a:solidFill>
                  <a:srgbClr val="004600"/>
                </a:solidFill>
                <a:latin typeface="Trebuchet MS"/>
              </a:rPr>
              <a:t> ηλεκτρονικά μαθήματα</a:t>
            </a:r>
            <a:endParaRPr b="0" lang="en-US" sz="1600" spc="-1" strike="noStrike">
              <a:solidFill>
                <a:srgbClr val="0046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7e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4600"/>
                </a:solidFill>
                <a:latin typeface="Trebuchet MS"/>
              </a:rPr>
              <a:t>1.0</a:t>
            </a:r>
            <a:r>
              <a:rPr b="1" lang="el-GR" sz="1600" spc="-1" strike="noStrike">
                <a:solidFill>
                  <a:srgbClr val="004600"/>
                </a:solidFill>
                <a:latin typeface="Trebuchet MS"/>
              </a:rPr>
              <a:t>58</a:t>
            </a:r>
            <a:r>
              <a:rPr b="0" lang="el-GR" sz="1600" spc="-1" strike="noStrike">
                <a:solidFill>
                  <a:srgbClr val="004600"/>
                </a:solidFill>
                <a:latin typeface="Trebuchet MS"/>
              </a:rPr>
              <a:t> συμμετέχοντα σχολεία</a:t>
            </a:r>
            <a:r>
              <a:rPr b="0" lang="el-GR" sz="1600" spc="-1" strike="noStrike">
                <a:solidFill>
                  <a:srgbClr val="004600"/>
                </a:solidFill>
                <a:latin typeface="Trebuchet MS"/>
              </a:rPr>
              <a:t>	</a:t>
            </a:r>
            <a:r>
              <a:rPr b="0" lang="el-GR" sz="1600" spc="-1" strike="noStrike">
                <a:solidFill>
                  <a:srgbClr val="004600"/>
                </a:solidFill>
                <a:latin typeface="Trebuchet MS"/>
              </a:rPr>
              <a:t>	</a:t>
            </a:r>
            <a:r>
              <a:rPr b="0" lang="el-GR" sz="1600" spc="-1" strike="noStrike">
                <a:solidFill>
                  <a:srgbClr val="004600"/>
                </a:solidFill>
                <a:latin typeface="Trebuchet MS"/>
              </a:rPr>
              <a:t>- </a:t>
            </a:r>
            <a:r>
              <a:rPr b="1" lang="en-US" sz="1600" spc="-1" strike="noStrike">
                <a:solidFill>
                  <a:srgbClr val="004600"/>
                </a:solidFill>
                <a:latin typeface="Trebuchet MS"/>
              </a:rPr>
              <a:t>547</a:t>
            </a:r>
            <a:r>
              <a:rPr b="0" lang="el-GR" sz="1600" spc="-1" strike="noStrike">
                <a:solidFill>
                  <a:srgbClr val="004600"/>
                </a:solidFill>
                <a:latin typeface="Trebuchet MS"/>
              </a:rPr>
              <a:t> συμμετέχοντα σχολεία</a:t>
            </a:r>
            <a:endParaRPr b="0" lang="en-US" sz="1600" spc="-1" strike="noStrike">
              <a:solidFill>
                <a:srgbClr val="004600"/>
              </a:solidFill>
              <a:latin typeface="Trebuchet MS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600"/>
              </a:solidFill>
              <a:latin typeface="Trebuchet MS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4600"/>
                </a:solidFill>
                <a:latin typeface="Trebuchet MS"/>
              </a:rPr>
              <a:t>Συνολικ</a:t>
            </a:r>
            <a:r>
              <a:rPr b="1" lang="el-GR" sz="1600" spc="-1" strike="noStrike">
                <a:solidFill>
                  <a:srgbClr val="004600"/>
                </a:solidFill>
                <a:latin typeface="Trebuchet MS"/>
              </a:rPr>
              <a:t>ά:</a:t>
            </a:r>
            <a:endParaRPr b="0" lang="en-US" sz="1600" spc="-1" strike="noStrike">
              <a:solidFill>
                <a:srgbClr val="0046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7e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4600"/>
                </a:solidFill>
                <a:latin typeface="Trebuchet MS"/>
              </a:rPr>
              <a:t>3.</a:t>
            </a:r>
            <a:r>
              <a:rPr b="1" lang="en-US" sz="1600" spc="-1" strike="noStrike">
                <a:solidFill>
                  <a:srgbClr val="004600"/>
                </a:solidFill>
                <a:latin typeface="Trebuchet MS"/>
              </a:rPr>
              <a:t>985</a:t>
            </a:r>
            <a:r>
              <a:rPr b="0" lang="el-GR" sz="1600" spc="-1" strike="noStrike">
                <a:solidFill>
                  <a:srgbClr val="004600"/>
                </a:solidFill>
                <a:latin typeface="Trebuchet MS"/>
              </a:rPr>
              <a:t> εγγεγραμμένοι εκπαιδευτικοί</a:t>
            </a:r>
            <a:endParaRPr b="0" lang="en-US" sz="1600" spc="-1" strike="noStrike">
              <a:solidFill>
                <a:srgbClr val="0046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7e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600"/>
                </a:solidFill>
                <a:latin typeface="Trebuchet MS"/>
              </a:rPr>
              <a:t>2.189 </a:t>
            </a:r>
            <a:r>
              <a:rPr b="0" lang="el-GR" sz="1600" spc="-1" strike="noStrike">
                <a:solidFill>
                  <a:srgbClr val="004600"/>
                </a:solidFill>
                <a:latin typeface="Trebuchet MS"/>
              </a:rPr>
              <a:t>διαφορετικά σχολεία</a:t>
            </a:r>
            <a:endParaRPr b="0" lang="en-US" sz="1600" spc="-1" strike="noStrike">
              <a:solidFill>
                <a:srgbClr val="004600"/>
              </a:solidFill>
              <a:latin typeface="Trebuchet MS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6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7e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4600"/>
                </a:solidFill>
                <a:latin typeface="Trebuchet MS"/>
              </a:rPr>
              <a:t>Στατιστικά επισκεψ</a:t>
            </a:r>
            <a:r>
              <a:rPr b="0" lang="el-GR" sz="1800" spc="-1" strike="noStrike">
                <a:solidFill>
                  <a:srgbClr val="004600"/>
                </a:solidFill>
                <a:latin typeface="Trebuchet MS"/>
              </a:rPr>
              <a:t>ι</a:t>
            </a:r>
            <a:r>
              <a:rPr b="0" lang="el-GR" sz="1800" spc="-1" strike="noStrike">
                <a:solidFill>
                  <a:srgbClr val="004600"/>
                </a:solidFill>
                <a:latin typeface="Trebuchet MS"/>
              </a:rPr>
              <a:t>μότητας (ανά μήνα)</a:t>
            </a:r>
            <a:endParaRPr b="0" lang="en-US" sz="1800" spc="-1" strike="noStrike">
              <a:solidFill>
                <a:srgbClr val="0046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7e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4600"/>
                </a:solidFill>
                <a:latin typeface="Trebuchet MS"/>
              </a:rPr>
              <a:t>μέσος όρος επισκέψεων: </a:t>
            </a:r>
            <a:r>
              <a:rPr b="1" lang="en-US" sz="1600" spc="-1" strike="noStrike">
                <a:solidFill>
                  <a:srgbClr val="004600"/>
                </a:solidFill>
                <a:latin typeface="Trebuchet MS"/>
              </a:rPr>
              <a:t>5</a:t>
            </a:r>
            <a:r>
              <a:rPr b="1" lang="el-GR" sz="1600" spc="-1" strike="noStrike">
                <a:solidFill>
                  <a:srgbClr val="004600"/>
                </a:solidFill>
                <a:latin typeface="Trebuchet MS"/>
              </a:rPr>
              <a:t>.</a:t>
            </a:r>
            <a:r>
              <a:rPr b="1" lang="en-US" sz="1600" spc="-1" strike="noStrike">
                <a:solidFill>
                  <a:srgbClr val="004600"/>
                </a:solidFill>
                <a:latin typeface="Trebuchet MS"/>
              </a:rPr>
              <a:t>087</a:t>
            </a:r>
            <a:endParaRPr b="0" lang="en-US" sz="1600" spc="-1" strike="noStrike">
              <a:solidFill>
                <a:srgbClr val="004600"/>
              </a:solidFill>
              <a:latin typeface="Trebuchet MS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6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7e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4600"/>
                </a:solidFill>
                <a:latin typeface="Trebuchet MS"/>
              </a:rPr>
              <a:t>Ανάπτυξη – υποστήριξη:</a:t>
            </a:r>
            <a:endParaRPr b="0" lang="en-US" sz="1800" spc="-1" strike="noStrike">
              <a:solidFill>
                <a:srgbClr val="0046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7e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4600"/>
                </a:solidFill>
                <a:latin typeface="Trebuchet MS"/>
              </a:rPr>
              <a:t>Ομάδα Ασύγχρονης Τηλεκπαίδευσης του </a:t>
            </a:r>
            <a:r>
              <a:rPr b="1" lang="el-GR" sz="1600" spc="-1" strike="noStrike">
                <a:solidFill>
                  <a:srgbClr val="004600"/>
                </a:solidFill>
                <a:latin typeface="Trebuchet MS"/>
              </a:rPr>
              <a:t>Πανεπιστήμιου Αθηνών</a:t>
            </a:r>
            <a:r>
              <a:rPr b="0" lang="el-GR" sz="1800" spc="-1" strike="noStrike">
                <a:solidFill>
                  <a:srgbClr val="0046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4600"/>
              </a:solidFill>
              <a:latin typeface="Trebuchet MS"/>
            </a:endParaRPr>
          </a:p>
        </p:txBody>
      </p:sp>
      <p:sp>
        <p:nvSpPr>
          <p:cNvPr id="92" name="">
            <a:hlinkClick r:id="rId2"/>
          </p:cNvPr>
          <p:cNvSpPr/>
          <p:nvPr/>
        </p:nvSpPr>
        <p:spPr>
          <a:xfrm>
            <a:off x="7596360" y="5877000"/>
            <a:ext cx="504720" cy="287280"/>
          </a:xfrm>
          <a:prstGeom prst="rightArrow">
            <a:avLst>
              <a:gd name="adj1" fmla="val 50000"/>
              <a:gd name="adj2" fmla="val 43922"/>
            </a:avLst>
          </a:prstGeom>
          <a:solidFill>
            <a:srgbClr val="99cc00">
              <a:alpha val="20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25A0C-B1B2-4E51-9FE4-1B5E224606E2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9:07:21Z</dcterms:created>
  <dc:creator>Ράπτης Τηλέμαχος - Τσιμπάνης Κωνσταντίνος</dc:creator>
  <dc:description/>
  <dc:language>en-US</dc:language>
  <cp:lastModifiedBy>Michael Paraskevas</cp:lastModifiedBy>
  <dcterms:modified xsi:type="dcterms:W3CDTF">2008-03-28T21:30:48Z</dcterms:modified>
  <cp:revision>84</cp:revision>
  <dc:subject/>
  <dc:title>Ηλεκτρονική Διαχείριση Τάξης</dc:title>
</cp:coreProperties>
</file>