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199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76360" y="3723120"/>
            <a:ext cx="7199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636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64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10680" y="105228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45000" y="105228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76360" y="372312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10680" y="372312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45000" y="372312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360" y="-360"/>
            <a:ext cx="74167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7636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64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76360" y="3723120"/>
            <a:ext cx="7199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199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6360" y="3723120"/>
            <a:ext cx="7199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7636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64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10680" y="105228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45000" y="105228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6360" y="372312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10680" y="372312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45000" y="3723120"/>
            <a:ext cx="2318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76360" y="-360"/>
            <a:ext cx="74167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636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640" y="372312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640" y="1052280"/>
            <a:ext cx="3513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76360" y="3723120"/>
            <a:ext cx="7199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00" y="76500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50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28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5734080"/>
            <a:ext cx="674640" cy="8636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8820000" y="4946760"/>
            <a:ext cx="211320" cy="121896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8465400" y="5424840"/>
            <a:ext cx="86184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σελίδα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fld id="{7EF0D662-8E14-4C40-A1CE-526BA377AEF2}" type="slidenum">
              <a:rPr b="1" lang="en-US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ktplogos" descr=""/>
          <p:cNvPicPr/>
          <p:nvPr/>
        </p:nvPicPr>
        <p:blipFill>
          <a:blip r:embed="rId4"/>
          <a:srcRect l="0" t="0" r="50002" b="46448"/>
          <a:stretch/>
        </p:blipFill>
        <p:spPr>
          <a:xfrm>
            <a:off x="6300720" y="6323040"/>
            <a:ext cx="863640" cy="490680"/>
          </a:xfrm>
          <a:prstGeom prst="rect">
            <a:avLst/>
          </a:prstGeom>
          <a:ln w="0">
            <a:noFill/>
          </a:ln>
        </p:spPr>
      </p:pic>
      <p:pic>
        <p:nvPicPr>
          <p:cNvPr id="9" name="ktplogos" descr=""/>
          <p:cNvPicPr/>
          <p:nvPr/>
        </p:nvPicPr>
        <p:blipFill>
          <a:blip r:embed="rId5"/>
          <a:srcRect l="0" t="58399" r="0" b="3368"/>
          <a:stretch/>
        </p:blipFill>
        <p:spPr>
          <a:xfrm>
            <a:off x="7164360" y="6443640"/>
            <a:ext cx="197964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20" y="42840"/>
            <a:ext cx="620640" cy="79380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pic>
        <p:nvPicPr>
          <p:cNvPr id="49" name="ktplogos" descr=""/>
          <p:cNvPicPr/>
          <p:nvPr/>
        </p:nvPicPr>
        <p:blipFill>
          <a:blip r:embed="rId3"/>
          <a:stretch/>
        </p:blipFill>
        <p:spPr>
          <a:xfrm>
            <a:off x="0" y="5445000"/>
            <a:ext cx="2484360" cy="141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099280" y="0"/>
            <a:ext cx="1044720" cy="569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3399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odle.org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.gr/e-learning" TargetMode="External"/><Relationship Id="rId2" Type="http://schemas.openxmlformats.org/officeDocument/2006/relationships/hyperlink" Target="http://www.sch.gr/e-learning" TargetMode="External"/><Relationship Id="rId3" Type="http://schemas.openxmlformats.org/officeDocument/2006/relationships/hyperlink" Target="http://www.sch.gr/lms" TargetMode="External"/><Relationship Id="rId4" Type="http://schemas.openxmlformats.org/officeDocument/2006/relationships/hyperlink" Target="http://www.sch.gr/vod" TargetMode="External"/><Relationship Id="rId5" Type="http://schemas.openxmlformats.org/officeDocument/2006/relationships/hyperlink" Target="http://students.sch.gr/" TargetMode="External"/><Relationship Id="rId6" Type="http://schemas.openxmlformats.org/officeDocument/2006/relationships/hyperlink" Target="http://e-emphasis.sch.gr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9080" y="314316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705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υκολία χρήσης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 -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ροσωποποίηση περιβάλλοντο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ολλαπλοί ρόλοι χρηστών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: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ιαχειριστές,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ημιουργοί μαθημάτων – εκπαιδευτές,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κπαιδευόμενοι, Επισκέπτε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ολλαπλές μορφές οργάνωσης </a:t>
            </a:r>
            <a:br>
              <a:rPr sz="1400"/>
            </a:b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μαθημάτων: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Θεματική, Ημερολογιακή,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Κοινων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Υποστήριξη διαφορετικών μορφών </a:t>
            </a:r>
            <a:br>
              <a:rPr sz="1400"/>
            </a:b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εριεχομένου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: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Κείμενα, πολυμέσα,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αραπομπέ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ιστοποίηση χρηστών με 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LDAP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 Π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ολλαπλά εργαλεία επικοινων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Αξιολόγηση εκπαιδευομένων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: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Υποβολή εργασιών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, Online quiz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ύχρηστος οδηγός δημιουργίας και διαχείρισης μαθημάτω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αρακολούθηση δραστηριότητας εκπαιδευομένων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: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ρχεία καταγραφής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Ημερολόγιο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Καταγραφή βαθμολογ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Αυτοματοποιημένη καταγραφή αποριώ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παναχρησιμοποίηση περιεχομένου μαθημάτων (πρότυπο 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SCO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Λογισμικό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Trebuchet MS"/>
                <a:hlinkClick r:id="rId1"/>
              </a:rPr>
              <a:t>www.moodl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1546200"/>
            <a:ext cx="3527280" cy="435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rebuchet MS"/>
              </a:rPr>
              <a:t>e-learning</a:t>
            </a:r>
            <a:r>
              <a:rPr b="1" lang="el-GR" sz="2800" spc="-1" strike="noStrike">
                <a:solidFill>
                  <a:srgbClr val="ff6600"/>
                </a:solidFill>
                <a:latin typeface="Trebuchet MS"/>
              </a:rPr>
              <a:t>.</a:t>
            </a:r>
            <a:r>
              <a:rPr b="1" lang="en-US" sz="2400" spc="-1" strike="noStrike">
                <a:solidFill>
                  <a:srgbClr val="3399ff"/>
                </a:solidFill>
                <a:latin typeface="Trebuchet MS"/>
              </a:rPr>
              <a:t>sch.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45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Ασύγχρονη Τηλεκπαίδευ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2362" t="14172" r="3750" b="9070"/>
          <a:stretch/>
        </p:blipFill>
        <p:spPr>
          <a:xfrm>
            <a:off x="5508720" y="2101680"/>
            <a:ext cx="3527280" cy="2406960"/>
          </a:xfrm>
          <a:prstGeom prst="rect">
            <a:avLst/>
          </a:prstGeom>
          <a:ln w="3240">
            <a:solidFill>
              <a:srgbClr val="a3b2c1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66"/>
                </a:solidFill>
                <a:latin typeface="Trebuchet MS"/>
              </a:rPr>
              <a:t>Στατιστικά Χρήσης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197000"/>
            <a:ext cx="67690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Trebuchet MS"/>
              </a:rPr>
              <a:t>Γενικ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Αριθμός μαθημάτων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Trebuchet MS"/>
              </a:rPr>
              <a:t>Εκπαιδευτικοί που χρησιμοποίησαν την υπηρεσία </a:t>
            </a:r>
            <a:r>
              <a:rPr b="1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el-GR" sz="1400" spc="-1" strike="noStrike">
                <a:solidFill>
                  <a:srgbClr val="003366"/>
                </a:solidFill>
                <a:latin typeface="Trebuchet MS"/>
              </a:rPr>
              <a:t>5.</a:t>
            </a:r>
            <a:r>
              <a:rPr b="1" lang="en-US" sz="1400" spc="-1" strike="noStrike">
                <a:solidFill>
                  <a:srgbClr val="003366"/>
                </a:solidFill>
                <a:latin typeface="Trebuchet MS"/>
              </a:rPr>
              <a:t>6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Δημιουργοί μαθημάτων – εκπαιδευτές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Trebuchet MS"/>
              </a:rPr>
              <a:t>Εκπαιδευτικοί που εγγράφηκαν σε κάποιο μάθημα</a:t>
            </a:r>
            <a:r>
              <a:rPr b="1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Trebuchet MS"/>
              </a:rPr>
              <a:t>3.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Trebuchet MS"/>
              </a:rPr>
              <a:t>Αξιολόγ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λήθος 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quiz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λήθος μαθημάτων με 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quiz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2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λήθος χρηστών που επιχείρησαν επίλυση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λήθος προσπαθειών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4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Trebuchet MS"/>
              </a:rPr>
              <a:t>Ομάδες συζήτη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λήθος ομάδων συζητήσεων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λήθος συζητήσεων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Trebuchet MS"/>
              </a:rPr>
              <a:t>Ανάπτυξη – υποστήριξ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3366"/>
                </a:solidFill>
                <a:latin typeface="Trebuchet MS"/>
              </a:rPr>
              <a:t>Πανεπιστήμιο Μακεδονίας</a:t>
            </a: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 Τμήμα Εφαρμοσμένης Πληροφορ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Προστιθέμενη αξία από ΠΣΔ στη βασική διανομή του </a:t>
            </a:r>
            <a:r>
              <a:rPr b="0" lang="en-US" sz="1400" spc="-1" strike="noStrike">
                <a:solidFill>
                  <a:srgbClr val="003366"/>
                </a:solidFill>
                <a:latin typeface="Trebuchet MS"/>
              </a:rPr>
              <a:t>moo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5080" y="595008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a3b2c1">
              <a:alpha val="20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272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Σύγχρονη Τηλεκπαίδευ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1052280"/>
            <a:ext cx="72723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88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Λειτουργικά Χαρακτηριστικά</a:t>
            </a: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«Εικονικής Αίθουσας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Αμφίδρομη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οπτικοακουστική επικοινωνία με υποστήριξη πολλαπλών πρωτοκόλλων (ευρυζωνικές αλλά και χαμηλής ταχύτητας συνδέσει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Διαμοιρασμός εφαρμογών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, χρήση ασπροπίνακα, ταυτόχρονη πλοήγηση συμμετεχόντων στο Διαδίκτυ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ροχωρημένες δυνατότητες ελέγχου της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αλληλεπίδρασης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εκπαιδευτή και εκπαιδευόμενω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Χρήση για τηλεδιασκέψεις ΥΠΕΠΘ – σχολείων και άλλων φορέω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Χρήση από εκπαιδευτικούς για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πιμόρφωση σε συνδυασμό με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άλλες υπηρεσίες ΠΣ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υνέργια με αίθουσες τηλε-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κπαίδευσης στην περιφέρει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88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Υποστήριξ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12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ΑΙΤΥ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- Τομέας Δικτυακών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Τεχνολογι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544920" cy="2438640"/>
          </a:xfrm>
          <a:prstGeom prst="rect">
            <a:avLst/>
          </a:prstGeom>
          <a:ln w="3240">
            <a:solidFill>
              <a:srgbClr val="99cc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5148360" y="3263760"/>
            <a:ext cx="3527280" cy="4352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www.sch.gr/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rebuchet MS"/>
              </a:rPr>
              <a:t>Βίντεο κατ’ Απαίτηση - Ζωντανές Μεταδόσει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117080"/>
            <a:ext cx="7416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Δυνατότητε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Ψηφιοποίηση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βίντεο &amp; ήχου και κωδικοποίηση για τη μετάδοση μέσω δικτύο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Διάθεση πολυμεσικού υλικού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για κάθε τύπο σύνδεσης (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ISDN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DSL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, κλπ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Ταξινόμηση υλικού ανά κατηγορί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εριβάλλον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αναζήτησης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βίντε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Ζωντανές αναμεταδόσει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Προέλευση υλικο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κπαιδευτική Ραδιοτηλεόραση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ραστηριότητες σχολείω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κδηλώσεις που αφορούν την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κπαίδευση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πό εκπαιδευτικού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Ανάπτυξη – υποστήριξ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Πανεπιστήμιο Κρήτης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Κέντρο Διαχείρισης Δικτύο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2421000"/>
            <a:ext cx="3240360" cy="48384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rebuchet MS"/>
              </a:rPr>
              <a:t>vod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</a:rPr>
              <a:t>.</a:t>
            </a:r>
            <a:r>
              <a:rPr b="1" lang="en-US" sz="2400" spc="-1" strike="noStrike">
                <a:solidFill>
                  <a:srgbClr val="ff5050"/>
                </a:solidFill>
                <a:latin typeface="Trebuchet MS"/>
              </a:rPr>
              <a:t>sch.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033" t="14266" r="28225" b="6991"/>
          <a:stretch/>
        </p:blipFill>
        <p:spPr>
          <a:xfrm>
            <a:off x="5364000" y="3068640"/>
            <a:ext cx="3240360" cy="24717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56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Δικτυακή Πύλη για Εκπαιδευτικό ΕΛ/ΛΑ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64000" y="2427120"/>
            <a:ext cx="3600720" cy="2081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4720" y="1341360"/>
            <a:ext cx="3887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56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Στόχο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νημέρωση της εκπαιδευτικής κοινότητας για το ΕΛ/ΛΑΚ στην εκπαίδευση και τη δυνατότητα αξιοποίησής το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αρουσίαση ανάλογων δράσεων σε διεθνές επίπεδ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αροχή βήματος ανταλλαγής ιδεών και προτάσεων από τους ενδιαφερόμενους εκπαιδευτικού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56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Περιεχόμεν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Βιβλιοθήκη λογισμικού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Νέ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χετικοί σύνδεσμο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τατιστικά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νακοινώσεις εκδηλώσεω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100000"/>
              </a:lnSpc>
              <a:spcBef>
                <a:spcPts val="437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Newsletter - R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1706400"/>
            <a:ext cx="3600720" cy="489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rebuchet MS"/>
              </a:rPr>
              <a:t>opensoft</a:t>
            </a:r>
            <a:r>
              <a:rPr b="0" lang="en-US" sz="2200" spc="-1" strike="noStrike">
                <a:solidFill>
                  <a:srgbClr val="9999ff"/>
                </a:solidFill>
                <a:latin typeface="Trebuchet MS"/>
              </a:rPr>
              <a:t>.sch.g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5084640"/>
            <a:ext cx="40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rebuchet MS"/>
              </a:rPr>
              <a:t>Ανάπτυξη - υποστήριξ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Πανεπιστήμιο Μακεδονίας 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Τμήμα Εφαρμοσμένης Πληροφορ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66"/>
                </a:solidFill>
                <a:latin typeface="Trebuchet MS"/>
              </a:rPr>
              <a:t>Στατιστικά Χρήσης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1297080"/>
            <a:ext cx="6912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Επισκέπ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υνολικός αριθμός επισκεπτών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45.9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πισκέψεις σελίδων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485.287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πισκέψεις μέσω της δικτυακής πύλης ΠΣΔ 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21.6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γγεγραμμένοι εκπαιδευτικοί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1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66"/>
                </a:solidFill>
                <a:latin typeface="Trebuchet MS"/>
              </a:rPr>
              <a:t>Δημοφιλέστερες εφαρμογές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(αριθμός επισκέψεω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3D Planetarium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2.947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Schoolsplay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2.0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Electric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1.5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Elxis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1.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ePresence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1.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Atlantida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1.4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C.A.R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1.4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GCompris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1.3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Μαθητική Δικτυακή Πύλ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6360" y="1196640"/>
            <a:ext cx="3959280" cy="5111640"/>
          </a:xfrm>
          <a:prstGeom prst="rect">
            <a:avLst/>
          </a:prstGeom>
          <a:noFill/>
          <a:ln w="0">
            <a:noFill/>
          </a:ln>
        </p:spPr>
        <p:txBody>
          <a:bodyPr lIns="18000" rIns="54000" tIns="10800" bIns="10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Ενημέρωση και Ψυχαγωγία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Εκπαιδευτικό περιεχόμενο και εφαρμογές σε συνεργασία μ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υρωπαϊκή Υπηρεσία Διαστήματο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λληνικό Κέντρο Θαλάσσιων Ερευν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θνική Μετεωρολογική Υπηρεσί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θνικό Αστεροσκοπεί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Γεωγραφική Υπηρεσία Στρατού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Προσωποποιημένες υπηρεσίες ΠΣΔ σε μαθητές της Γ’ Γυμνασίο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Ηλεκτρονικό ταχυδρομείο μαθητ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Ηλεκτρονικές κάρτε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Ιστολόγι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Προσβάσιμη από ΑΜΕΑ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Ανάπτυξη - υποστήριξ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85760" indent="-64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ΑΙΤΥ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– Τομέας Δικτυακών Τεχνολογι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59" t="12240" r="6262" b="4968"/>
          <a:stretch/>
        </p:blipFill>
        <p:spPr>
          <a:xfrm>
            <a:off x="5580000" y="1792440"/>
            <a:ext cx="3167280" cy="2212920"/>
          </a:xfrm>
          <a:prstGeom prst="rect">
            <a:avLst/>
          </a:prstGeom>
          <a:ln w="3240">
            <a:solidFill>
              <a:srgbClr val="ff66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580000" y="1125360"/>
            <a:ext cx="3168720" cy="48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rebuchet MS"/>
              </a:rPr>
              <a:t>students</a:t>
            </a:r>
            <a:r>
              <a:rPr b="1" lang="el-GR" sz="3200" spc="-1" strike="noStrike">
                <a:solidFill>
                  <a:srgbClr val="ff6600"/>
                </a:solidFill>
                <a:latin typeface="Trebuchet MS"/>
              </a:rPr>
              <a:t>.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sch.</a:t>
            </a:r>
            <a:r>
              <a:rPr b="1" lang="en-US" sz="1800" spc="-1" strike="noStrike">
                <a:solidFill>
                  <a:srgbClr val="3399ff"/>
                </a:solidFill>
                <a:latin typeface="Trebuchet MS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168720" cy="2098800"/>
          </a:xfrm>
          <a:prstGeom prst="rect">
            <a:avLst/>
          </a:prstGeom>
          <a:ln w="3240">
            <a:solidFill>
              <a:srgbClr val="99cc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76360" y="1195200"/>
            <a:ext cx="7199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Λειτουργικά χαρακτηριστικά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Λογαριασμός της μορφής : 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user@sch.g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Τύποι λογαριασμών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«Εκπαιδευτικός»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. Επικοινωνία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μόνο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με χρήστες του ΠΣ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«Πλήρης»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: Δίνεται μετά από έγκριση του κηδεμόνα και επιτρέπει επικοινωνία και με χρήστες άλλων δικτύω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σφαλής χρήση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φαρμογή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φίλτρων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για απόρριψη μηνυμάτων από δίκτυα που δεν πιστοποιούν την ταυτότητα των χρηστών του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ιατήρηση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ιστορικού μηνυμάτων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για έλεγχο από τον κηδεμόν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Γνωστοποίηση στοιχείων λογαριασμού σε κηδεμόν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ροστασία από ιούς και απρόκλητη αλληλογραφία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ποκεντρωμένη και απλοποιημένη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διαδικασία εγγραφής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και διαχείρισης χρηστ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Ανάπτυξη – υποστήριξη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ΑΙΤΥ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– Τομέας Δικτυακών Τεχνολογι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rebuchet MS"/>
              </a:rPr>
              <a:t>Ηλεκτρονικό Ταχυδρομείο Μαθητώ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Μηνιαία ηλεκτρονική έκδοση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του ΠΣΔ/ΥΠΕΠΘ με σκοπό την ενημέρωση της εκπαιδευτικής κοινότητας σχετικά μ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ξιόλογες δραστηριότητες σχολείων και εκπαιδευτικ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ιακρίσεις μαθητ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ραστηριότητες Υπ.Ε.Π.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ραστηριότητες Π.Σ.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Κυκλοφορία νέου τεύχους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: Σεπ.20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Αποδέκτε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13.910 σχολεί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2.683 διοικητικές μονάδε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65.091 εκπαιδευτικοί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Περιεχόμενο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Κείμενα – φωτογραφίε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ολυμεσικό υλικό (μουσική, βίντεο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Στατιστικά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(Φεβ.2008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9.398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διαφορετικοί επισκέπτε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61.042 σελίδες που προβλήθηκα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Ανάπτυξη – υποστήριξη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ΑΙΤΥ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– Τομέας Δικτυακών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Τεχνολογι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Ηλεκτρονικό Περιοδικ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92880" y="3618000"/>
            <a:ext cx="3255840" cy="23320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508720" y="2922480"/>
            <a:ext cx="3240000" cy="48996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rebuchet MS"/>
              </a:rPr>
              <a:t>e-emphasis</a:t>
            </a:r>
            <a:r>
              <a:rPr b="0" lang="en-US" sz="2200" spc="-1" strike="noStrike">
                <a:solidFill>
                  <a:srgbClr val="9999ff"/>
                </a:solidFill>
                <a:latin typeface="Trebuchet MS"/>
              </a:rPr>
              <a:t>.sch.g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9080" y="314316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900000" cy="1151280"/>
          </a:xfrm>
          <a:prstGeom prst="rect">
            <a:avLst/>
          </a:prstGeom>
          <a:ln w="3240">
            <a:solidFill>
              <a:srgbClr val="c0c0c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900000" y="3716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66"/>
                </a:solidFill>
                <a:latin typeface="Trebuchet MS"/>
              </a:rPr>
              <a:t>Δρ. Μιχάλης Παρασκευά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66"/>
                </a:solidFill>
                <a:latin typeface="Trebuchet MS"/>
              </a:rPr>
              <a:t>Αναπλ. Δ/ντης Τομέα Δικτυακών Τεχνολογιώ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66"/>
                </a:solidFill>
                <a:latin typeface="Trebuchet MS"/>
              </a:rPr>
              <a:t>Τεχνικός υπεύθυνος ΠΣ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Trebuchet MS"/>
              </a:rPr>
              <a:t>mparask @ cti.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492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«Υπηρεσίες Ψηφιακής Μάθησης στο Πανελλήνιο Σχολικό Δίκτυ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9080" y="1628640"/>
            <a:ext cx="35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rebuchet MS"/>
              </a:rPr>
              <a:t>Ερευνητικό Ακαδημαϊκό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rebuchet MS"/>
              </a:rPr>
              <a:t>Ινστιτούτο Τεχνολογίας Υπολογιστώ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517212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33"/>
                </a:solidFill>
                <a:latin typeface="Trebuchet MS"/>
              </a:rPr>
              <a:t>4</a:t>
            </a:r>
            <a:r>
              <a:rPr b="1" lang="el-GR" sz="1300" spc="-1" strike="noStrike" baseline="30000">
                <a:solidFill>
                  <a:srgbClr val="990033"/>
                </a:solidFill>
                <a:latin typeface="Trebuchet MS"/>
              </a:rPr>
              <a:t>ο</a:t>
            </a:r>
            <a:r>
              <a:rPr b="1" lang="el-GR" sz="1300" spc="-1" strike="noStrike">
                <a:solidFill>
                  <a:srgbClr val="990033"/>
                </a:solidFill>
                <a:latin typeface="Trebuchet MS"/>
              </a:rPr>
              <a:t> Πανελλήνιο Συνέδριο «Διδακτική της Πληροφορικής»</a:t>
            </a:r>
            <a:br>
              <a:rPr sz="1300"/>
            </a:br>
            <a:r>
              <a:rPr b="1" lang="el-GR" sz="1300" spc="-1" strike="noStrike">
                <a:solidFill>
                  <a:srgbClr val="990033"/>
                </a:solidFill>
                <a:latin typeface="Trebuchet MS"/>
              </a:rPr>
              <a:t>Πάτρα, 28-30 Μαρτίου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44280"/>
            <a:ext cx="7201080" cy="649440"/>
          </a:xfrm>
          <a:prstGeom prst="rect">
            <a:avLst/>
          </a:prstGeom>
          <a:noFill/>
          <a:ln w="0">
            <a:noFill/>
          </a:ln>
        </p:spPr>
        <p:txBody>
          <a:bodyPr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rebuchet MS"/>
              </a:rPr>
              <a:t>Πανελλήνιο Σχολικό Δίκτυ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705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Πυλώνας στρατηγικού σχεδίου ΥπΕΠΘ για την αξιοποίηση των ΤΠΕ στην Εκπαίδευσ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Το μεγαλύτερο σε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δημόσιο δίκτυο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σε έκταση και πλήθος χρηστών στη χώρα. Διασυνδέε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14.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337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χολεί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7.500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σχολικά τοπικά δίκτυα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2.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806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διοικητικές μονάδε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594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βιβλιοθήκες (</a:t>
            </a: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494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χολικές,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71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δημόσιες,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29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δημοτικές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60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Γενικά Αρχεία του Κράτου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Δίνει προσωποποιημένη πρόσβαση σε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7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170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εκπαιδευτικούς και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13.</a:t>
            </a: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958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μαθητές (νέα δράση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Κλειστό εκπαιδευτικό ενδοδίκτυο – Η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Ασφάλεια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μαθητών πρωταρχικός στόχο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Αναπτύσσει, παρέχει και υποστηρίζει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υπηρεσίες Διαδικτύου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, ειδικά σχεδιασμένες για την Εκπαίδευση και τη Διοίκηση της Εκπαίδευση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Συμβάλλει στην 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ψηφιακή σύγκλιση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της χώρας μα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Best Practice</a:t>
            </a: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σε εθνικό και διεθνές επίπεδο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70920"/>
            <a:ext cx="7119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rebuchet MS"/>
              </a:rPr>
              <a:t>Αρχιτεκτονική Δικτύο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1438200"/>
            <a:ext cx="460836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08720" y="1341000"/>
            <a:ext cx="3311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Δίκτυο Κορμού </a:t>
            </a:r>
            <a:br>
              <a:rPr sz="16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ΔΕΤ - Εθνικό Δίκτυο Έρευνας &amp; Τεχνολογία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υνέργια και συμπληρωματικότητ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λαχιστοποίηση κόστους λειτουργία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Δίκτυο Διανομή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51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ιδιόκτητοι κόμβο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rebuchet MS"/>
              </a:rPr>
              <a:t>Gigabit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διασυνδέσεις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με ΕΔΕΤ-2 σε </a:t>
            </a: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10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σημεία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θήνα, Θεσσαλονίκη, Πάτρα, Ηράκλειο, Λάρισα, Ιωάννινα, Ξάνθη, Σύρος, Χανιά, Σέρρε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43920"/>
            <a:ext cx="71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rebuchet MS"/>
              </a:rPr>
              <a:t>Κατηγορίες Χρηστώ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080" y="1172880"/>
            <a:ext cx="66326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Η </a:t>
            </a:r>
            <a:r>
              <a:rPr b="1" lang="el-GR" sz="1900" spc="-1" strike="noStrike">
                <a:solidFill>
                  <a:srgbClr val="000066"/>
                </a:solidFill>
                <a:latin typeface="Trebuchet MS"/>
              </a:rPr>
              <a:t>πιστοποίηση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 των χρηστών είναι μία </a:t>
            </a:r>
            <a:r>
              <a:rPr b="1" lang="el-GR" sz="1900" spc="-1" strike="noStrike">
                <a:solidFill>
                  <a:srgbClr val="000066"/>
                </a:solidFill>
                <a:latin typeface="Trebuchet MS"/>
              </a:rPr>
              <a:t>ιδιαίτερα ισχυρή απαίτηση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, λόγω του χαρακτήρα του Σχολικού Δικτύου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66"/>
                </a:solidFill>
                <a:latin typeface="Trebuchet MS"/>
              </a:rPr>
              <a:t>Κατηγορίες Χρηστών</a:t>
            </a: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Σχολικές Μονάδε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Διοικητικές Μονάδες</a:t>
            </a: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Εκπαιδευτικο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Μαθητέ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l-GR" sz="1900" spc="-1" strike="noStrike">
                <a:solidFill>
                  <a:srgbClr val="000066"/>
                </a:solidFill>
                <a:latin typeface="Trebuchet MS"/>
              </a:rPr>
              <a:t>Διοικητικό Προσωπικ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2646360"/>
            <a:ext cx="165744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44280"/>
            <a:ext cx="6478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Trebuchet MS"/>
              </a:rPr>
              <a:t>Παρεχόμενες Υπηρεσίε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1928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0066"/>
                </a:solidFill>
                <a:latin typeface="Trebuchet MS"/>
              </a:rPr>
              <a:t>Βασικές Υπηρεσίες</a:t>
            </a:r>
            <a:r>
              <a:rPr b="1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Σύνδεση στο δίκτυο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Ελεγχόμενη πρόσβαση στο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 web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Δικτυακή πύλη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Δικτυακή πύλη μαθητών, Αυτόματη εγγραφή εκπαιδευτικών και μαθητών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37120" indent="-53712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0066"/>
                </a:solidFill>
                <a:latin typeface="Trebuchet MS"/>
              </a:rPr>
              <a:t>Υπηρεσίες Επικοινωνίας</a:t>
            </a:r>
            <a:r>
              <a:rPr b="1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Ηλεκτρονικό ταχυδρομείο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με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εξελιγμένη προστασία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από ιούς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και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spam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Ηλεκτρονικές λίστες επικοινωνίας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Χώροι συζήτησης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Τηλεδιάσκεψη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37120" indent="-53712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0066"/>
                </a:solidFill>
                <a:latin typeface="Trebuchet MS"/>
              </a:rPr>
              <a:t>Φιλοξενία Ιστοσελίδων</a:t>
            </a:r>
            <a:r>
              <a:rPr b="1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για σχολεία και εκπαιδευτικούς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Οδηγοί αυτόματης δημιουργίας ιστοσελίδων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Δυναμικές ιστοσελίδες και βάση δεδομένων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Εκπαιδευτικά Ιστολόγια, Σχολικά ηλεκτρονικά περιοδικά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37120" indent="-53712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0066"/>
                </a:solidFill>
                <a:latin typeface="Trebuchet MS"/>
              </a:rPr>
              <a:t>Προηγμένες Υπηρεσίες</a:t>
            </a:r>
            <a:r>
              <a:rPr b="1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Βίντεο κατ’ απαίτηση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Ζωντανές μεταδόσεις εκδηλώσεων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Σύγχρονη και ασύγχρονη τηλεκπαίδευση, Ηλεκτρονική διαχείριση τάξης, Βάση εκπαιδευτικών λογισμικών ΕΛ/ΛΑΚ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37120" indent="-53712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0066"/>
                </a:solidFill>
                <a:latin typeface="Trebuchet MS"/>
              </a:rPr>
              <a:t>Συμπληρωματικές Υπηρεσίες</a:t>
            </a:r>
            <a:r>
              <a:rPr b="1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Ηλεκτρονικό περιοδικό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e-emphasis,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 Ηλεκτρονικές κάρτες,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Virtual drive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37120" indent="-53712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500" spc="-1" strike="noStrike">
                <a:solidFill>
                  <a:srgbClr val="000066"/>
                </a:solidFill>
                <a:latin typeface="Trebuchet MS"/>
              </a:rPr>
              <a:t>Κεντρικές Υπηρεσίες Υποδομής</a:t>
            </a:r>
            <a:r>
              <a:rPr b="1" lang="en-US" sz="15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Κατανεμημένο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helpdesk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Υπηρεσία καταλόγου (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LDAP),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Σύστημα 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GIS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 σχολείων, Υπηρεσία ονοματολογίας (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DNS), Online 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στατιστικά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,</a:t>
            </a:r>
            <a:r>
              <a:rPr b="0" lang="el-GR" sz="1500" spc="-1" strike="noStrike">
                <a:solidFill>
                  <a:srgbClr val="000066"/>
                </a:solidFill>
                <a:latin typeface="Trebuchet MS"/>
              </a:rPr>
              <a:t> Διεπαφές με εφαρμογές τρίτων φορέων, κλπ</a:t>
            </a:r>
            <a:r>
              <a:rPr b="0" lang="en-US" sz="15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9440" y="115560"/>
            <a:ext cx="72705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Υπηρεσίες Ηλεκτρονικής Μάθη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705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Ιστοσελίδες (στατικές και δυναμικέ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Εκπαιδευτικά ιστολόγια (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blogs.sch.g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Ασύγχρονη τηλεκπαίδευση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 (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rebuchet MS"/>
                <a:hlinkClick r:id="rId1"/>
              </a:rPr>
              <a:t>www.sch.gr/e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rebuchet MS"/>
                <a:hlinkClick r:id="rId2"/>
              </a:rPr>
              <a:t>-learning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)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Ηλεκτρονική διαχείριση τάξης (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eclass.sch.g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Σύγχρονη τηλεκπαίδευση 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&amp;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τηλεδιάσκεψη (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rebuchet MS"/>
                <a:hlinkClick r:id="rId3"/>
              </a:rPr>
              <a:t>www.sch.gr/lms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Βίντεο κατ’ απαίτηση 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rebuchet MS"/>
                <a:hlinkClick r:id="rId4"/>
              </a:rPr>
              <a:t>www.sch.gr/vod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Ζωντανές μεταδόσεις εκδηλώσεων &amp; μαθημάτων 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(www.sch.gr/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Βιβλιοθήκη εκπαιδευτικού ΕΛ/ΛΑΚ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opensoft.sch.gr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Δικτυακή πύλη μαθητών (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rebuchet MS"/>
                <a:hlinkClick r:id="rId5"/>
              </a:rPr>
              <a:t>students.sch.gr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E-mail 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εκπαιδευτικών &amp; μαθητών 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(www.sch.gr/mai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Ηλεκτρονικό περιοδικό 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e-emphasis (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rebuchet MS"/>
                <a:hlinkClick r:id="rId6"/>
              </a:rPr>
              <a:t>e-emphasis.sch.gr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Σχολικά περιοδικά (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www.sch.gr/periodika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Χώροι συζήτησης (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fora) (www.sch.gr/forum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Λίστες επικοινωνίας &amp; βήμα διαλόγου εκπαιδευτικών «Ερμής»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 (www.sch.gr/lis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rebuchet MS"/>
              </a:rPr>
              <a:t>Φιλοξενία Ιστοσελίδω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199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337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rebuchet MS"/>
              </a:rPr>
              <a:t>Διαθέσιμη για σχολεία και εκπαιδευτικού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337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rebuchet MS"/>
              </a:rPr>
              <a:t>Βασικά χαρακτηριστικά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Υλοποίηση με ΕΛ/ΛΑ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Χρήση Apache, PhP, mySQ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Εργαλεία αυτόματης κατασκευής </a:t>
            </a:r>
            <a:br>
              <a:rPr sz="1600"/>
            </a:b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ιστοσελίδω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lnSpc>
                <a:spcPct val="100000"/>
              </a:lnSpc>
              <a:spcBef>
                <a:spcPts val="26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3 τρόποι δημιουργίας ιστοσελίδω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lnSpc>
                <a:spcPct val="100000"/>
              </a:lnSpc>
              <a:spcBef>
                <a:spcPts val="26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Άμεση δημοσίευση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lnSpc>
                <a:spcPct val="100000"/>
              </a:lnSpc>
              <a:spcBef>
                <a:spcPts val="264"/>
              </a:spcBef>
              <a:buClr>
                <a:srgbClr val="003399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rebuchet MS"/>
              </a:rPr>
              <a:t>Αναλυτικές οδηγίε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Προβολή των ιστοσελίδων </a:t>
            </a:r>
            <a:br>
              <a:rPr sz="1600"/>
            </a:b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από το ευρετήριο και τον </a:t>
            </a:r>
            <a:br>
              <a:rPr sz="1600"/>
            </a:b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θεματικό κατάλογο του ΠΣΔ http://www.sch.g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337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rebuchet MS"/>
              </a:rPr>
              <a:t>Δυναμικές ιστοσελίδε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Χρήση Συστημάτων Διαχείρισης Περιεχομένου (Joomla, mambo, drupal κλπ)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Εύκολη διαχείριση περιεχομένο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Δεν απαιτούνται γνώσεις προγραμματισμού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337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3366"/>
                </a:solidFill>
                <a:latin typeface="Trebuchet MS"/>
              </a:rPr>
              <a:t>Ανάπτυξη – Υποστήριξ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10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3366"/>
                </a:solidFill>
                <a:latin typeface="Trebuchet MS"/>
              </a:rPr>
              <a:t>Πανεπιστήμιο Θεσσαλία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3029040" cy="26049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128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rebuchet MS"/>
              </a:rPr>
              <a:t>Εκπαιδευτικά Ιστολόγι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23920"/>
            <a:ext cx="719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Ένα ιστολόγιο μπορεί να χρησιμοποιηθεί ως:</a:t>
            </a:r>
            <a:r>
              <a:rPr b="0" lang="el-GR" sz="16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μέσο ανάρτησης οδηγιών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, 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ξηγήσεων, επιπλέον παραδειγμάτων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τόπος δημοσιότητας των εργασιών μίας σχολικής τάξη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μέσο προβληματισμού και διάλογο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πίνακας ανακοινώσεων του μαθήματός σα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υνεργατικό εργαλείο (ομαδοσυνεργατική – αθροιστική μάθηση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Γιατί να τα χρησιμοποιήσω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Εξαιρετικά απλός τρόπος απόκτηση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Δεν απαιτεί γνώσεις προγραμματισμού,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ούτε εγκατάσταση νέων στοιχείων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στο δικτυακό σας τόπο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Ασφαλής λειτουργία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66"/>
                </a:solidFill>
                <a:latin typeface="Trebuchet MS"/>
              </a:rPr>
              <a:t>Ανάπτυξη – υποστήριξ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176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Trebuchet MS"/>
              </a:rPr>
              <a:t>ΕΑΙΤΥ</a:t>
            </a: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 – Τομέας Δικτυακών </a:t>
            </a:r>
            <a:br>
              <a:rPr sz="1400"/>
            </a:br>
            <a:r>
              <a:rPr b="0" lang="el-GR" sz="1400" spc="-1" strike="noStrike">
                <a:solidFill>
                  <a:srgbClr val="000066"/>
                </a:solidFill>
                <a:latin typeface="Trebuchet MS"/>
              </a:rPr>
              <a:t>Τεχνολογιώ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267" t="14280" r="1689" b="6037"/>
          <a:stretch/>
        </p:blipFill>
        <p:spPr>
          <a:xfrm>
            <a:off x="5508720" y="3621240"/>
            <a:ext cx="3240000" cy="2255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08720" y="2997360"/>
            <a:ext cx="3240000" cy="489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rebuchet MS"/>
              </a:rPr>
              <a:t>blogs</a:t>
            </a:r>
            <a:r>
              <a:rPr b="0" lang="en-US" sz="2200" spc="-1" strike="noStrike">
                <a:solidFill>
                  <a:srgbClr val="9999ff"/>
                </a:solidFill>
                <a:latin typeface="Trebuchet MS"/>
              </a:rPr>
              <a:t>.sch.g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8:04:37Z</dcterms:created>
  <dc:creator>Michael Paraskevas</dc:creator>
  <dc:description/>
  <dc:language>en-US</dc:language>
  <cp:lastModifiedBy>Michael Paraskevas</cp:lastModifiedBy>
  <dcterms:modified xsi:type="dcterms:W3CDTF">2008-03-28T22:03:09Z</dcterms:modified>
  <cp:revision>411</cp:revision>
  <dc:subject/>
  <dc:title>Slide 1</dc:title>
</cp:coreProperties>
</file>